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76.xml" ContentType="application/vnd.openxmlformats-officedocument.presentationml.notesSlide+xml"/>
  <Override PartName="/ppt/notesSlides/_rels/notesSlide83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76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BC6C-C19C-4D80-A2E1-6B8B1B35C83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Not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he first step in a successful response to PEGASYS therapy is achieving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sustained immune control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n the case of HBeAg-positive disease this is HBeAg seroconversion. For HBeAg-negative disease this is suppression of HBV DNA to below 10,000 copies/mL (2,000 IU/mL)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atients who achieve sustained immune control have a high chance of going on to clear hepatitis B surface antigen (HBs), considered the closest outcome to cure in CHB, during long-term follow up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9E43-3BB2-44FC-BE9F-60DE60AABDE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Not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he first step in a successful response to PEGASYS therapy is achieving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sustained immune control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n the case of HBeAg-positive disease this is HBeAg seroconversion. For HBeAg-negative disease this is suppression of HBV DNA to below 10,000 copies/mL (2,000 IU/mL)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atients who achieve sustained immune control have a high chance of going on to clear hepatitis B surface antigen (HBs), considered the closest outcome to cure in CHB, during long-term follow up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2D2C-05AD-4F87-A910-A01E55C84A8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ED3C-68D5-4E18-A6BD-836BF5BF5BA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36D18D7-9AA2-4A57-B26D-D8E1A31B0E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BA3F0BE-7466-4D03-95F0-BD91C4F72E6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A9E2-1FFA-4B5B-BDB8-B49B43245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1269-3FF6-489F-B7C8-DF3387CE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A913-1A60-4243-91C2-42AA1F46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2610-EA9F-40F3-B936-E2C6A4298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7F81-B03D-480A-891A-B73AD838D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935B-94DD-4867-9028-FF9804D9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E4F7-AF96-42A6-9965-CF20DBDA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6113-AE92-4956-BDA5-2B783D73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79ED-E384-4FE4-9D7D-44115DE7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B60A-79B1-4D71-BE8A-0D22F1F2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112E-F81F-4D9E-AD57-34BF5BED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26CB-4639-4BF4-85C0-197ECA0B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42BA-EB67-41EC-9A32-C7A3F3C2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3988-A916-4EE3-8343-7DB40EDC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E813-F160-4254-9802-E82AE782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8763-5A6A-4625-B2B8-C39EABCDC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589B-1F65-492E-A20B-EBC10DB21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D9EEAC-4183-464B-9505-5380296F948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6B1AA3-A95D-48C9-8E12-351FE6C2388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C693A8-A81A-4096-9417-D7183767A3F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D331BB-C959-47E1-9B33-226D9E8C2FC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E13DB6-F1E9-4AB9-AA1A-AE456279CC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0907-CB3E-4673-B53D-4E4D5ED2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8F8EBD-0681-412B-B050-484EC6B3A1D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09C76E-F0BA-4891-9677-23106DE814B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A77E94-EF38-41AF-BF0E-144EFD6A35A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0DD321-1B5F-41A7-BA62-2C14E34FC06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E54413-28B2-4897-BE51-EE043F9ABF6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54B49E-4F58-493E-A95D-1EE09FC89C6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6AFF42-5F23-4562-96F5-66AAF7B3C9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55AE-68C3-4C2F-BCD7-9870CC50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306F-3447-4C42-869E-14C757EB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8BAD-26F8-4EA4-8721-46848CCA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4D94-725F-4800-963B-C44AC9B6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3D6D-8B72-4817-AA86-3D1D6926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BD86-0052-428C-A7AC-CD2306A5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0DEF-0E57-4F34-BC4E-2FCA430E69D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0142-4EBE-4EFF-9977-1D5BEF2A195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10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2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13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7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41E4-D2A0-4394-BAEF-7649C9688D6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1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АКУТНИ ВИРУСНИ ХЕПАТИТИС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00"/>
                </a:solidFill>
                <a:latin typeface="Times New Roman"/>
              </a:rPr>
              <a:t>Проф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. Др Жељко Мијаилови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066320" y="5331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утације у 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pre-core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реги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убитак секрециј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eAg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eAg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аријанта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V DNK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итиван,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eAg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егативан,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на боле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тације у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ги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ба рођена од мајке носиоц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постај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sAg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, упркос спроведеној вакцинаци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тације у гену за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лимераз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истенција на антивирусни терапију (ламивуди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Д 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ефектан 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Захтева помоћну функцију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B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за своју експресију, патогенезу и репликаци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ал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RNK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партикула, обмотана липопротеинским омотачем хепатитис Б вируса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BsAg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Језгро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D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антиген ковалентно везан 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Једноланчану, циркуларну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DV RN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интез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D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може да супримира или прекине репликацију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B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1 серотип, 3 генотип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скључиво хепатотропан 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Ц 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амилија: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Flavivirid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Језгро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CV RNK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core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протеи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Омотач (Е1 и Е2 гликопротеи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Геном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кодирајуће регије са оба краја (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`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,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`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гија-стабилни делови гено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лови који кодирају синтезу гликопротеина омотача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1, Е2/NS1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-хиперваријабилна ре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S2, NS3, NS4, NS5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кодирају синтезу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структурних протеина (имају улогу ензима-протеазе, хеликазе, полимеразе)→мање проме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066320" y="152280"/>
            <a:ext cx="75438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6 генотипова, око 90 подтипова и више стотина квазисој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Г 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Једноланчан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RN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амилија: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Flavivirid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извесно је дали ј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G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хепатотропни 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 изазива фулминантни хепатитис и хроничну болест 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G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, изгледа, није значајни патогени агенс за чове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ТТ 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Једноланчан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DNK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, без омотач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амилија: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Cirkovirid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еноси се трасфузијама крви (трансфусион-трансмиттед вирус-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TТ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исока учесталост носилаштв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TТ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у здравих особа-није значајан узрочник обољења 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ffff00"/>
                </a:solidFill>
                <a:latin typeface="Times New Roman"/>
              </a:rPr>
              <a:t>ЕПИДЕМИОЛОГИЈ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9140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кубација: 15-50 дана (3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звор инфекциј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болестан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 се излучује столицом у другој половини инкубације и прве две недеље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тежим облицима хепатитиса А→излучивање масивније и дуготрајније (мада је  оно доказано и у супклиничким формама болес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вор инфекције могу бити и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јмун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шимпанза, мармозет, афрички зелени мајмун) као и неке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кољк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остриг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утеви преноше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Фекално-орални пут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(једини пут ширења инфекциј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Директни контакт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-Болест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љавих руку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-Преношење лакше и чешће у деце, ментално-ретардираних особа као и особа са неразвијеним хигијенским навик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-Сиромаштво, лоши санитарно-хигијенски услови становања, ратови и елементарне непогоде олакшавају ширењ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AV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Контаминирана 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-Мешање воде за пиће са фекалиј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дричне епидемије (експлозивни карактер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нтаминирана хр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Алиментарне епидемије (студенске мензе, школске и војничке кухињ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Храна која се термички н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ђује или се припрема после термичке обраде (салате, сендвичи, воће, кремов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Такође експлозивног каракте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Неразвијене и земље у разво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 хиперендемич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Инфекција→у раном детињству, у другој деценији живота преко 90% популације има антиХА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езонска кривуља обољевања→врх у позну јесен, најниже вредности у лето (само код контактног начина преношењ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Развијене земљ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До инфекције долази касн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Прокуженост у другој и трећој деценији→10-4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990360" y="-15228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кубација: 15-60 дана (4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екално-орална 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порадично, епидемијски, ендемич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звор инфекциј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болесник са хепатитисом 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лучивање вируса столицом→крај инкубације и акутна фаза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еви преношењ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аминирана вода (главни пут преношењ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е хидричне епидемије за време великих киша у тропским и суптропским крајевима Азије и Афри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аминирана хр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ирење директним контактом је ретко (мала количина вируса у столиц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ћа вертикална трансмисија→нарочито ако се мајка зарази у трећем триместру трудноћ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066320" y="304920"/>
            <a:ext cx="75438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кубација: 30-160 дана (60-9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еваленц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BV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у нашој земљи 2-7%, у Африци и Далеком Истоку 10-15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исоко носилаштво у изолованим популацијам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45% код Ескима, 85% код Абориџина у Аустрали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Високо ендемични крајев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-90% становништва има серолошке маркере прележане или актуелн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V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% или више хронични носиоци вир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 се најчешће добија на рођењу или у раном детињств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ст развој хроницит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66320" y="159984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Акутна инфламација и некроза јетриног паренхима узрокован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 примарно хепатотропним вирусима (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HA</a:t>
            </a:r>
            <a:r>
              <a:rPr b="1" i="1" lang="sr-CS" sz="28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, H</a:t>
            </a:r>
            <a:r>
              <a:rPr b="1" i="1" lang="sr-CS" sz="28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V, H</a:t>
            </a:r>
            <a:r>
              <a:rPr b="1" i="1" lang="sr-CS" sz="28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V, H</a:t>
            </a:r>
            <a:r>
              <a:rPr b="1" i="1" lang="sr-CS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V, HEV, H</a:t>
            </a:r>
            <a:r>
              <a:rPr b="1" i="1" lang="sr-CS" sz="2800" spc="-1" strike="noStrike">
                <a:solidFill>
                  <a:srgbClr val="ffff00"/>
                </a:solidFill>
                <a:latin typeface="Times New Roman"/>
              </a:rPr>
              <a:t>G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, TT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Умерено ендемична подручј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еваленца 20-55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ронична инфекција у 2-7% случај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Застпљена у свим групама, разни путеви преноше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ајвећа учесталост међу адолесцентима и млађим одраслим особама (сексуални пу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Подручја са ниским нивоом ендемичност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еваленца мања од 2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ронична инфекција у мање од 2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ајчешћа код одраслих и у ризичним групама (хемофиличари, болесници на хемодијализи, интравенски наркомани, промискуитетне особе, здравствени радниц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звор 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Човек који болује од акутног или хроничног хепатитиса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ајзаразниј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када има маркере вирусне репликације у серуму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V DNK, HBV DNK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мераза,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eAg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ан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cIgM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пре-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антиген) и јетри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cAg, HBV DNK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кубација, продромални период, почетак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ктеричног периода, репликативна фаза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оничног хепатити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итис Б се јавља спорадично, ендемично и у виду мањих епидем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ма сезонских вариј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утеви преноше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рансмисија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путем изложености крв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или другим инфицираним течностим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травенска наркоманиј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емодијали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рансфузије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рв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рансплантације ткива и орга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етовирањ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купунктур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ируршке,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стоматолошк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, ендоскопске интервен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рансмисија контактом са инфицираном особом (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оризонтална трансмисиј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)-високо ендемични крајев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љуба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оришћење заједничког прибора за зубе, шишање, бриј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рансмисија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сексуалним контакт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рансмисија од мајке на дете на рођењу (перинатално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-вертикална трансмисиј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исоко ендемична подручј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у току порођаја (најчешћ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рани постнатални период (блиски контак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траутерино (путем умбиликалне вене)-ретк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ајка носилац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BeAg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зик за дете 70-9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оницитет се развија у 90% де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јка носилац анти-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e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ризик за дете 10-15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оницитет се развија у 40-7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ношењ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V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ем млека у току дојења није доказано (иако су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sAg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BV DNK o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кривени у мајчином млек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дицинско особље обољева 3-4 пута чешће од становништва опште попул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ерорални пут је могућ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његова ефикасност прилично слаб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066320" y="533520"/>
            <a:ext cx="7543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кубација: 4-7 недељ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У свету око 15.000.000 хроничних носилаца ХД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амо у особа с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B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инфекциј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Коинфекциј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истовремена појава акутног хепатитиса Б и акутног хепатитиса 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уперинфекциј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акутн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D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нфекција у хроничних носилац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ндемични крајев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Медитеран, Средњи Исток, делови Африке, басен Амазо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ста међу болесницима са хепатитисом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носи се блиским контактом са инфицираном особ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ично се ради о суперинфекци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Неендемични крајев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(САД, С. Европ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 присутна у ризичним групама (интравенски наркомани, хемофиличари, примаоци трансфузија крви, болесници на хемодијализ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ша земља не спада у ендемична подручија (ризичне груп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вор инфекције→болесник са акутном или хроничном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D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нфекциј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еви преношења→као код хепатитиса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66320" y="-360"/>
            <a:ext cx="7543800" cy="716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кубација: 5-12 недеља (7-8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звор инфекциј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човек са акутном или хроничном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C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нфекциј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онично вироноштво настаје у више од 80% болесника са акутном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C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нфекциј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% светске популације инфицирано овим вирус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.000.000 хроничних носилаца вируса у све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еви преношења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равенска наркоманиј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одијализ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нсфузије крви и деривата крв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суална трансмисија (2-5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ртикална трансмис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нсплантације органа и тки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вазивне дијагностичке и терапијске процеду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066320" y="304560"/>
            <a:ext cx="7543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Честа у интравенских наркомана, хемофиличара, хемодијализних болесника, болесника који су примили већи број трансфузија крви или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дерив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носи се парентералним пут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натална инфекција могућа→али рет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зистентна инфекција честа→али се не зна да ли доводи до хроничне инфекције 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таје да се види да ли ј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G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“невин посматрач” или озбиљан патогени агенс за чове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патитис ТТ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и значај још није утврђе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ffff00"/>
                </a:solidFill>
                <a:latin typeface="Times New Roman"/>
              </a:rPr>
              <a:t>ПАТОГЕНЕЗ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320" y="990360"/>
            <a:ext cx="7543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ер ос унос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псорпција из дигестивног трак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ркулациј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т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ије→оштећење јетре због директног цитопатогеног делова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ас→ћелијски имунски механизми одговорни за оштећење хепат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ве две недеље→појачана активност Т лимфоцита и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K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ћелија у периферној кр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сивнија продукција ендогеног интерферона него у хепатитису Б и Ц→могући разлог изостанка хроницит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ffff00"/>
                </a:solidFill>
                <a:latin typeface="Times New Roman"/>
              </a:rPr>
              <a:t>Е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ТИОЛОГИЈ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7543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ВИРУСИ КОЈИ СЕ ПРЕНОСИ ФЕКАЛНО-OРАЛНИМ ПУТЕМ (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HAV, HEV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ff"/>
                </a:solidFill>
                <a:latin typeface="Times New Roman"/>
              </a:rPr>
              <a:t>ЗАЈЕДНИЧКЕ КАРАКТЕРИСТИК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мају омота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Остају интактни када се подвргну дејству жуч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злучују се столиц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 дају хронично вироноштво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 изазивају хроничне болести 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066320" y="304920"/>
            <a:ext cx="75438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Још увек неразјашње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ајвероватније да вирус није цитопатоген, тј. у патогенези посредује имунски сист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елимично позн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Разлоз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Ограничено број врста које вирус може инфицира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могућност размножавања вируса у </a:t>
            </a:r>
            <a:r>
              <a:rPr b="1" i="1" lang="sr-Latn-RS" sz="2400" spc="-1" strike="noStrike">
                <a:solidFill>
                  <a:srgbClr val="ffffff"/>
                </a:solidFill>
                <a:latin typeface="Times New Roman"/>
              </a:rPr>
              <a:t>in vitro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условима (у култур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БВ није директно цитопатоген за инфицирани хепатоц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Оштећење хепатоцита у хепатитису Б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тат њиховог имунски посредованог оштећењ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066320" y="5331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мунски одговор на антигене вирус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елиминација вируса 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атогенеза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уморални имунски одгов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утрализација и уклањање циркулишућих вирусних партику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уларни имунски одгов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лиминација инфицираних ћел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патогенези хепатитиса Б кључну улогу има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уларни имунски одгов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Целуларни имунски одгов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итотоксични Т лимфоцит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главна улога у искорењивању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V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познају вирусне пептиде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eAg, HBcAg)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ентоване путем молекула клас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H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ци са самоограничавајућим акутним хепатитисом Б→снажан, поликлонски на класу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HLA усмерен CTL одговор на мноштво епитопа oмoтача, нуклеoкапсида и пoлимерa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Болесници са самоограничавајући акутним хепатитисом 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снажан поликлонски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</a:t>
            </a:r>
            <a:r>
              <a:rPr b="1" lang="sr-Latn-C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, T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лпер ћелијски одговор на епитопе нуклеокапсида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cAg, HBeA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Хуморални имунски одгов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утралишућа антитела (анти-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Bs)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мерена на епитопе омотача вируса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sA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говорна и за настанак екстрахепатичких манифест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ронична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BV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слаб, субоптималан одговор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TL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Т хелпер лимфоцита на циљне антигена презентоване од стране молекула клас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I H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066320" y="228240"/>
            <a:ext cx="7543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елује највероватније директно цитопатогенп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довољно познати патогенетски механиз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анас преовладава мишљење да ХЦВ изазива оштећење хепатоцита посредством имунског систе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а то указује хистолош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запаљенском инфилтрату доминирају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TL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лизирају инфициране хепатоцит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тоанатомс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тно- или крупнокапљичаста масна промена хепат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ноженост жучних каналић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ни агрегати у портним простор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066320" y="5331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довољно информација о патогенези и патоанатомским променам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ffff00"/>
                </a:solidFill>
                <a:latin typeface="Times New Roman"/>
              </a:rPr>
              <a:t>КЛИНИЧКА СЛ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ви акутни вирусни хепатитиси могу имати сличну клиничку слику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епатитис А је обично лакша болест од хепатитиса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У једне трећине инфицираних ХАВ-ом долази до сероконверзије (постају анти-ХАВ позитивни), без клиничких и лабораторијских знакова запаљења 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066320" y="5331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кутни хепатитис Ц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блажа клиничка слика од акутног хепатитиса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дром сличан серумској болести→чешће удружен са хепатитисом Б и 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Типичан иктерични облик акутног вирусног хепатити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. Продромални (преиктерични) стадију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 код акутног хепатитиса А и Е почиње нагло, код осталих постепе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птоми слични грипу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кијавица, фарингитис, кашаљ, мијалгије, главобоља, малаксалост, ретко повишена температура) и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строинтестинални симптом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мука, гађење, повраћање, губитак апетита, пролив или затвор, осећај нелагодности или болови под ДР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066320" y="15228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ајчешћи симптом (у 95%)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лаксал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ви се јавља а последњи ишчеза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ађењ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нарочито на масну хра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вишена температур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чешћа у хепатитису А и Е (осим код облика хепатитиса Б праћених тегобама сличним серумској болес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дром сличан серумској болест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оспа, артралгије, артритис, повишена температур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10% болесника са хепатитисом Б (ретко код других хепатитис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кстрахепатичке манифестациј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могу и у другој половини инкубациј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тралгије, ретко артритис, оспа, увећане лг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од дец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апуларни акродерматитис (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ianotti-Crosti sindro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иктерични стадијум траје 3-10 дана, најдуже до 3 недељ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крају овог стадијума болесник примећује да му је мокраћа тамна а столица светлије бо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. Иктерични стадију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иње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ктерусом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жутицом)→најпре на беоњачама и тврдом непц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к се субјективно осећа боље, тегобе из преиктеричне фазе се смањују и ишчезава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 да се јаве незнатни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ови у пределу јетр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као и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враб по кож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066320" y="609120"/>
            <a:ext cx="7543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омегалиј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у 80% болес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Јетра је меке конзистенције, глатка и лако болно осетљива на палпаци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Спленомегалиј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у 20% болес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Цервикална лимфаденопатиј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(ретк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а почетку иктеричног стадијума (7-10 дана) иктерус прогредира а болесници се добро осећа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“више жути него болесни”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ај стадијум траје 1-4 недеље од почетка иктер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рмализују се боја мокраће и стол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TIС А 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RNK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амилиј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icornavirid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ферична честица, линеарни једноланчани геном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РНК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истент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јство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т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киселине и т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мпературу до 60</a:t>
            </a:r>
            <a:r>
              <a:rPr b="1" lang="sr-C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лативна отпорност на методе дезинфекције→опре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етљив на деловање формалина, хлора и УВ зрач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њ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серотип, 4 генотип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Ц. Стадијум реконвалесцен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ви симптоми ишчезавају, сем умора (може трајати недељам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амо перзистирају патолошки биохемијски тесто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Ова фаза је краћа код хепатитиса А него код хепатитиса Б и 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омплетно клиничко и биохемијско оздрављење настаје за 1-2 месеца код хепатитиса А и Е, а 2-3 месеца (ретко до 6 месеци) код хепатитиса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Атипични облици акутног вирусног хепатити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Супклинички (асимптоматски) обл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Без симптома болести са уредним физичким налаз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ијагноз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повишене трансаминазе и присуство маркера вируса хепатитиса у серу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ај клинички облик чешћи код деце (хепатитис А и 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ај клинички облик краће тра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 хепатитиса Ц чешћи него код хепатитиса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990360" y="228240"/>
            <a:ext cx="7543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Аниктерични обл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егобе из преиктеричног стадијума слабијег интезитета и краће тра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ма иктер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Чест код хепатитиса Ц (75-90%) и код деце са хепатитисом 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Холестазни обл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Редак обл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ајчешћи код хепатитиса А код одраслих особ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ктерус расте, праћен сврабом кож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Болесник се све време осећа добр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изички преглед: блага хепатомегалија и икте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ок болести продужен (3-8 месец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стоји пад трансаминаза узперзистенцију хипербилирубинем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огноза добра, опоравак потпу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066320" y="609120"/>
            <a:ext cx="75438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Продужен т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раје дуже од 3 месеца (повишена активност трансаминаза до 3 пута изнад нормалних вреднос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Болесници су аниктерич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имптоми почетне фазе (нарочито умор) перзистира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од хепатитиса А и Е прогноза доб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летно оздраве за 6-9 месеци од почетка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 хепатитиса Б и Ц одржавање активности трансаминаза дуже од 6 месе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ој хроничног хепатити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14264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Рецидивирајући обл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ајчешће код хепатитиса 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Рецидив клинички и биохемијски личи на акутну фазу болестии вирус хепатитиса А се поново излучује столиц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Размак између две фазе болести је 30-90 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огноза је добра, оздрављење комплет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ислити на могућност удружене инфекције (другим хепатотропним вирусом) или хроничну форму хепатитис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990360" y="380880"/>
            <a:ext cx="7543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Фулминантни хепат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ајтежа клиничка форма акутног вирусног хепатити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Синдром брзог и тешког оштећења функције јетре у претходно здравих особа, праћен енцефалопатијом, коагулопатијом и другим метаболичким поремећајима, уз могућност попуштања респираторне, кардијалне и реналне фун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улминантни хепатитис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последица масивне некрозе 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сталост→акутни хепатитис Б (1%), коинфекција Д (2-5%), хепатитис А (0,1%), хепатитис Е код трудница у трећем триместру трудноће у ендемичним крајевима (20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ема времену протеклом од појаве жутице до појаве енцефалопатиј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иперакутни (мање од 7 да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кутни (8-28 да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убакутни (29 дана до 12 недељ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ff"/>
                </a:solidFill>
                <a:latin typeface="Times New Roman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имптоми из преиктеричне фазе се одржавају и чак појачавају у фази иктеруса (нарочито упорно повраћањ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Брзо напредовање иктеруса, смањење јетре и поспан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Ускоро по појави иктеруса (најчешће унутар 2 недеље)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патичка енцефалопат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066320" y="75960"/>
            <a:ext cx="7543800" cy="73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тадијум хепатичке енцефалопат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еличина 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важнији прогностички фактор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тогенеза хепатичке енцефалопат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суство токсичних супстанци у крви (углавном азотних) које оштећена јетра није у стању да метаболиш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важниј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раст нивоа амонијак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 мозг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раст ГАБА-ергичке неуротрансмисиј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главни инхибиторни неуротрансмитер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ривати метионина-меркаптани, лажни неуротрансмитери, серотонин ит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урална инхибиција и хепатичка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нцефалопат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омпликације (ретке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енингоенцефал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лирадикулонеур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олазна хипоплазија гранулоцитне ло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пластична анем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ромбоцитопен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емолитичка анем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кутни панкреат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утоимуни хепатитис тип 1 код генетски предиспонираних особа (хепатитис 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ffff00"/>
                </a:solidFill>
                <a:latin typeface="Times New Roman"/>
              </a:rPr>
              <a:t>ДИЈАГНОЗ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320" y="761760"/>
            <a:ext cx="7543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ставља се на основу анамнезе, епидемиолошке анкете, физикалног прегледа и лабораторијских нала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Лабораторијска дијагноза акутног хепатитис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А. Хематолошке анали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ормалан или снижен број леукоцита са доминацијом лимфоцита у леукоцитарној форму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улминантни хепатитис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леукоцитоза са полинуклеоз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Б. Биохемијске анали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ерум глутаматоксалична трансаминаза (</a:t>
            </a: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СГОТ, АСТ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↑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ум глутаматпирувична трансаминаза (</a:t>
            </a: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СГПТ, АЛТ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↑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 и више пу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ГП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ГО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066320" y="8380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АВ се успешно размножава у култури хуманих амнионских ћелија, хепатоцита мармозета и култури ћелија феталног бубрега резус мајмуна, афричког зеленог мајму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АВ у култури ћелија расте споро,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не даје цитопатогени ефекат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и ослобађа се из инфициране ћелије без њене видљиве лезије (разлика од већине пикорна вируса, који дају јасан цитопатогени ефека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1066320" y="5331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Хипербилурубинемиј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(укупни и коњуговани)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иктеричне форме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иктерични облици→нормалне вредности укупног билирубина (могуће повишење само коњугованог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ктерус→уккупни билирубин преко 30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μ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l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ина билирубинемије корелира са тежином болести→сем код холестазних фор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Жучне киселин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у серуму↑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на почетку болес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Хипоалбуминемиј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тешки и дуготрајни облици акутног вирусног хепатити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Продужено протромбинско врем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Бета- и гама-глобулини↑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инфекција и реакција РЕС-а)→смањена стабилност колоида плазме (позитивне тимолске проб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Алфа фето протеин</a:t>
            </a: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↑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у почетној фази 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ћи пораст у тежим облицима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ољан прогностички знак у фулминантном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хепатитис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Урин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билирубин↑, уробилиноген↑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Ц. Серолошка дијагноза акутног хепатитис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Хепатитис 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ти-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AV IgM↑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ти-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AV IgG↓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акутна фа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-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 IgM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↓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Анти-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 IgG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↑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реконвалесцен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екција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ти-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AV IgA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 столиц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болелo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фична дијагностичка вредност, рутински се не кори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066320" y="228240"/>
            <a:ext cx="7543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Хепатитис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BsAg+,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н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HBc IgM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Рана сероконверз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HBeAg-/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н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HBe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бар прогностички зна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BsAg &gt; 6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сe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BeAg &gt;10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деља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хроницит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BV DNK &gt; 8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дeљ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Хепатитис 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-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DV IgM, HBsAg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Хепатитис 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-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C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SA, Western blo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Хепатитис 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ма теста за рутинску серолошку дијагнозу хепатитиса 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4267080" y="28954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ffff00"/>
                </a:solidFill>
                <a:latin typeface="Times New Roman"/>
              </a:rPr>
              <a:t>ЛЕЧЕЊЕ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6320" y="9140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99"/>
                </a:solidFill>
                <a:latin typeface="Times New Roman"/>
              </a:rPr>
              <a:t>A. </a:t>
            </a: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Хигијенско-дијететски реж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рана прилагођена апетиту болес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збегавати масну храну у јако иктеричних болес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збегавати конзервансе, адитиве и алкохо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Лежање у постељи у почетку болести (малаксалос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Б. Симптоматска 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травенски унос глукозе (5%, 10%)-анорексија, повраћ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ливитаминска 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2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нтагони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066320" y="9140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Кортикостероид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се не примењују у лечењу ниједне форме акутног вирусног хепатити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Витамин К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холестазни хепатитис и хепатитис са продуженим протромбинским времен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Холестирамин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холестазне форме акутног хепатити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Интерферон </a:t>
            </a:r>
            <a:r>
              <a:rPr b="1" lang="el-GR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α</a:t>
            </a: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-2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5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/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невно/4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eља, потoм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MU/3x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но/још 20 недeља→акутни хепатитис Ц (стабилан одговор у 100% лечених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T</a:t>
            </a:r>
            <a:r>
              <a:rPr b="1" lang="sr-R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енофовир, Ентекавир, </a:t>
            </a: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Ламивудин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фулминантни хепатитис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066320" y="0"/>
            <a:ext cx="7543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Профилак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А. Неспецифич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ема извору 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ема путевима шире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екватна диспозиција фекалија, редовно прање руку, хигијенска дистрибуција воде и хра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Б. Специфич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сивна имуниз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експозициона→анти-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гативним особама које путују у хиперендемичне крајеве (0,02-0,06 мл гамаглобулина/кг тт и.м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штита 3-5 месе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стекпсозициона (0,02мл/кг тт)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прве две недеље по експозици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-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гативни укућани, пре свега де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ама угроженим у епидемијама не давати гама-глобулин јер се јављају сувише кас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на имунизација (вакцинац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ва атенуирана вакц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ртва инактивисана вакцина (0, 1, 6м-по 720 ЕЛИЗА јединица и.м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омбинантна вакцина (слабији ефека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У 90% вакцинисаних после две недеље од давања прве дозе постиже се заштитни ниво антите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66ff99"/>
                </a:solidFill>
                <a:latin typeface="Times New Roman"/>
              </a:rPr>
              <a:t>Хепатитис 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специфична превенција као код хепатитиса 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пецифична профилакса за сада не посто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66ff99"/>
                </a:solidFill>
                <a:latin typeface="Times New Roman"/>
              </a:rPr>
              <a:t>Хепатитис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А. Неспецифична профилак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еома отпоран 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Уништава га 180</a:t>
            </a:r>
            <a:r>
              <a:rPr b="1" lang="sr-C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у трајању од 12 сати или сува стерилиз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ије потребна изол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ере личне и опште хигијен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лични прибор за бријање, прање зуба, шишање, тетовирање и акунпуктуру, једнократна примена игала и шприц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отреба кондома</a:t>
            </a:r>
            <a:r>
              <a:rPr b="1" lang="sr-C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сексуалном контак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евенција ширења хепатитиса Б у здравственим установ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ажљиво руковање заразним материјал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Беспрекорна хигијена особља (пре свега чисте рук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Заштитне рукавице мењати за сваког болес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Болесник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БсАг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оставити га за крај прогр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ерилизација инструмената после интервенције (метални инструменти-сува стерилизација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180</a:t>
            </a:r>
            <a:r>
              <a:rPr b="1" lang="sr-CS" sz="24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1" lang="sr-Latn-RS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, 12 са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струменти који се могу оштети грејањем (ендоскопи)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етиленоксид, глутаралдехид или формалдехид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066320" y="456840"/>
            <a:ext cx="7543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Болеснике са хроничним болестима бубрега вакцинисати против хепатитиса Б пре укључивања у хемодијализ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Здравстевно особље које ради у одељењима за хемодијализу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вакцинисати против хепатитиса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тинско тестирање добровољних даваоца крви на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s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Б. Специфична профилак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кцина против хепатитиса Б (рекомбинант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ју се 3 дозе од 20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μ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одрасли), 10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μ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деца)→0,1,6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штита→96% вакцинисаних, траје 10 и више год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66320" y="9140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Е 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Још није сврстан у одређену фамили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Репликује се у цитоплазми хепат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злучује се путем жучи (велика количи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толицом се излучује мала количина вируса (разара се у цревим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еома осетљив на топлоту и замрзав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ктивна+пасивна (вакцина+хепатитис Б имуни глобули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оворођенчад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sAg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+ мај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убод на иглу контаминирану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sAg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+ крвљ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ексуални контакт са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sAg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+ особом без зашти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66ff99"/>
                </a:solidFill>
                <a:latin typeface="Times New Roman"/>
              </a:rPr>
              <a:t>Хепатитис 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специфична профилакс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иста као код хепатитиса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фична профилакса→вакцинација против хепатитиса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66ff99"/>
                </a:solidFill>
                <a:latin typeface="Times New Roman"/>
              </a:rPr>
              <a:t>Хепатитис</a:t>
            </a:r>
            <a:r>
              <a:rPr b="1" i="1" lang="sr-Latn-CS" sz="2400" spc="-1" strike="noStrike">
                <a:solidFill>
                  <a:srgbClr val="66ff99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66ff99"/>
                </a:solidFill>
                <a:latin typeface="Times New Roman"/>
              </a:rPr>
              <a:t>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специфич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вен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ити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фич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вен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о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Хепатитис</a:t>
            </a:r>
            <a:r>
              <a:rPr b="1" i="1" lang="sr-Latn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 </a:t>
            </a:r>
            <a:r>
              <a:rPr b="1" i="1" lang="sr-R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специфич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вен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ити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фич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вен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о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066320" y="990360"/>
            <a:ext cx="7543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ХРОНИЧНИ ВИРУСНИ ХЕПАТИТИС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Проф. Др Жељко Мијаилови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2209680" y="2971800"/>
            <a:ext cx="5181840" cy="28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066320" y="5331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Дефини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Запаљење и некроза паренхима јетре, који трају дуже од 6 месеци а узроковани су примарно хепатотропним вирус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епатитис Б вирус (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HB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епатитис Ц вирус (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HC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епатитис Д (делта) вирус (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HD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епатитис Г вирус (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HG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фицирани хепатоцити (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HBeAg</a:t>
            </a:r>
            <a:r>
              <a:rPr b="1" i="1" lang="sr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HBcAg</a:t>
            </a:r>
            <a:r>
              <a:rPr b="1" i="1" lang="sr-C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MHC</a:t>
            </a:r>
            <a:r>
              <a:rPr b="1" i="1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I, II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↑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тотоксични Т лимфоци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инфицирани хепатоцити→слаба екпресиј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HC</a:t>
            </a:r>
            <a:r>
              <a:rPr b="1" i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sr-Latn-B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B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B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B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B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↓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↑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B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a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а инфекције→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раст продукције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ндогеног интерферо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ониците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б (субоптималан), специфичан, на класу </a:t>
            </a:r>
            <a:r>
              <a:rPr b="1" i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C</a:t>
            </a:r>
            <a:r>
              <a:rPr b="1" i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граничен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итотоксични Т лимфоцитн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дговор на вирусне антиге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б (субоптималан), специфичан, на класу </a:t>
            </a:r>
            <a:r>
              <a:rPr b="1" i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C</a:t>
            </a:r>
            <a:r>
              <a:rPr b="1" i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граничен одговор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магачких Т лимфоцит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 нуклеокапсидне антигене (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eAg</a:t>
            </a:r>
            <a:r>
              <a:rPr b="1" i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cAg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Ток инфекције и 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е егзацербације и фазе ремисије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кутни хепатитис Б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у 5-10% случајева прелази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хроницит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%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iroza jet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утни хепатитис Ц→у 80-90% случајева прелази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у хроницит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-20%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роза јетр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7%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оцелуларни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цин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Line 4"/>
          <p:cNvSpPr/>
          <p:nvPr/>
        </p:nvSpPr>
        <p:spPr>
          <a:xfrm flipH="1">
            <a:off x="2666880" y="4419720"/>
            <a:ext cx="137160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Line 5"/>
          <p:cNvSpPr/>
          <p:nvPr/>
        </p:nvSpPr>
        <p:spPr>
          <a:xfrm>
            <a:off x="4419720" y="4419720"/>
            <a:ext cx="121896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Фаза егзацербациј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клиничка слика као у акутној фази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аза ремисиј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без субјективних сметњи, нормалан објективни нала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75-90% болест протиче асимптоматски и случајно се откри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чешћи симптоми: малаксалост, осећај притиска или туп бол под ДР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икални налаз→оскудан: аниктерични (сем у ретким погоршањима), хепатомегалија, ређе спленомегал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 10-25% болесника→болест има прогредијентнији ток (година дана након инфекције): хистолошки се верификује цироза јетре (и даље оскудна симптоматолог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сле неколико годин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изражени клнички знаци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мпензоване цирозе јетр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i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патоспленомегалија, палмарни еритем, спајдер невуси, паротидно бубр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ва декомпензација (асцитес, перитибијални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оци, енцефалопат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ункционалне резерве јетре исцрпље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 улази у терминалну фаз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компензација, енцефалопатија, крвављење, бактеријске инфекције→угрожавају живот болес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ронична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HBV</a:t>
            </a:r>
            <a:r>
              <a:rPr b="1" i="1" lang="sr-C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HD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ронични делта хепатитис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озбиљнији п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ку и исходу од других хроничних вирусних хепатити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онични делта хепатитис→70-80% болесника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ја цирозу 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% ових болесника има прогредијентан ток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року од две године развију цирозу 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и се не разликује од других вирусних хепатити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Екстрахепатичке манифест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ембранопролиферативни гломерулонефр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Есенцијална мешовита криоглобулинем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рфирија кутанеа тар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ика синдр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уренов улкус рожњач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утоимуни тиреоид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лиартеритис нод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пластична анем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иокард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лирадикулонеур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анкреатитис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ВИРУСИ КОЈИ СЕ ПРЕНОСЕ ПУТЕМ КРВИ (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HBV, HDV, HCV, HGV, TT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ff"/>
                </a:solidFill>
                <a:latin typeface="Times New Roman"/>
              </a:rPr>
              <a:t>ЗАЈЕДНИЧКЕ КАРАКТЕРИСТИ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мају омота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Оштећују их и ремете жуч и детерџен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ати их перзистентна вирем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зазивају хроничне болести 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066320" y="304920"/>
            <a:ext cx="75438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Комплик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Цироза 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ерминална инсуфицијенција јетрине ћелије (енцефалопатија, коагулопатије, инфекције итд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епатоцелуларни карцин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оцио-епидемиолошка анкета (фактори ризи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изикални нала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Лабораторијска дијагност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рвна слика и брзина седиментације (без битнијих проме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вишена активност серумских трансаминаза (АСТ, АЛТ)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обично 2-5 пута изнад нормалних вредности (сем у фазама изразите егзацербације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990360" y="228600"/>
            <a:ext cx="7543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иже вредности албумина, повишене вредности глобулин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теже оштећење синтетске функције јетре (терминална болес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ужено протромбинско време (снижени фактори коагулације: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, V, VI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олошка дијагност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онични хепатитис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BsAg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BcIgG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,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gM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 фази репликaцијe можe бит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BeAg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,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HBe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Ø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мутантне форме губе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BeA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онични хепатитис 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ti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CV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укуп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онични хепатитис 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BsAg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,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-HBcIgM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Ø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ti-HDV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укупна 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066320" y="9907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ирусолошка дијагност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Реакција ланчане полимеризациј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(PC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валитaтив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PCR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ређивање генотипа вир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валитативни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PCR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ређивање броја копија вируса у 1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l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у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ређивање активности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NK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мера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опсија јетра и патохистолошка верификација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роинфламаторна активн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дијум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ронични хепатитис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гиловани интерферон </a:t>
            </a:r>
            <a:r>
              <a:rPr b="1" lang="el-G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α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2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SVR u 40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алози нуклеози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кцинална 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токинска 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VR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табилан вирусолошки одгов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Имуномодулаторно делов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/Ts ↑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ећава експресију молекула клас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MH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ећава активност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K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имулише сазревање цитотоксичних Т лимфоцита (преко реаранжмана Т ћелијског рецептор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Антипролиферативно делов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нижава ниво проколаген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III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ептида (маркер фиброзе јетр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нижава повишен ниво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TGF beta (transforming growth factor beta)-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јачaвa синтезу кoлaгeн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Антивирусно делов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ктивација 2,5-олигоаденилат-синтета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ивација олигонуклеотида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ивација ћелијске рибонуклеа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зарање вирусн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RN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1066320" y="5331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егиловани интерферон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2а→180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/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но/12 месе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Циљ терап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охемијски: нормализација АЛ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олошки: недетектибилн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VDNK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 пад испод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0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U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l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ума;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шчезавање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BsAg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 серума са или без сероконверзије у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-HB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kod HBeAg+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шчезавање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eAg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 стварање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-HB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ањење некроинфламаторног индекса за 2 или више, без погоршања фибро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1" descr="HEP-B-MOD-X-Slide-1"/>
          <p:cNvPicPr/>
          <p:nvPr/>
        </p:nvPicPr>
        <p:blipFill>
          <a:blip r:embed="rId1"/>
          <a:srcRect l="11667" t="14995" r="11667" b="21998"/>
          <a:stretch/>
        </p:blipFill>
        <p:spPr>
          <a:xfrm>
            <a:off x="1001880" y="2143080"/>
            <a:ext cx="7495920" cy="36673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eaeaea"/>
                </a:solidFill>
                <a:latin typeface="Tahoma"/>
              </a:rPr>
              <a:t>Стабилна</a:t>
            </a:r>
            <a:r>
              <a:rPr b="1" lang="en-GB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eaeaea"/>
                </a:solidFill>
                <a:latin typeface="Tahoma"/>
              </a:rPr>
              <a:t>имунолошка</a:t>
            </a:r>
            <a:r>
              <a:rPr b="1" lang="sr-Latn-C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eaeaea"/>
                </a:solidFill>
                <a:latin typeface="Tahoma"/>
              </a:rPr>
              <a:t>контрола</a:t>
            </a:r>
            <a:r>
              <a:rPr b="1" lang="sr-Latn-C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eaeaea"/>
                </a:solidFill>
                <a:latin typeface="Tahoma"/>
              </a:rPr>
              <a:t>је</a:t>
            </a:r>
            <a:r>
              <a:rPr b="1" lang="sr-Latn-C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eaeaea"/>
                </a:solidFill>
                <a:latin typeface="Tahoma"/>
              </a:rPr>
              <a:t>кључни</a:t>
            </a:r>
            <a:r>
              <a:rPr b="1" lang="sr-Latn-C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eaeaea"/>
                </a:solidFill>
                <a:latin typeface="Tahoma"/>
              </a:rPr>
              <a:t>корак</a:t>
            </a:r>
            <a:r>
              <a:rPr b="1" lang="sr-Latn-C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eaeaea"/>
                </a:solidFill>
                <a:latin typeface="Tahoma"/>
              </a:rPr>
              <a:t>ка</a:t>
            </a:r>
            <a:r>
              <a:rPr b="1" lang="sr-Latn-C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eaeaea"/>
                </a:solidFill>
                <a:latin typeface="Tahoma"/>
              </a:rPr>
              <a:t>губитку</a:t>
            </a:r>
            <a:r>
              <a:rPr b="1" lang="sr-Latn-C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HBsAg</a:t>
            </a:r>
            <a:r>
              <a:rPr b="1" lang="en-GB" sz="2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5" name="Text Box 19"/>
          <p:cNvSpPr/>
          <p:nvPr/>
        </p:nvSpPr>
        <p:spPr>
          <a:xfrm>
            <a:off x="1447920" y="464832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Tahoma"/>
              </a:rPr>
              <a:t>НА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sr-RS" sz="1800" spc="-1" strike="noStrike">
                <a:solidFill>
                  <a:srgbClr val="ffffff"/>
                </a:solidFill>
                <a:latin typeface="Tahoma"/>
              </a:rPr>
              <a:t>ТЕРАПИЈ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22"/>
          <p:cNvSpPr/>
          <p:nvPr/>
        </p:nvSpPr>
        <p:spPr>
          <a:xfrm>
            <a:off x="3768840" y="2978280"/>
            <a:ext cx="202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Tahoma"/>
              </a:rPr>
              <a:t>СТАБИЛНА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1800" spc="-1" strike="noStrike">
                <a:solidFill>
                  <a:srgbClr val="ffffff"/>
                </a:solidFill>
                <a:latin typeface="Tahoma"/>
              </a:rPr>
              <a:t>ИМУНОЛОШКА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1800" spc="-1" strike="noStrike">
                <a:solidFill>
                  <a:srgbClr val="ffffff"/>
                </a:solidFill>
                <a:latin typeface="Tahoma"/>
              </a:rPr>
              <a:t>КОНТРОЛА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1295280" y="5381640"/>
            <a:ext cx="1812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>
                <a:solidFill>
                  <a:srgbClr val="ffffff"/>
                </a:solidFill>
                <a:latin typeface="Tahoma"/>
              </a:rPr>
              <a:t>Пад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1400" spc="-1" strike="noStrike">
                <a:solidFill>
                  <a:srgbClr val="ffffff"/>
                </a:solidFill>
                <a:latin typeface="Tahoma"/>
              </a:rPr>
              <a:t>нивоа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HBsA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BV DNA </a:t>
            </a:r>
            <a:r>
              <a:rPr b="1" lang="sr-RS" sz="1400" spc="-1" strike="noStrike">
                <a:solidFill>
                  <a:srgbClr val="ffffff"/>
                </a:solidFill>
                <a:latin typeface="Tahoma"/>
              </a:rPr>
              <a:t>супресиј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8" name="WordArt 12" descr=""/>
          <p:cNvPicPr/>
          <p:nvPr/>
        </p:nvPicPr>
        <p:blipFill>
          <a:blip r:embed="rId2"/>
          <a:stretch/>
        </p:blipFill>
        <p:spPr>
          <a:xfrm>
            <a:off x="1616040" y="3279600"/>
            <a:ext cx="2054160" cy="151776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18"/>
          <p:cNvSpPr/>
          <p:nvPr/>
        </p:nvSpPr>
        <p:spPr>
          <a:xfrm>
            <a:off x="3286080" y="4300560"/>
            <a:ext cx="2857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sr-RS" sz="1200" spc="-1" strike="noStrike">
                <a:solidFill>
                  <a:srgbClr val="ffffff"/>
                </a:solidFill>
                <a:latin typeface="Tahoma"/>
              </a:rPr>
              <a:t>НАКОН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sr-RS" sz="1200" spc="-1" strike="noStrike">
                <a:solidFill>
                  <a:srgbClr val="ffffff"/>
                </a:solidFill>
                <a:latin typeface="Tahoma"/>
              </a:rPr>
              <a:t>ТЕРАПИЈЕ</a:t>
            </a:r>
            <a:br>
              <a:rPr sz="1200"/>
            </a:br>
            <a:r>
              <a:rPr b="1" lang="sr-RS" sz="1200" spc="-1" strike="noStrike">
                <a:solidFill>
                  <a:srgbClr val="ffffff"/>
                </a:solidFill>
                <a:latin typeface="Tahoma"/>
              </a:rPr>
              <a:t>ХБеАг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1200" spc="-1" strike="noStrike">
                <a:solidFill>
                  <a:srgbClr val="ffffff"/>
                </a:solidFill>
                <a:latin typeface="Tahoma"/>
              </a:rPr>
              <a:t>сероконверзиј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ffffff"/>
                </a:solidFill>
                <a:latin typeface="Tahoma"/>
              </a:rPr>
              <a:t>код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HBeAg</a:t>
            </a:r>
            <a:r>
              <a:rPr b="1" lang="sr-Latn-CS" sz="1200" spc="-1" strike="noStrike">
                <a:solidFill>
                  <a:srgbClr val="ffffff"/>
                </a:solidFill>
                <a:latin typeface="Tahoma"/>
              </a:rPr>
              <a:t>(+)</a:t>
            </a:r>
            <a:br>
              <a:rPr sz="1200"/>
            </a:br>
            <a:r>
              <a:rPr b="1" lang="sr-Latn-CS" sz="1200" spc="-1" strike="noStrike">
                <a:solidFill>
                  <a:srgbClr val="ffffff"/>
                </a:solidFill>
                <a:latin typeface="Tahoma"/>
              </a:rPr>
              <a:t>il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HBV DNA ≤</a:t>
            </a:r>
            <a:r>
              <a:rPr b="1" lang="sr-Latn-RS" sz="1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,000 </a:t>
            </a:r>
            <a:r>
              <a:rPr b="1" lang="sr-Latn-CS" sz="1200" spc="-1" strike="noStrike">
                <a:solidFill>
                  <a:srgbClr val="ffffff"/>
                </a:solidFill>
                <a:latin typeface="Tahoma"/>
              </a:rPr>
              <a:t>IU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/mL</a:t>
            </a:r>
            <a:br>
              <a:rPr sz="1200"/>
            </a:br>
            <a:r>
              <a:rPr b="1" lang="sr-RS" sz="1200" spc="-1" strike="noStrike">
                <a:solidFill>
                  <a:srgbClr val="ffffff"/>
                </a:solidFill>
                <a:latin typeface="Tahoma"/>
              </a:rPr>
              <a:t>код</a:t>
            </a:r>
            <a:r>
              <a:rPr b="1" lang="sr-Latn-C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HBeAg</a:t>
            </a:r>
            <a:r>
              <a:rPr b="1" lang="sr-Latn-CS" sz="1200" spc="-1" strike="noStrike">
                <a:solidFill>
                  <a:srgbClr val="ffffff"/>
                </a:solidFill>
                <a:latin typeface="Tahoma"/>
              </a:rPr>
              <a:t>(-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2931840" y="6306120"/>
            <a:ext cx="591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新細明體"/>
              </a:rPr>
              <a:t>1. Perrillo et al. Hepatology 2006; 2. EASL guidelines 2009;</a:t>
            </a:r>
            <a:br>
              <a:rPr sz="1400"/>
            </a:b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新細明體"/>
              </a:rPr>
              <a:t>3. van Zonneveld et al. Hepatology 2004; 4. Marcellin et al. APASL 201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1" descr="HEP-B-MOD-X-Slide-1"/>
          <p:cNvPicPr/>
          <p:nvPr/>
        </p:nvPicPr>
        <p:blipFill>
          <a:blip r:embed="rId1"/>
          <a:srcRect l="11667" t="14995" r="11667" b="21998"/>
          <a:stretch/>
        </p:blipFill>
        <p:spPr>
          <a:xfrm>
            <a:off x="1295280" y="2209680"/>
            <a:ext cx="7496280" cy="36673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8"/>
          <p:cNvSpPr/>
          <p:nvPr/>
        </p:nvSpPr>
        <p:spPr>
          <a:xfrm>
            <a:off x="5911920" y="2265480"/>
            <a:ext cx="238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Tahoma"/>
              </a:rPr>
              <a:t>ГУБИТАК</a:t>
            </a:r>
            <a:r>
              <a:rPr b="1" lang="sr-Latn-CS" sz="1800" spc="-1" strike="noStrike">
                <a:solidFill>
                  <a:srgbClr val="004b8d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HBsAg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6172200" y="3200400"/>
            <a:ext cx="2644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ff0000"/>
                </a:solidFill>
                <a:latin typeface="Tahoma"/>
              </a:rPr>
              <a:t>Редукује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 HCC &amp; </a:t>
            </a:r>
            <a:r>
              <a:rPr b="1" lang="sr-RS" sz="1600" spc="-1" strike="noStrike">
                <a:solidFill>
                  <a:srgbClr val="ff0000"/>
                </a:solidFill>
                <a:latin typeface="Tahoma"/>
              </a:rPr>
              <a:t>цирозу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;</a:t>
            </a:r>
            <a:br>
              <a:rPr sz="1600"/>
            </a:br>
            <a:r>
              <a:rPr b="1" lang="sr-RS" sz="1600" spc="-1" strike="noStrike">
                <a:solidFill>
                  <a:srgbClr val="ff0000"/>
                </a:solidFill>
                <a:latin typeface="Tahoma"/>
              </a:rPr>
              <a:t>повећава</a:t>
            </a:r>
            <a:r>
              <a:rPr b="1" lang="sr-Latn-CS" sz="1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sr-RS" sz="1600" spc="-1" strike="noStrike">
                <a:solidFill>
                  <a:srgbClr val="ff0000"/>
                </a:solidFill>
                <a:latin typeface="Tahoma"/>
              </a:rPr>
              <a:t>преживљавањ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2869560" y="6306120"/>
            <a:ext cx="605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1. Perrillo et al. Hepatology 2006; 2. EASL guidelines 2009;</a:t>
            </a:r>
            <a:br>
              <a:rPr sz="1400"/>
            </a:b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3. van Zonneveld et al. Hepatology 2004; 4. Marcellin et al. APASL 201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Text Box 22"/>
          <p:cNvSpPr/>
          <p:nvPr/>
        </p:nvSpPr>
        <p:spPr>
          <a:xfrm>
            <a:off x="3809880" y="2895480"/>
            <a:ext cx="202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Tahoma"/>
              </a:rPr>
              <a:t>СТАБИЛНА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1800" spc="-1" strike="noStrike">
                <a:solidFill>
                  <a:srgbClr val="ffffff"/>
                </a:solidFill>
                <a:latin typeface="Tahoma"/>
              </a:rPr>
              <a:t>ИМУНОЛОШКА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1800" spc="-1" strike="noStrike">
                <a:solidFill>
                  <a:srgbClr val="ffffff"/>
                </a:solidFill>
                <a:latin typeface="Tahoma"/>
              </a:rPr>
              <a:t>КОНТРОЛА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Text Box 18"/>
          <p:cNvSpPr/>
          <p:nvPr/>
        </p:nvSpPr>
        <p:spPr>
          <a:xfrm>
            <a:off x="3505320" y="4267080"/>
            <a:ext cx="2857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sr-RS" sz="1200" spc="-1" strike="noStrike">
                <a:solidFill>
                  <a:srgbClr val="ffffff"/>
                </a:solidFill>
                <a:latin typeface="Tahoma"/>
              </a:rPr>
              <a:t>НАКОН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sr-RS" sz="1200" spc="-1" strike="noStrike">
                <a:solidFill>
                  <a:srgbClr val="ffffff"/>
                </a:solidFill>
                <a:latin typeface="Tahoma"/>
              </a:rPr>
              <a:t>ТЕРАПИЈЕ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HBeAg </a:t>
            </a:r>
            <a:r>
              <a:rPr b="1" lang="sr-RS" sz="1200" spc="-1" strike="noStrike">
                <a:solidFill>
                  <a:srgbClr val="ffffff"/>
                </a:solidFill>
                <a:latin typeface="Tahoma"/>
              </a:rPr>
              <a:t>сероконверзиј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fffff"/>
                </a:solidFill>
                <a:latin typeface="Tahoma"/>
              </a:rPr>
              <a:t>ko</a:t>
            </a:r>
            <a:r>
              <a:rPr b="1" lang="sr-RS" sz="1200" spc="-1" strike="noStrike">
                <a:solidFill>
                  <a:srgbClr val="ffffff"/>
                </a:solidFill>
                <a:latin typeface="Tahoma"/>
              </a:rPr>
              <a:t>д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HBeAg</a:t>
            </a:r>
            <a:r>
              <a:rPr b="1" lang="sr-Latn-CS" sz="1200" spc="-1" strike="noStrike">
                <a:solidFill>
                  <a:srgbClr val="ffffff"/>
                </a:solidFill>
                <a:latin typeface="Tahoma"/>
              </a:rPr>
              <a:t>(+)</a:t>
            </a:r>
            <a:br>
              <a:rPr sz="1200"/>
            </a:br>
            <a:r>
              <a:rPr b="1" lang="sr-Latn-CS" sz="1200" spc="-1" strike="noStrike">
                <a:solidFill>
                  <a:srgbClr val="ffffff"/>
                </a:solidFill>
                <a:latin typeface="Tahoma"/>
              </a:rPr>
              <a:t>il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HBV DNA ≤</a:t>
            </a:r>
            <a:r>
              <a:rPr b="1" lang="sr-Latn-RS" sz="1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,000 </a:t>
            </a:r>
            <a:r>
              <a:rPr b="1" lang="sr-Latn-CS" sz="1200" spc="-1" strike="noStrike">
                <a:solidFill>
                  <a:srgbClr val="ffffff"/>
                </a:solidFill>
                <a:latin typeface="Tahoma"/>
              </a:rPr>
              <a:t>IU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/mL</a:t>
            </a:r>
            <a:br>
              <a:rPr sz="1200"/>
            </a:br>
            <a:r>
              <a:rPr b="1" lang="sr-RS" sz="1200" spc="-1" strike="noStrike">
                <a:solidFill>
                  <a:srgbClr val="ffffff"/>
                </a:solidFill>
                <a:latin typeface="Tahoma"/>
              </a:rPr>
              <a:t>код</a:t>
            </a:r>
            <a:r>
              <a:rPr b="1" lang="sr-Latn-C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HBeAg</a:t>
            </a:r>
            <a:r>
              <a:rPr b="1" lang="sr-Latn-CS" sz="1200" spc="-1" strike="noStrike">
                <a:solidFill>
                  <a:srgbClr val="ffffff"/>
                </a:solidFill>
                <a:latin typeface="Tahoma"/>
              </a:rPr>
              <a:t>(-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Text Box 19"/>
          <p:cNvSpPr/>
          <p:nvPr/>
        </p:nvSpPr>
        <p:spPr>
          <a:xfrm>
            <a:off x="1393560" y="5486400"/>
            <a:ext cx="195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>
                <a:solidFill>
                  <a:srgbClr val="ffffff"/>
                </a:solidFill>
                <a:latin typeface="Tahoma"/>
              </a:rPr>
              <a:t>Пад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1400" spc="-1" strike="noStrike">
                <a:solidFill>
                  <a:srgbClr val="ffffff"/>
                </a:solidFill>
                <a:latin typeface="Tahoma"/>
              </a:rPr>
              <a:t>нивоа</a:t>
            </a:r>
            <a:r>
              <a:rPr b="1" lang="sr-Latn-C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BsA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BV DNA </a:t>
            </a:r>
            <a:r>
              <a:rPr b="1" lang="sr-RS" sz="1400" spc="-1" strike="noStrike">
                <a:solidFill>
                  <a:srgbClr val="ffffff"/>
                </a:solidFill>
                <a:latin typeface="Tahoma"/>
              </a:rPr>
              <a:t>супресиј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1676520" y="4648320"/>
            <a:ext cx="14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Tahoma"/>
              </a:rPr>
              <a:t>НА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sr-RS" sz="1800" spc="-1" strike="noStrike">
                <a:solidFill>
                  <a:srgbClr val="ffffff"/>
                </a:solidFill>
                <a:latin typeface="Tahoma"/>
              </a:rPr>
              <a:t>ТЕРАПИЈ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WordArt 12"/>
          <p:cNvSpPr txBox="1"/>
          <p:nvPr/>
        </p:nvSpPr>
        <p:spPr>
          <a:xfrm rot="19760400">
            <a:off x="1709280" y="3708000"/>
            <a:ext cx="2084400" cy="736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593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66"/>
                </a:solidFill>
                <a:latin typeface="+mj-lt"/>
              </a:rPr>
              <a:t>Dvostruki način delovanja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66"/>
              </a:solidFill>
              <a:latin typeface="+mj-lt"/>
              <a:ea typeface="+mj-lt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539640" y="0"/>
            <a:ext cx="813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Стабилна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имунолошк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контрол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ј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кључн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корак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к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губитку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HBsA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1066320" y="304920"/>
            <a:ext cx="75438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налози нулеози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Ламивуд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упримира репликацију ХБВ али не може да ерадицира инфекци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Ретка дуготрајна ремис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Чести релапси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јава резистенције на примељени лек немино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јање терап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BeAg+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6-9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сец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 успостављању сероконверзиј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eAg/antiHBe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 негативизацији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eAg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 стварањ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-H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BeAg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убитак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s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нофовир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ентекавир (препорука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Razmotriti prekid terapije (NA) samo..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ffffff"/>
                </a:solidFill>
                <a:latin typeface="Calibri"/>
              </a:rPr>
              <a:t>HBeAg (+) : nakon postizanja serokonverzije u anti HBeAt i nedetektabilnom HBV DNK ( 6-12 meseci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ffffff"/>
                </a:solidFill>
                <a:latin typeface="Calibri"/>
              </a:rPr>
              <a:t>HBeAg (-) :  ukoliko  postignu gubitak HBsAg!!!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Latn-RS" sz="2600" spc="-1" strike="noStrike">
                <a:solidFill>
                  <a:srgbClr val="ffffff"/>
                </a:solidFill>
                <a:latin typeface="Calibri"/>
              </a:rPr>
              <a:t>Ovo je redak događaj- terapija dugotrajna,   </a:t>
            </a:r>
            <a:r>
              <a:rPr b="0" lang="sr-Latn-R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R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R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RS" sz="2600" spc="-1" strike="noStrike">
                <a:solidFill>
                  <a:srgbClr val="ffffff"/>
                </a:solidFill>
                <a:latin typeface="Calibri"/>
              </a:rPr>
              <a:t>verovatno doživotn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European Association for the Study of the Liver. EASL 2017 Clinical 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Practice Guidelines on the management of hepatitis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B virus infection. J 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Hepatol (2017), http://dx.doi.org/10.1016/j.jhep.2017.03.021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066320" y="151920"/>
            <a:ext cx="7543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Б 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али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DNK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Јако отпоран у спољашњој среди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амилиј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Hepadnavirid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6 генотипова, 9 подтип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Вирусна честица (Dane-ова партикул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пољашњи липопротеински омотач (главни део чини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BsA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уклеокапси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адрж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BcAg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Be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Геном вируса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BV DNK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)-за њега се ковалентно везана два ензима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DNK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полимераза и протеин киназ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лободне тубуларне или сферичне форме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BsAg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у вишк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4" descr="Hep B virus"/>
          <p:cNvPicPr/>
          <p:nvPr/>
        </p:nvPicPr>
        <p:blipFill>
          <a:blip r:embed="rId3"/>
          <a:stretch/>
        </p:blipFill>
        <p:spPr>
          <a:xfrm>
            <a:off x="6840360" y="609480"/>
            <a:ext cx="230364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ронични хепатитис 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Генотип 1 и 4: пегиловани интерферон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2а 180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/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но/48 недеља+Рибавирин 1000-1200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отип 2 и 3: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егиловани интерферон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2а 180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/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но/24 недеље+Рибавирин 800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VR (G1): oko 5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VR (G2,3): 80-9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9186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eaeaea"/>
                </a:solidFill>
                <a:latin typeface="Arial"/>
                <a:ea typeface="Arial"/>
              </a:rPr>
              <a:t>Ефекти</a:t>
            </a:r>
            <a:r>
              <a:rPr b="1" lang="sr-Latn-RS" sz="32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sr-RS" sz="3200" spc="-1" strike="noStrike">
                <a:solidFill>
                  <a:srgbClr val="eaeaea"/>
                </a:solidFill>
                <a:latin typeface="Arial"/>
                <a:ea typeface="Arial"/>
              </a:rPr>
              <a:t>терапије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3048120"/>
            <a:ext cx="8594640" cy="3124080"/>
          </a:xfrm>
          <a:prstGeom prst="rect">
            <a:avLst/>
          </a:prstGeom>
          <a:solidFill>
            <a:srgbClr val="f7f7f7"/>
          </a:solidFill>
          <a:ln w="25560">
            <a:solidFill>
              <a:srgbClr val="4995bc"/>
            </a:solidFill>
            <a:miter/>
          </a:ln>
        </p:spPr>
        <p:txBody>
          <a:bodyPr lIns="0" rIns="0" tIns="0" bIns="0" anchor="b">
            <a:normAutofit fontScale="66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eaeaea"/>
                </a:solidFill>
                <a:latin typeface="Arial"/>
                <a:ea typeface="Arial"/>
              </a:rPr>
              <a:t>Терапијски</a:t>
            </a:r>
            <a:r>
              <a:rPr b="1" lang="sr-Latn-RS" sz="24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eaeaea"/>
                </a:solidFill>
                <a:latin typeface="Arial"/>
                <a:ea typeface="Arial"/>
              </a:rPr>
              <a:t>успех</a:t>
            </a:r>
            <a:r>
              <a:rPr b="1" lang="sr-Latn-RS" sz="2400" spc="-1" strike="noStrike">
                <a:solidFill>
                  <a:srgbClr val="eaeaea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eaeaea"/>
                </a:solidFill>
                <a:latin typeface="Arial"/>
                <a:ea typeface="Arial"/>
              </a:rPr>
              <a:t>СВР</a:t>
            </a:r>
            <a:r>
              <a:rPr b="1" lang="sr-Latn-RS" sz="24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eaeaea"/>
                </a:solidFill>
                <a:latin typeface="Arial"/>
                <a:ea typeface="Arial"/>
              </a:rPr>
              <a:t>са</a:t>
            </a:r>
            <a:r>
              <a:rPr b="1" lang="sr-Latn-RS" sz="24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eaeaea"/>
                </a:solidFill>
                <a:latin typeface="Arial"/>
                <a:ea typeface="Arial"/>
              </a:rPr>
              <a:t>комбинованом</a:t>
            </a:r>
            <a:r>
              <a:rPr b="1" lang="sr-Latn-RS" sz="24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eaeaea"/>
                </a:solidFill>
                <a:latin typeface="Arial"/>
                <a:ea typeface="Arial"/>
              </a:rPr>
              <a:t>терапијом</a:t>
            </a:r>
            <a:r>
              <a:rPr b="1" lang="sr-Latn-RS" sz="24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eaeaea"/>
                </a:solidFill>
                <a:latin typeface="Arial"/>
                <a:ea typeface="Arial"/>
              </a:rPr>
              <a:t>П</a:t>
            </a:r>
            <a:r>
              <a:rPr b="1" lang="sr-Latn-RS" sz="2400" spc="-1" strike="noStrike">
                <a:solidFill>
                  <a:srgbClr val="eaeaea"/>
                </a:solidFill>
                <a:latin typeface="Arial"/>
                <a:ea typeface="Arial"/>
              </a:rPr>
              <a:t>/</a:t>
            </a:r>
            <a:r>
              <a:rPr b="1" lang="sr-RS" sz="2400" spc="-1" strike="noStrike">
                <a:solidFill>
                  <a:srgbClr val="eaeaea"/>
                </a:solidFill>
                <a:latin typeface="Arial"/>
                <a:ea typeface="Arial"/>
              </a:rPr>
              <a:t>Р</a:t>
            </a:r>
            <a:r>
              <a:rPr b="1" lang="sr-Latn-RS" sz="2400" spc="-1" strike="noStrike">
                <a:solidFill>
                  <a:srgbClr val="eaeaea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90320" indent="-188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eaeaea"/>
                </a:solidFill>
                <a:latin typeface="Arial"/>
                <a:ea typeface="Arial"/>
              </a:rPr>
              <a:t>Г</a:t>
            </a:r>
            <a:r>
              <a:rPr b="1" lang="sr-Latn-RS" sz="2000" spc="-1" strike="noStrike">
                <a:solidFill>
                  <a:srgbClr val="eaeaea"/>
                </a:solidFill>
                <a:latin typeface="Arial"/>
                <a:ea typeface="Arial"/>
              </a:rPr>
              <a:t>1 (50-60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490320" indent="-188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eaeaea"/>
                </a:solidFill>
                <a:latin typeface="Arial"/>
                <a:ea typeface="Arial"/>
              </a:rPr>
              <a:t>Г</a:t>
            </a:r>
            <a:r>
              <a:rPr b="1" lang="sr-Latn-RS" sz="2000" spc="-1" strike="noStrike">
                <a:solidFill>
                  <a:srgbClr val="eaeaea"/>
                </a:solidFill>
                <a:latin typeface="Arial"/>
                <a:ea typeface="Arial"/>
              </a:rPr>
              <a:t>2,3 (80-85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Терапијски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неуспех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N</a:t>
            </a:r>
            <a:r>
              <a:rPr b="1" lang="sr-Latn-RS" sz="2400" spc="-1" strike="noStrike">
                <a:solidFill>
                  <a:srgbClr val="ff0000"/>
                </a:solidFill>
                <a:latin typeface="Arial"/>
                <a:ea typeface="Arial"/>
              </a:rPr>
              <a:t>ull-responderi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: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редукција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виремије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за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&lt;2 log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у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односу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на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базалне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вредности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виремије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у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12.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нед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e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љи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Latn-RS" sz="2400" spc="-1" strike="noStrike">
                <a:solidFill>
                  <a:srgbClr val="ff0000"/>
                </a:solidFill>
                <a:latin typeface="Arial"/>
                <a:ea typeface="Arial"/>
              </a:rPr>
              <a:t>(~10%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R</a:t>
            </a:r>
            <a:r>
              <a:rPr b="1" lang="sr-Latn-RS" sz="2400" spc="-1" strike="noStrike">
                <a:solidFill>
                  <a:srgbClr val="ff0000"/>
                </a:solidFill>
                <a:latin typeface="Arial"/>
                <a:ea typeface="Arial"/>
              </a:rPr>
              <a:t>elaps responderi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: PCR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Ø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у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било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ком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тренутку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током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трајања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t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ерапије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, PCR +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на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крају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периода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праћењ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a </a:t>
            </a:r>
            <a:r>
              <a:rPr b="1" lang="sr-Latn-RS" sz="2400" spc="-1" strike="noStrike">
                <a:solidFill>
                  <a:srgbClr val="ff0000"/>
                </a:solidFill>
                <a:latin typeface="Arial"/>
                <a:ea typeface="Arial"/>
              </a:rPr>
              <a:t>(~20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ff0000"/>
                </a:solidFill>
                <a:latin typeface="Arial"/>
                <a:ea typeface="Arial"/>
              </a:rPr>
              <a:t>Parcijalni responderi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: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виремија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у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12.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недељи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нижа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за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&gt;2log, PCR +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на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крају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терапије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Latn-RS" sz="2400" spc="-1" strike="noStrike">
                <a:solidFill>
                  <a:srgbClr val="ff0000"/>
                </a:solidFill>
                <a:latin typeface="Arial"/>
                <a:ea typeface="Arial"/>
              </a:rPr>
              <a:t>(~10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Content Placeholder 3" descr="Screen Clipping"/>
          <p:cNvPicPr/>
          <p:nvPr/>
        </p:nvPicPr>
        <p:blipFill>
          <a:blip r:embed="rId1"/>
          <a:stretch/>
        </p:blipFill>
        <p:spPr>
          <a:xfrm>
            <a:off x="152280" y="184320"/>
            <a:ext cx="8763120" cy="64134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1"/>
          <p:cNvSpPr/>
          <p:nvPr/>
        </p:nvSpPr>
        <p:spPr>
          <a:xfrm>
            <a:off x="5943600" y="6019920"/>
            <a:ext cx="24382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2"/>
          <a:stretch/>
        </p:blipFill>
        <p:spPr>
          <a:xfrm>
            <a:off x="609480" y="5943600"/>
            <a:ext cx="2438640" cy="37800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wipe dir="r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ounded Rectangle 381"/>
          <p:cNvSpPr/>
          <p:nvPr/>
        </p:nvSpPr>
        <p:spPr>
          <a:xfrm>
            <a:off x="1770120" y="4084560"/>
            <a:ext cx="2020680" cy="9604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Freeform 380"/>
          <p:cNvSpPr/>
          <p:nvPr/>
        </p:nvSpPr>
        <p:spPr>
          <a:xfrm>
            <a:off x="1805040" y="2106720"/>
            <a:ext cx="5021280" cy="3152520"/>
          </a:xfrm>
          <a:custGeom>
            <a:avLst/>
            <a:gdLst>
              <a:gd name="textAreaLeft" fmla="*/ 0 w 5021280"/>
              <a:gd name="textAreaRight" fmla="*/ 5021640 w 5021280"/>
              <a:gd name="textAreaTop" fmla="*/ 0 h 3152520"/>
              <a:gd name="textAreaBottom" fmla="*/ 3152880 h 3152520"/>
            </a:gdLst>
            <a:ahLst/>
            <a:rect l="textAreaLeft" t="textAreaTop" r="textAreaRight" b="textAreaBottom"/>
            <a:pathLst>
              <a:path w="5023104" h="3154071">
                <a:moveTo>
                  <a:pt x="2609088" y="303581"/>
                </a:moveTo>
                <a:cubicBezTo>
                  <a:pt x="2504846" y="301752"/>
                  <a:pt x="2400605" y="299923"/>
                  <a:pt x="2294535" y="288950"/>
                </a:cubicBezTo>
                <a:cubicBezTo>
                  <a:pt x="2188465" y="277977"/>
                  <a:pt x="2120189" y="240182"/>
                  <a:pt x="1972666" y="237744"/>
                </a:cubicBezTo>
                <a:cubicBezTo>
                  <a:pt x="1825143" y="235306"/>
                  <a:pt x="1581302" y="284074"/>
                  <a:pt x="1409395" y="274320"/>
                </a:cubicBezTo>
                <a:cubicBezTo>
                  <a:pt x="1237488" y="264566"/>
                  <a:pt x="1110692" y="176784"/>
                  <a:pt x="941223" y="179222"/>
                </a:cubicBezTo>
                <a:cubicBezTo>
                  <a:pt x="771754" y="181660"/>
                  <a:pt x="524257" y="245059"/>
                  <a:pt x="392583" y="288950"/>
                </a:cubicBezTo>
                <a:cubicBezTo>
                  <a:pt x="260909" y="332841"/>
                  <a:pt x="214580" y="348692"/>
                  <a:pt x="151181" y="442570"/>
                </a:cubicBezTo>
                <a:cubicBezTo>
                  <a:pt x="87783" y="536449"/>
                  <a:pt x="24384" y="749808"/>
                  <a:pt x="12192" y="852221"/>
                </a:cubicBezTo>
                <a:cubicBezTo>
                  <a:pt x="0" y="954634"/>
                  <a:pt x="65837" y="974141"/>
                  <a:pt x="78029" y="1057046"/>
                </a:cubicBezTo>
                <a:cubicBezTo>
                  <a:pt x="90221" y="1139951"/>
                  <a:pt x="49987" y="1197254"/>
                  <a:pt x="85344" y="1349654"/>
                </a:cubicBezTo>
                <a:cubicBezTo>
                  <a:pt x="120701" y="1502054"/>
                  <a:pt x="259690" y="1827580"/>
                  <a:pt x="290170" y="1971446"/>
                </a:cubicBezTo>
                <a:cubicBezTo>
                  <a:pt x="320650" y="2115312"/>
                  <a:pt x="257251" y="2138477"/>
                  <a:pt x="268224" y="2212848"/>
                </a:cubicBezTo>
                <a:cubicBezTo>
                  <a:pt x="279197" y="2287219"/>
                  <a:pt x="315773" y="2357933"/>
                  <a:pt x="356007" y="2417674"/>
                </a:cubicBezTo>
                <a:cubicBezTo>
                  <a:pt x="396241" y="2477415"/>
                  <a:pt x="462077" y="2499360"/>
                  <a:pt x="509626" y="2571293"/>
                </a:cubicBezTo>
                <a:cubicBezTo>
                  <a:pt x="557175" y="2643226"/>
                  <a:pt x="571805" y="2757830"/>
                  <a:pt x="641299" y="2849270"/>
                </a:cubicBezTo>
                <a:cubicBezTo>
                  <a:pt x="710793" y="2940710"/>
                  <a:pt x="796138" y="3085795"/>
                  <a:pt x="926592" y="3119933"/>
                </a:cubicBezTo>
                <a:cubicBezTo>
                  <a:pt x="1057046" y="3154071"/>
                  <a:pt x="1303325" y="3061411"/>
                  <a:pt x="1424026" y="3054096"/>
                </a:cubicBezTo>
                <a:cubicBezTo>
                  <a:pt x="1544727" y="3046781"/>
                  <a:pt x="1531316" y="3094330"/>
                  <a:pt x="1650797" y="3076042"/>
                </a:cubicBezTo>
                <a:cubicBezTo>
                  <a:pt x="1770279" y="3057754"/>
                  <a:pt x="1960473" y="2962656"/>
                  <a:pt x="2140915" y="2944368"/>
                </a:cubicBezTo>
                <a:cubicBezTo>
                  <a:pt x="2321357" y="2926080"/>
                  <a:pt x="2543252" y="2979725"/>
                  <a:pt x="2733447" y="2966314"/>
                </a:cubicBezTo>
                <a:cubicBezTo>
                  <a:pt x="2923642" y="2952903"/>
                  <a:pt x="3085796" y="2856586"/>
                  <a:pt x="3282087" y="2863901"/>
                </a:cubicBezTo>
                <a:cubicBezTo>
                  <a:pt x="3478378" y="2871216"/>
                  <a:pt x="3746602" y="3008986"/>
                  <a:pt x="3911194" y="3010205"/>
                </a:cubicBezTo>
                <a:cubicBezTo>
                  <a:pt x="4075786" y="3011424"/>
                  <a:pt x="4181857" y="2932176"/>
                  <a:pt x="4269639" y="2871216"/>
                </a:cubicBezTo>
                <a:cubicBezTo>
                  <a:pt x="4357421" y="2810256"/>
                  <a:pt x="4395216" y="2728570"/>
                  <a:pt x="4437888" y="2644445"/>
                </a:cubicBezTo>
                <a:cubicBezTo>
                  <a:pt x="4480560" y="2560320"/>
                  <a:pt x="4472026" y="2438400"/>
                  <a:pt x="4525671" y="2366467"/>
                </a:cubicBezTo>
                <a:cubicBezTo>
                  <a:pt x="4579316" y="2294534"/>
                  <a:pt x="4708551" y="2282342"/>
                  <a:pt x="4759757" y="2212848"/>
                </a:cubicBezTo>
                <a:cubicBezTo>
                  <a:pt x="4810963" y="2143354"/>
                  <a:pt x="4803648" y="2015338"/>
                  <a:pt x="4832909" y="1949501"/>
                </a:cubicBezTo>
                <a:cubicBezTo>
                  <a:pt x="4862170" y="1883664"/>
                  <a:pt x="4925568" y="1887322"/>
                  <a:pt x="4935322" y="1817827"/>
                </a:cubicBezTo>
                <a:cubicBezTo>
                  <a:pt x="4945076" y="1748333"/>
                  <a:pt x="4879239" y="1627631"/>
                  <a:pt x="4891431" y="1532534"/>
                </a:cubicBezTo>
                <a:cubicBezTo>
                  <a:pt x="4903623" y="1437437"/>
                  <a:pt x="4993844" y="1350874"/>
                  <a:pt x="5008474" y="1247242"/>
                </a:cubicBezTo>
                <a:cubicBezTo>
                  <a:pt x="5023104" y="1143610"/>
                  <a:pt x="5015789" y="1015593"/>
                  <a:pt x="4979213" y="910742"/>
                </a:cubicBezTo>
                <a:cubicBezTo>
                  <a:pt x="4942637" y="805891"/>
                  <a:pt x="4825594" y="702259"/>
                  <a:pt x="4789018" y="618134"/>
                </a:cubicBezTo>
                <a:cubicBezTo>
                  <a:pt x="4752442" y="534009"/>
                  <a:pt x="4808525" y="476708"/>
                  <a:pt x="4759757" y="405994"/>
                </a:cubicBezTo>
                <a:cubicBezTo>
                  <a:pt x="4710989" y="335281"/>
                  <a:pt x="4575658" y="199949"/>
                  <a:pt x="4496410" y="193853"/>
                </a:cubicBezTo>
                <a:cubicBezTo>
                  <a:pt x="4417162" y="187757"/>
                  <a:pt x="4340352" y="329185"/>
                  <a:pt x="4284269" y="369418"/>
                </a:cubicBezTo>
                <a:cubicBezTo>
                  <a:pt x="4228186" y="409651"/>
                  <a:pt x="4222090" y="435254"/>
                  <a:pt x="4159911" y="435254"/>
                </a:cubicBezTo>
                <a:cubicBezTo>
                  <a:pt x="4097732" y="435254"/>
                  <a:pt x="3973373" y="412090"/>
                  <a:pt x="3911194" y="369418"/>
                </a:cubicBezTo>
                <a:cubicBezTo>
                  <a:pt x="3849015" y="326746"/>
                  <a:pt x="3795369" y="229209"/>
                  <a:pt x="3786835" y="179222"/>
                </a:cubicBezTo>
                <a:cubicBezTo>
                  <a:pt x="3778301" y="129235"/>
                  <a:pt x="3874617" y="97535"/>
                  <a:pt x="3859987" y="69494"/>
                </a:cubicBezTo>
                <a:cubicBezTo>
                  <a:pt x="3845357" y="41453"/>
                  <a:pt x="3806342" y="0"/>
                  <a:pt x="3699053" y="10973"/>
                </a:cubicBezTo>
                <a:cubicBezTo>
                  <a:pt x="3591764" y="21946"/>
                  <a:pt x="3362554" y="91440"/>
                  <a:pt x="3216250" y="135331"/>
                </a:cubicBezTo>
                <a:cubicBezTo>
                  <a:pt x="3069946" y="179222"/>
                  <a:pt x="2949245" y="246278"/>
                  <a:pt x="2821229" y="274320"/>
                </a:cubicBezTo>
                <a:cubicBezTo>
                  <a:pt x="2693213" y="302362"/>
                  <a:pt x="2570683" y="302971"/>
                  <a:pt x="2448154" y="303581"/>
                </a:cubicBezTo>
              </a:path>
            </a:pathLst>
          </a:custGeom>
          <a:solidFill>
            <a:srgbClr val="c0c0c0">
              <a:alpha val="33000"/>
            </a:srgbClr>
          </a:solidFill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82" name="Group 348"/>
          <p:cNvGrpSpPr/>
          <p:nvPr/>
        </p:nvGrpSpPr>
        <p:grpSpPr>
          <a:xfrm>
            <a:off x="2014560" y="4610160"/>
            <a:ext cx="1592280" cy="98280"/>
            <a:chOff x="2014560" y="4610160"/>
            <a:chExt cx="1592280" cy="98280"/>
          </a:xfrm>
        </p:grpSpPr>
        <p:grpSp>
          <p:nvGrpSpPr>
            <p:cNvPr id="283" name="Group 90"/>
            <p:cNvGrpSpPr/>
            <p:nvPr/>
          </p:nvGrpSpPr>
          <p:grpSpPr>
            <a:xfrm>
              <a:off x="2014560" y="4610160"/>
              <a:ext cx="45360" cy="98280"/>
              <a:chOff x="2014560" y="4610160"/>
              <a:chExt cx="45360" cy="98280"/>
            </a:xfrm>
          </p:grpSpPr>
          <p:sp>
            <p:nvSpPr>
              <p:cNvPr id="284" name="Oval 82"/>
              <p:cNvSpPr/>
              <p:nvPr/>
            </p:nvSpPr>
            <p:spPr>
              <a:xfrm flipH="1">
                <a:off x="201456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Straight Connector 84"/>
              <p:cNvSpPr/>
              <p:nvPr/>
            </p:nvSpPr>
            <p:spPr>
              <a:xfrm>
                <a:off x="2036520" y="4656240"/>
                <a:ext cx="936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Straight Connector 85"/>
              <p:cNvSpPr/>
              <p:nvPr/>
            </p:nvSpPr>
            <p:spPr>
              <a:xfrm flipH="1">
                <a:off x="2029680" y="4660920"/>
                <a:ext cx="75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87" name="Group 98"/>
            <p:cNvGrpSpPr/>
            <p:nvPr/>
          </p:nvGrpSpPr>
          <p:grpSpPr>
            <a:xfrm>
              <a:off x="2069280" y="4610160"/>
              <a:ext cx="45360" cy="98280"/>
              <a:chOff x="2069280" y="4610160"/>
              <a:chExt cx="45360" cy="98280"/>
            </a:xfrm>
          </p:grpSpPr>
          <p:sp>
            <p:nvSpPr>
              <p:cNvPr id="288" name="Oval 99"/>
              <p:cNvSpPr/>
              <p:nvPr/>
            </p:nvSpPr>
            <p:spPr>
              <a:xfrm flipH="1">
                <a:off x="206928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Straight Connector 100"/>
              <p:cNvSpPr/>
              <p:nvPr/>
            </p:nvSpPr>
            <p:spPr>
              <a:xfrm>
                <a:off x="2092320" y="4656240"/>
                <a:ext cx="792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Straight Connector 101"/>
              <p:cNvSpPr/>
              <p:nvPr/>
            </p:nvSpPr>
            <p:spPr>
              <a:xfrm flipH="1">
                <a:off x="2081160" y="4660920"/>
                <a:ext cx="972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91" name="Group 102"/>
            <p:cNvGrpSpPr/>
            <p:nvPr/>
          </p:nvGrpSpPr>
          <p:grpSpPr>
            <a:xfrm>
              <a:off x="2118960" y="4610160"/>
              <a:ext cx="45360" cy="98280"/>
              <a:chOff x="2118960" y="4610160"/>
              <a:chExt cx="45360" cy="98280"/>
            </a:xfrm>
          </p:grpSpPr>
          <p:sp>
            <p:nvSpPr>
              <p:cNvPr id="292" name="Oval 103"/>
              <p:cNvSpPr/>
              <p:nvPr/>
            </p:nvSpPr>
            <p:spPr>
              <a:xfrm flipH="1">
                <a:off x="211896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Straight Connector 104"/>
              <p:cNvSpPr/>
              <p:nvPr/>
            </p:nvSpPr>
            <p:spPr>
              <a:xfrm>
                <a:off x="2142360" y="4656240"/>
                <a:ext cx="936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Straight Connector 105"/>
              <p:cNvSpPr/>
              <p:nvPr/>
            </p:nvSpPr>
            <p:spPr>
              <a:xfrm flipH="1">
                <a:off x="2131560" y="4660920"/>
                <a:ext cx="1080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95" name="Group 107"/>
            <p:cNvGrpSpPr/>
            <p:nvPr/>
          </p:nvGrpSpPr>
          <p:grpSpPr>
            <a:xfrm>
              <a:off x="2169000" y="4610160"/>
              <a:ext cx="45360" cy="98280"/>
              <a:chOff x="2169000" y="4610160"/>
              <a:chExt cx="45360" cy="98280"/>
            </a:xfrm>
          </p:grpSpPr>
          <p:sp>
            <p:nvSpPr>
              <p:cNvPr id="296" name="Oval 108"/>
              <p:cNvSpPr/>
              <p:nvPr/>
            </p:nvSpPr>
            <p:spPr>
              <a:xfrm flipH="1">
                <a:off x="216900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Straight Connector 109"/>
              <p:cNvSpPr/>
              <p:nvPr/>
            </p:nvSpPr>
            <p:spPr>
              <a:xfrm>
                <a:off x="2192040" y="4656240"/>
                <a:ext cx="792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Straight Connector 110"/>
              <p:cNvSpPr/>
              <p:nvPr/>
            </p:nvSpPr>
            <p:spPr>
              <a:xfrm flipH="1">
                <a:off x="2181960" y="4660920"/>
                <a:ext cx="792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99" name="Group 111"/>
            <p:cNvGrpSpPr/>
            <p:nvPr/>
          </p:nvGrpSpPr>
          <p:grpSpPr>
            <a:xfrm>
              <a:off x="2223720" y="4610160"/>
              <a:ext cx="45360" cy="98280"/>
              <a:chOff x="2223720" y="4610160"/>
              <a:chExt cx="45360" cy="98280"/>
            </a:xfrm>
          </p:grpSpPr>
          <p:sp>
            <p:nvSpPr>
              <p:cNvPr id="300" name="Oval 112"/>
              <p:cNvSpPr/>
              <p:nvPr/>
            </p:nvSpPr>
            <p:spPr>
              <a:xfrm flipH="1">
                <a:off x="222372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Straight Connector 113"/>
              <p:cNvSpPr/>
              <p:nvPr/>
            </p:nvSpPr>
            <p:spPr>
              <a:xfrm>
                <a:off x="2244240" y="4656240"/>
                <a:ext cx="936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Straight Connector 114"/>
              <p:cNvSpPr/>
              <p:nvPr/>
            </p:nvSpPr>
            <p:spPr>
              <a:xfrm flipH="1">
                <a:off x="2237040" y="4660920"/>
                <a:ext cx="75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03" name="Group 115"/>
            <p:cNvGrpSpPr/>
            <p:nvPr/>
          </p:nvGrpSpPr>
          <p:grpSpPr>
            <a:xfrm>
              <a:off x="2273760" y="4610160"/>
              <a:ext cx="45360" cy="98280"/>
              <a:chOff x="2273760" y="4610160"/>
              <a:chExt cx="45360" cy="98280"/>
            </a:xfrm>
          </p:grpSpPr>
          <p:sp>
            <p:nvSpPr>
              <p:cNvPr id="304" name="Oval 116"/>
              <p:cNvSpPr/>
              <p:nvPr/>
            </p:nvSpPr>
            <p:spPr>
              <a:xfrm flipH="1">
                <a:off x="227376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Straight Connector 117"/>
              <p:cNvSpPr/>
              <p:nvPr/>
            </p:nvSpPr>
            <p:spPr>
              <a:xfrm>
                <a:off x="2295000" y="4656240"/>
                <a:ext cx="792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Straight Connector 118"/>
              <p:cNvSpPr/>
              <p:nvPr/>
            </p:nvSpPr>
            <p:spPr>
              <a:xfrm flipH="1">
                <a:off x="2287440" y="4660920"/>
                <a:ext cx="468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07" name="Group 119"/>
            <p:cNvGrpSpPr/>
            <p:nvPr/>
          </p:nvGrpSpPr>
          <p:grpSpPr>
            <a:xfrm>
              <a:off x="2323800" y="4610160"/>
              <a:ext cx="45360" cy="98280"/>
              <a:chOff x="2323800" y="4610160"/>
              <a:chExt cx="45360" cy="98280"/>
            </a:xfrm>
          </p:grpSpPr>
          <p:sp>
            <p:nvSpPr>
              <p:cNvPr id="308" name="Oval 120"/>
              <p:cNvSpPr/>
              <p:nvPr/>
            </p:nvSpPr>
            <p:spPr>
              <a:xfrm flipH="1">
                <a:off x="232380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Straight Connector 121"/>
              <p:cNvSpPr/>
              <p:nvPr/>
            </p:nvSpPr>
            <p:spPr>
              <a:xfrm>
                <a:off x="2346480" y="4656240"/>
                <a:ext cx="756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Straight Connector 122"/>
              <p:cNvSpPr/>
              <p:nvPr/>
            </p:nvSpPr>
            <p:spPr>
              <a:xfrm flipH="1">
                <a:off x="2338920" y="4660920"/>
                <a:ext cx="75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11" name="Group 123"/>
            <p:cNvGrpSpPr/>
            <p:nvPr/>
          </p:nvGrpSpPr>
          <p:grpSpPr>
            <a:xfrm>
              <a:off x="2378520" y="4610160"/>
              <a:ext cx="45360" cy="98280"/>
              <a:chOff x="2378520" y="4610160"/>
              <a:chExt cx="45360" cy="98280"/>
            </a:xfrm>
          </p:grpSpPr>
          <p:sp>
            <p:nvSpPr>
              <p:cNvPr id="312" name="Oval 124"/>
              <p:cNvSpPr/>
              <p:nvPr/>
            </p:nvSpPr>
            <p:spPr>
              <a:xfrm flipH="1">
                <a:off x="237852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Straight Connector 125"/>
              <p:cNvSpPr/>
              <p:nvPr/>
            </p:nvSpPr>
            <p:spPr>
              <a:xfrm>
                <a:off x="2404080" y="4656240"/>
                <a:ext cx="612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Straight Connector 126"/>
              <p:cNvSpPr/>
              <p:nvPr/>
            </p:nvSpPr>
            <p:spPr>
              <a:xfrm flipH="1">
                <a:off x="2393640" y="4660920"/>
                <a:ext cx="75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15" name="Group 127"/>
            <p:cNvGrpSpPr/>
            <p:nvPr/>
          </p:nvGrpSpPr>
          <p:grpSpPr>
            <a:xfrm>
              <a:off x="2428560" y="4610160"/>
              <a:ext cx="45360" cy="98280"/>
              <a:chOff x="2428560" y="4610160"/>
              <a:chExt cx="45360" cy="98280"/>
            </a:xfrm>
          </p:grpSpPr>
          <p:sp>
            <p:nvSpPr>
              <p:cNvPr id="316" name="Oval 128"/>
              <p:cNvSpPr/>
              <p:nvPr/>
            </p:nvSpPr>
            <p:spPr>
              <a:xfrm flipH="1">
                <a:off x="242856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Straight Connector 129"/>
              <p:cNvSpPr/>
              <p:nvPr/>
            </p:nvSpPr>
            <p:spPr>
              <a:xfrm>
                <a:off x="2451960" y="4656240"/>
                <a:ext cx="936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Straight Connector 130"/>
              <p:cNvSpPr/>
              <p:nvPr/>
            </p:nvSpPr>
            <p:spPr>
              <a:xfrm flipH="1">
                <a:off x="2442600" y="4660920"/>
                <a:ext cx="93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19" name="Group 131"/>
            <p:cNvGrpSpPr/>
            <p:nvPr/>
          </p:nvGrpSpPr>
          <p:grpSpPr>
            <a:xfrm>
              <a:off x="2478600" y="4610160"/>
              <a:ext cx="45360" cy="98280"/>
              <a:chOff x="2478600" y="4610160"/>
              <a:chExt cx="45360" cy="98280"/>
            </a:xfrm>
          </p:grpSpPr>
          <p:sp>
            <p:nvSpPr>
              <p:cNvPr id="320" name="Oval 132"/>
              <p:cNvSpPr/>
              <p:nvPr/>
            </p:nvSpPr>
            <p:spPr>
              <a:xfrm flipH="1">
                <a:off x="247860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Straight Connector 133"/>
              <p:cNvSpPr/>
              <p:nvPr/>
            </p:nvSpPr>
            <p:spPr>
              <a:xfrm>
                <a:off x="2502720" y="4656240"/>
                <a:ext cx="756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Straight Connector 134"/>
              <p:cNvSpPr/>
              <p:nvPr/>
            </p:nvSpPr>
            <p:spPr>
              <a:xfrm flipH="1">
                <a:off x="2493360" y="4660920"/>
                <a:ext cx="612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23" name="Group 135"/>
            <p:cNvGrpSpPr/>
            <p:nvPr/>
          </p:nvGrpSpPr>
          <p:grpSpPr>
            <a:xfrm>
              <a:off x="2533320" y="4610160"/>
              <a:ext cx="45360" cy="98280"/>
              <a:chOff x="2533320" y="4610160"/>
              <a:chExt cx="45360" cy="98280"/>
            </a:xfrm>
          </p:grpSpPr>
          <p:sp>
            <p:nvSpPr>
              <p:cNvPr id="324" name="Oval 136"/>
              <p:cNvSpPr/>
              <p:nvPr/>
            </p:nvSpPr>
            <p:spPr>
              <a:xfrm flipH="1">
                <a:off x="253332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Straight Connector 137"/>
              <p:cNvSpPr/>
              <p:nvPr/>
            </p:nvSpPr>
            <p:spPr>
              <a:xfrm>
                <a:off x="2553840" y="4656240"/>
                <a:ext cx="936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Straight Connector 138"/>
              <p:cNvSpPr/>
              <p:nvPr/>
            </p:nvSpPr>
            <p:spPr>
              <a:xfrm flipH="1">
                <a:off x="2546640" y="4660920"/>
                <a:ext cx="75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27" name="Group 139"/>
            <p:cNvGrpSpPr/>
            <p:nvPr/>
          </p:nvGrpSpPr>
          <p:grpSpPr>
            <a:xfrm>
              <a:off x="2583000" y="4610160"/>
              <a:ext cx="45360" cy="98280"/>
              <a:chOff x="2583000" y="4610160"/>
              <a:chExt cx="45360" cy="98280"/>
            </a:xfrm>
          </p:grpSpPr>
          <p:sp>
            <p:nvSpPr>
              <p:cNvPr id="328" name="Oval 140"/>
              <p:cNvSpPr/>
              <p:nvPr/>
            </p:nvSpPr>
            <p:spPr>
              <a:xfrm flipH="1">
                <a:off x="258300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Straight Connector 141"/>
              <p:cNvSpPr/>
              <p:nvPr/>
            </p:nvSpPr>
            <p:spPr>
              <a:xfrm>
                <a:off x="2605680" y="4656240"/>
                <a:ext cx="756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Straight Connector 142"/>
              <p:cNvSpPr/>
              <p:nvPr/>
            </p:nvSpPr>
            <p:spPr>
              <a:xfrm flipH="1">
                <a:off x="2596320" y="4660920"/>
                <a:ext cx="612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31" name="Group 143"/>
            <p:cNvGrpSpPr/>
            <p:nvPr/>
          </p:nvGrpSpPr>
          <p:grpSpPr>
            <a:xfrm>
              <a:off x="2633040" y="4610160"/>
              <a:ext cx="45360" cy="98280"/>
              <a:chOff x="2633040" y="4610160"/>
              <a:chExt cx="45360" cy="98280"/>
            </a:xfrm>
          </p:grpSpPr>
          <p:sp>
            <p:nvSpPr>
              <p:cNvPr id="332" name="Oval 144"/>
              <p:cNvSpPr/>
              <p:nvPr/>
            </p:nvSpPr>
            <p:spPr>
              <a:xfrm flipH="1">
                <a:off x="263304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Straight Connector 145"/>
              <p:cNvSpPr/>
              <p:nvPr/>
            </p:nvSpPr>
            <p:spPr>
              <a:xfrm>
                <a:off x="2653560" y="4656240"/>
                <a:ext cx="1080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Straight Connector 146"/>
              <p:cNvSpPr/>
              <p:nvPr/>
            </p:nvSpPr>
            <p:spPr>
              <a:xfrm flipH="1">
                <a:off x="2643840" y="4660920"/>
                <a:ext cx="93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35" name="Group 147"/>
            <p:cNvGrpSpPr/>
            <p:nvPr/>
          </p:nvGrpSpPr>
          <p:grpSpPr>
            <a:xfrm>
              <a:off x="2687760" y="4610160"/>
              <a:ext cx="45360" cy="98280"/>
              <a:chOff x="2687760" y="4610160"/>
              <a:chExt cx="45360" cy="98280"/>
            </a:xfrm>
          </p:grpSpPr>
          <p:sp>
            <p:nvSpPr>
              <p:cNvPr id="336" name="Oval 148"/>
              <p:cNvSpPr/>
              <p:nvPr/>
            </p:nvSpPr>
            <p:spPr>
              <a:xfrm flipH="1">
                <a:off x="268776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Straight Connector 149"/>
              <p:cNvSpPr/>
              <p:nvPr/>
            </p:nvSpPr>
            <p:spPr>
              <a:xfrm>
                <a:off x="2713320" y="4656240"/>
                <a:ext cx="612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Straight Connector 150"/>
              <p:cNvSpPr/>
              <p:nvPr/>
            </p:nvSpPr>
            <p:spPr>
              <a:xfrm flipH="1">
                <a:off x="2702880" y="4660920"/>
                <a:ext cx="75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39" name="Group 151"/>
            <p:cNvGrpSpPr/>
            <p:nvPr/>
          </p:nvGrpSpPr>
          <p:grpSpPr>
            <a:xfrm>
              <a:off x="2737800" y="4610160"/>
              <a:ext cx="45360" cy="98280"/>
              <a:chOff x="2737800" y="4610160"/>
              <a:chExt cx="45360" cy="98280"/>
            </a:xfrm>
          </p:grpSpPr>
          <p:sp>
            <p:nvSpPr>
              <p:cNvPr id="340" name="Oval 152"/>
              <p:cNvSpPr/>
              <p:nvPr/>
            </p:nvSpPr>
            <p:spPr>
              <a:xfrm flipH="1">
                <a:off x="273780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Straight Connector 153"/>
              <p:cNvSpPr/>
              <p:nvPr/>
            </p:nvSpPr>
            <p:spPr>
              <a:xfrm>
                <a:off x="2760840" y="4656240"/>
                <a:ext cx="792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Straight Connector 154"/>
              <p:cNvSpPr/>
              <p:nvPr/>
            </p:nvSpPr>
            <p:spPr>
              <a:xfrm flipH="1">
                <a:off x="2752560" y="4660920"/>
                <a:ext cx="792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43" name="Group 155"/>
            <p:cNvGrpSpPr/>
            <p:nvPr/>
          </p:nvGrpSpPr>
          <p:grpSpPr>
            <a:xfrm>
              <a:off x="2787840" y="4610160"/>
              <a:ext cx="45360" cy="98280"/>
              <a:chOff x="2787840" y="4610160"/>
              <a:chExt cx="45360" cy="98280"/>
            </a:xfrm>
          </p:grpSpPr>
          <p:sp>
            <p:nvSpPr>
              <p:cNvPr id="344" name="Oval 156"/>
              <p:cNvSpPr/>
              <p:nvPr/>
            </p:nvSpPr>
            <p:spPr>
              <a:xfrm flipH="1">
                <a:off x="278784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5" name="Straight Connector 157"/>
              <p:cNvSpPr/>
              <p:nvPr/>
            </p:nvSpPr>
            <p:spPr>
              <a:xfrm>
                <a:off x="2811960" y="4656240"/>
                <a:ext cx="756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6" name="Straight Connector 158"/>
              <p:cNvSpPr/>
              <p:nvPr/>
            </p:nvSpPr>
            <p:spPr>
              <a:xfrm flipH="1">
                <a:off x="2801160" y="4660920"/>
                <a:ext cx="75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47" name="Group 159"/>
            <p:cNvGrpSpPr/>
            <p:nvPr/>
          </p:nvGrpSpPr>
          <p:grpSpPr>
            <a:xfrm>
              <a:off x="2842560" y="4610160"/>
              <a:ext cx="45360" cy="98280"/>
              <a:chOff x="2842560" y="4610160"/>
              <a:chExt cx="45360" cy="98280"/>
            </a:xfrm>
          </p:grpSpPr>
          <p:sp>
            <p:nvSpPr>
              <p:cNvPr id="348" name="Oval 160"/>
              <p:cNvSpPr/>
              <p:nvPr/>
            </p:nvSpPr>
            <p:spPr>
              <a:xfrm flipH="1">
                <a:off x="284256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9" name="Straight Connector 161"/>
              <p:cNvSpPr/>
              <p:nvPr/>
            </p:nvSpPr>
            <p:spPr>
              <a:xfrm>
                <a:off x="2863800" y="4656240"/>
                <a:ext cx="792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0" name="Straight Connector 162"/>
              <p:cNvSpPr/>
              <p:nvPr/>
            </p:nvSpPr>
            <p:spPr>
              <a:xfrm flipH="1">
                <a:off x="2853000" y="4660920"/>
                <a:ext cx="111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51" name="Group 163"/>
            <p:cNvGrpSpPr/>
            <p:nvPr/>
          </p:nvGrpSpPr>
          <p:grpSpPr>
            <a:xfrm>
              <a:off x="2892600" y="4610160"/>
              <a:ext cx="45360" cy="98280"/>
              <a:chOff x="2892600" y="4610160"/>
              <a:chExt cx="45360" cy="98280"/>
            </a:xfrm>
          </p:grpSpPr>
          <p:sp>
            <p:nvSpPr>
              <p:cNvPr id="352" name="Oval 164"/>
              <p:cNvSpPr/>
              <p:nvPr/>
            </p:nvSpPr>
            <p:spPr>
              <a:xfrm flipH="1">
                <a:off x="289260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3" name="Straight Connector 165"/>
              <p:cNvSpPr/>
              <p:nvPr/>
            </p:nvSpPr>
            <p:spPr>
              <a:xfrm>
                <a:off x="2914560" y="4656240"/>
                <a:ext cx="936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4" name="Straight Connector 166"/>
              <p:cNvSpPr/>
              <p:nvPr/>
            </p:nvSpPr>
            <p:spPr>
              <a:xfrm flipH="1">
                <a:off x="2905920" y="4660920"/>
                <a:ext cx="75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55" name="Group 167"/>
            <p:cNvGrpSpPr/>
            <p:nvPr/>
          </p:nvGrpSpPr>
          <p:grpSpPr>
            <a:xfrm>
              <a:off x="2940120" y="4610160"/>
              <a:ext cx="45360" cy="98280"/>
              <a:chOff x="2940120" y="4610160"/>
              <a:chExt cx="45360" cy="98280"/>
            </a:xfrm>
          </p:grpSpPr>
          <p:sp>
            <p:nvSpPr>
              <p:cNvPr id="356" name="Oval 168"/>
              <p:cNvSpPr/>
              <p:nvPr/>
            </p:nvSpPr>
            <p:spPr>
              <a:xfrm flipH="1">
                <a:off x="294012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7" name="Straight Connector 169"/>
              <p:cNvSpPr/>
              <p:nvPr/>
            </p:nvSpPr>
            <p:spPr>
              <a:xfrm>
                <a:off x="2962800" y="4656240"/>
                <a:ext cx="756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8" name="Straight Connector 170"/>
              <p:cNvSpPr/>
              <p:nvPr/>
            </p:nvSpPr>
            <p:spPr>
              <a:xfrm flipH="1">
                <a:off x="2953440" y="4660920"/>
                <a:ext cx="75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59" name="Group 171"/>
            <p:cNvGrpSpPr/>
            <p:nvPr/>
          </p:nvGrpSpPr>
          <p:grpSpPr>
            <a:xfrm>
              <a:off x="2994840" y="4610160"/>
              <a:ext cx="45360" cy="98280"/>
              <a:chOff x="2994840" y="4610160"/>
              <a:chExt cx="45360" cy="98280"/>
            </a:xfrm>
          </p:grpSpPr>
          <p:sp>
            <p:nvSpPr>
              <p:cNvPr id="360" name="Oval 172"/>
              <p:cNvSpPr/>
              <p:nvPr/>
            </p:nvSpPr>
            <p:spPr>
              <a:xfrm flipH="1">
                <a:off x="299484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1" name="Straight Connector 173"/>
              <p:cNvSpPr/>
              <p:nvPr/>
            </p:nvSpPr>
            <p:spPr>
              <a:xfrm>
                <a:off x="3016080" y="4656240"/>
                <a:ext cx="792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2" name="Straight Connector 174"/>
              <p:cNvSpPr/>
              <p:nvPr/>
            </p:nvSpPr>
            <p:spPr>
              <a:xfrm flipH="1">
                <a:off x="3005280" y="4660920"/>
                <a:ext cx="111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63" name="Group 175"/>
            <p:cNvGrpSpPr/>
            <p:nvPr/>
          </p:nvGrpSpPr>
          <p:grpSpPr>
            <a:xfrm>
              <a:off x="3044880" y="4610160"/>
              <a:ext cx="45360" cy="98280"/>
              <a:chOff x="3044880" y="4610160"/>
              <a:chExt cx="45360" cy="98280"/>
            </a:xfrm>
          </p:grpSpPr>
          <p:sp>
            <p:nvSpPr>
              <p:cNvPr id="364" name="Oval 176"/>
              <p:cNvSpPr/>
              <p:nvPr/>
            </p:nvSpPr>
            <p:spPr>
              <a:xfrm flipH="1">
                <a:off x="304488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5" name="Straight Connector 177"/>
              <p:cNvSpPr/>
              <p:nvPr/>
            </p:nvSpPr>
            <p:spPr>
              <a:xfrm>
                <a:off x="3066840" y="4656240"/>
                <a:ext cx="936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6" name="Straight Connector 178"/>
              <p:cNvSpPr/>
              <p:nvPr/>
            </p:nvSpPr>
            <p:spPr>
              <a:xfrm flipH="1">
                <a:off x="3058200" y="4660920"/>
                <a:ext cx="75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67" name="Group 179"/>
            <p:cNvGrpSpPr/>
            <p:nvPr/>
          </p:nvGrpSpPr>
          <p:grpSpPr>
            <a:xfrm>
              <a:off x="3094920" y="4610160"/>
              <a:ext cx="45360" cy="98280"/>
              <a:chOff x="3094920" y="4610160"/>
              <a:chExt cx="45360" cy="98280"/>
            </a:xfrm>
          </p:grpSpPr>
          <p:sp>
            <p:nvSpPr>
              <p:cNvPr id="368" name="Oval 180"/>
              <p:cNvSpPr/>
              <p:nvPr/>
            </p:nvSpPr>
            <p:spPr>
              <a:xfrm flipH="1">
                <a:off x="309492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Straight Connector 181"/>
              <p:cNvSpPr/>
              <p:nvPr/>
            </p:nvSpPr>
            <p:spPr>
              <a:xfrm>
                <a:off x="3116880" y="4656240"/>
                <a:ext cx="936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0" name="Straight Connector 182"/>
              <p:cNvSpPr/>
              <p:nvPr/>
            </p:nvSpPr>
            <p:spPr>
              <a:xfrm flipH="1">
                <a:off x="3107520" y="4660920"/>
                <a:ext cx="93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71" name="Group 183"/>
            <p:cNvGrpSpPr/>
            <p:nvPr/>
          </p:nvGrpSpPr>
          <p:grpSpPr>
            <a:xfrm>
              <a:off x="3149640" y="4610160"/>
              <a:ext cx="45360" cy="98280"/>
              <a:chOff x="3149640" y="4610160"/>
              <a:chExt cx="45360" cy="98280"/>
            </a:xfrm>
          </p:grpSpPr>
          <p:sp>
            <p:nvSpPr>
              <p:cNvPr id="372" name="Oval 184"/>
              <p:cNvSpPr/>
              <p:nvPr/>
            </p:nvSpPr>
            <p:spPr>
              <a:xfrm flipH="1">
                <a:off x="314964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3" name="Straight Connector 185"/>
              <p:cNvSpPr/>
              <p:nvPr/>
            </p:nvSpPr>
            <p:spPr>
              <a:xfrm>
                <a:off x="3173760" y="4656240"/>
                <a:ext cx="612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Straight Connector 186"/>
              <p:cNvSpPr/>
              <p:nvPr/>
            </p:nvSpPr>
            <p:spPr>
              <a:xfrm flipH="1">
                <a:off x="3164760" y="4660920"/>
                <a:ext cx="75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75" name="Group 187"/>
            <p:cNvGrpSpPr/>
            <p:nvPr/>
          </p:nvGrpSpPr>
          <p:grpSpPr>
            <a:xfrm>
              <a:off x="3199680" y="4610160"/>
              <a:ext cx="45360" cy="98280"/>
              <a:chOff x="3199680" y="4610160"/>
              <a:chExt cx="45360" cy="98280"/>
            </a:xfrm>
          </p:grpSpPr>
          <p:sp>
            <p:nvSpPr>
              <p:cNvPr id="376" name="Oval 188"/>
              <p:cNvSpPr/>
              <p:nvPr/>
            </p:nvSpPr>
            <p:spPr>
              <a:xfrm flipH="1">
                <a:off x="319968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Straight Connector 189"/>
              <p:cNvSpPr/>
              <p:nvPr/>
            </p:nvSpPr>
            <p:spPr>
              <a:xfrm>
                <a:off x="3223800" y="4656240"/>
                <a:ext cx="756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8" name="Straight Connector 190"/>
              <p:cNvSpPr/>
              <p:nvPr/>
            </p:nvSpPr>
            <p:spPr>
              <a:xfrm flipH="1">
                <a:off x="3212280" y="4660920"/>
                <a:ext cx="1080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79" name="Group 191"/>
            <p:cNvGrpSpPr/>
            <p:nvPr/>
          </p:nvGrpSpPr>
          <p:grpSpPr>
            <a:xfrm>
              <a:off x="3249720" y="4610160"/>
              <a:ext cx="45360" cy="98280"/>
              <a:chOff x="3249720" y="4610160"/>
              <a:chExt cx="45360" cy="98280"/>
            </a:xfrm>
          </p:grpSpPr>
          <p:sp>
            <p:nvSpPr>
              <p:cNvPr id="380" name="Oval 192"/>
              <p:cNvSpPr/>
              <p:nvPr/>
            </p:nvSpPr>
            <p:spPr>
              <a:xfrm flipH="1">
                <a:off x="324972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1" name="Straight Connector 193"/>
              <p:cNvSpPr/>
              <p:nvPr/>
            </p:nvSpPr>
            <p:spPr>
              <a:xfrm>
                <a:off x="3270240" y="4656240"/>
                <a:ext cx="936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2" name="Straight Connector 194"/>
              <p:cNvSpPr/>
              <p:nvPr/>
            </p:nvSpPr>
            <p:spPr>
              <a:xfrm flipH="1">
                <a:off x="3263040" y="4660920"/>
                <a:ext cx="612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83" name="Group 195"/>
            <p:cNvGrpSpPr/>
            <p:nvPr/>
          </p:nvGrpSpPr>
          <p:grpSpPr>
            <a:xfrm>
              <a:off x="3304440" y="4610160"/>
              <a:ext cx="45360" cy="98280"/>
              <a:chOff x="3304440" y="4610160"/>
              <a:chExt cx="45360" cy="98280"/>
            </a:xfrm>
          </p:grpSpPr>
          <p:sp>
            <p:nvSpPr>
              <p:cNvPr id="384" name="Oval 196"/>
              <p:cNvSpPr/>
              <p:nvPr/>
            </p:nvSpPr>
            <p:spPr>
              <a:xfrm flipH="1">
                <a:off x="330444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5" name="Straight Connector 197"/>
              <p:cNvSpPr/>
              <p:nvPr/>
            </p:nvSpPr>
            <p:spPr>
              <a:xfrm>
                <a:off x="3324960" y="4656240"/>
                <a:ext cx="1080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Straight Connector 198"/>
              <p:cNvSpPr/>
              <p:nvPr/>
            </p:nvSpPr>
            <p:spPr>
              <a:xfrm flipH="1">
                <a:off x="3315240" y="4660920"/>
                <a:ext cx="93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87" name="Group 199"/>
            <p:cNvGrpSpPr/>
            <p:nvPr/>
          </p:nvGrpSpPr>
          <p:grpSpPr>
            <a:xfrm>
              <a:off x="3354120" y="4610160"/>
              <a:ext cx="45360" cy="98280"/>
              <a:chOff x="3354120" y="4610160"/>
              <a:chExt cx="45360" cy="98280"/>
            </a:xfrm>
          </p:grpSpPr>
          <p:sp>
            <p:nvSpPr>
              <p:cNvPr id="388" name="Oval 200"/>
              <p:cNvSpPr/>
              <p:nvPr/>
            </p:nvSpPr>
            <p:spPr>
              <a:xfrm flipH="1">
                <a:off x="335412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Straight Connector 201"/>
              <p:cNvSpPr/>
              <p:nvPr/>
            </p:nvSpPr>
            <p:spPr>
              <a:xfrm>
                <a:off x="3381480" y="4656240"/>
                <a:ext cx="648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0" name="Straight Connector 202"/>
              <p:cNvSpPr/>
              <p:nvPr/>
            </p:nvSpPr>
            <p:spPr>
              <a:xfrm flipH="1">
                <a:off x="3373560" y="4660920"/>
                <a:ext cx="648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91" name="Group 203"/>
            <p:cNvGrpSpPr/>
            <p:nvPr/>
          </p:nvGrpSpPr>
          <p:grpSpPr>
            <a:xfrm>
              <a:off x="3406680" y="4610160"/>
              <a:ext cx="45360" cy="98280"/>
              <a:chOff x="3406680" y="4610160"/>
              <a:chExt cx="45360" cy="98280"/>
            </a:xfrm>
          </p:grpSpPr>
          <p:sp>
            <p:nvSpPr>
              <p:cNvPr id="392" name="Oval 204"/>
              <p:cNvSpPr/>
              <p:nvPr/>
            </p:nvSpPr>
            <p:spPr>
              <a:xfrm flipH="1">
                <a:off x="340668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3" name="Straight Connector 205"/>
              <p:cNvSpPr/>
              <p:nvPr/>
            </p:nvSpPr>
            <p:spPr>
              <a:xfrm>
                <a:off x="3429720" y="4656240"/>
                <a:ext cx="792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4" name="Straight Connector 206"/>
              <p:cNvSpPr/>
              <p:nvPr/>
            </p:nvSpPr>
            <p:spPr>
              <a:xfrm flipH="1">
                <a:off x="3419640" y="4660920"/>
                <a:ext cx="792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95" name="Group 207"/>
            <p:cNvGrpSpPr/>
            <p:nvPr/>
          </p:nvGrpSpPr>
          <p:grpSpPr>
            <a:xfrm>
              <a:off x="3461400" y="4610160"/>
              <a:ext cx="45360" cy="98280"/>
              <a:chOff x="3461400" y="4610160"/>
              <a:chExt cx="45360" cy="98280"/>
            </a:xfrm>
          </p:grpSpPr>
          <p:sp>
            <p:nvSpPr>
              <p:cNvPr id="396" name="Oval 208"/>
              <p:cNvSpPr/>
              <p:nvPr/>
            </p:nvSpPr>
            <p:spPr>
              <a:xfrm flipH="1">
                <a:off x="346140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7" name="Straight Connector 209"/>
              <p:cNvSpPr/>
              <p:nvPr/>
            </p:nvSpPr>
            <p:spPr>
              <a:xfrm>
                <a:off x="3483360" y="4656240"/>
                <a:ext cx="936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8" name="Straight Connector 210"/>
              <p:cNvSpPr/>
              <p:nvPr/>
            </p:nvSpPr>
            <p:spPr>
              <a:xfrm flipH="1">
                <a:off x="3472560" y="4660920"/>
                <a:ext cx="1080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99" name="Group 211"/>
            <p:cNvGrpSpPr/>
            <p:nvPr/>
          </p:nvGrpSpPr>
          <p:grpSpPr>
            <a:xfrm>
              <a:off x="3511440" y="4610160"/>
              <a:ext cx="45360" cy="98280"/>
              <a:chOff x="3511440" y="4610160"/>
              <a:chExt cx="45360" cy="98280"/>
            </a:xfrm>
          </p:grpSpPr>
          <p:sp>
            <p:nvSpPr>
              <p:cNvPr id="400" name="Oval 212"/>
              <p:cNvSpPr/>
              <p:nvPr/>
            </p:nvSpPr>
            <p:spPr>
              <a:xfrm flipH="1">
                <a:off x="351144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Straight Connector 213"/>
              <p:cNvSpPr/>
              <p:nvPr/>
            </p:nvSpPr>
            <p:spPr>
              <a:xfrm>
                <a:off x="3534480" y="4656240"/>
                <a:ext cx="792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2" name="Straight Connector 214"/>
              <p:cNvSpPr/>
              <p:nvPr/>
            </p:nvSpPr>
            <p:spPr>
              <a:xfrm flipH="1">
                <a:off x="3524400" y="4660920"/>
                <a:ext cx="792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03" name="Group 215"/>
            <p:cNvGrpSpPr/>
            <p:nvPr/>
          </p:nvGrpSpPr>
          <p:grpSpPr>
            <a:xfrm>
              <a:off x="3561480" y="4610160"/>
              <a:ext cx="45360" cy="98280"/>
              <a:chOff x="3561480" y="4610160"/>
              <a:chExt cx="45360" cy="98280"/>
            </a:xfrm>
          </p:grpSpPr>
          <p:sp>
            <p:nvSpPr>
              <p:cNvPr id="404" name="Oval 216"/>
              <p:cNvSpPr/>
              <p:nvPr/>
            </p:nvSpPr>
            <p:spPr>
              <a:xfrm flipH="1">
                <a:off x="356148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5" name="Straight Connector 217"/>
              <p:cNvSpPr/>
              <p:nvPr/>
            </p:nvSpPr>
            <p:spPr>
              <a:xfrm>
                <a:off x="3584160" y="4656240"/>
                <a:ext cx="756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6" name="Straight Connector 218"/>
              <p:cNvSpPr/>
              <p:nvPr/>
            </p:nvSpPr>
            <p:spPr>
              <a:xfrm flipH="1">
                <a:off x="3574080" y="4660920"/>
                <a:ext cx="93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407" name="Group 347"/>
          <p:cNvGrpSpPr/>
          <p:nvPr/>
        </p:nvGrpSpPr>
        <p:grpSpPr>
          <a:xfrm>
            <a:off x="2014200" y="4703400"/>
            <a:ext cx="1592280" cy="98280"/>
            <a:chOff x="2014200" y="4703400"/>
            <a:chExt cx="1592280" cy="98280"/>
          </a:xfrm>
        </p:grpSpPr>
        <p:grpSp>
          <p:nvGrpSpPr>
            <p:cNvPr id="408" name="Group 223"/>
            <p:cNvGrpSpPr/>
            <p:nvPr/>
          </p:nvGrpSpPr>
          <p:grpSpPr>
            <a:xfrm>
              <a:off x="3561120" y="4703400"/>
              <a:ext cx="45360" cy="98280"/>
              <a:chOff x="3561120" y="4703400"/>
              <a:chExt cx="45360" cy="98280"/>
            </a:xfrm>
          </p:grpSpPr>
          <p:sp>
            <p:nvSpPr>
              <p:cNvPr id="409" name="Oval 224"/>
              <p:cNvSpPr/>
              <p:nvPr/>
            </p:nvSpPr>
            <p:spPr>
              <a:xfrm flipH="1" rot="10800000">
                <a:off x="3561120" y="4738680"/>
                <a:ext cx="4536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Straight Connector 225"/>
              <p:cNvSpPr/>
              <p:nvPr/>
            </p:nvSpPr>
            <p:spPr>
              <a:xfrm flipH="1" flipV="1">
                <a:off x="3593880" y="4703400"/>
                <a:ext cx="540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Straight Connector 226"/>
              <p:cNvSpPr/>
              <p:nvPr/>
            </p:nvSpPr>
            <p:spPr>
              <a:xfrm flipV="1">
                <a:off x="3596400" y="4788000"/>
                <a:ext cx="684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12" name="Group 227"/>
            <p:cNvGrpSpPr/>
            <p:nvPr/>
          </p:nvGrpSpPr>
          <p:grpSpPr>
            <a:xfrm>
              <a:off x="3506400" y="4703400"/>
              <a:ext cx="45360" cy="98280"/>
              <a:chOff x="3506400" y="4703400"/>
              <a:chExt cx="45360" cy="98280"/>
            </a:xfrm>
          </p:grpSpPr>
          <p:sp>
            <p:nvSpPr>
              <p:cNvPr id="413" name="Oval 228"/>
              <p:cNvSpPr/>
              <p:nvPr/>
            </p:nvSpPr>
            <p:spPr>
              <a:xfrm flipH="1" rot="10800000">
                <a:off x="3506400" y="4738680"/>
                <a:ext cx="432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4" name="Straight Connector 229"/>
              <p:cNvSpPr/>
              <p:nvPr/>
            </p:nvSpPr>
            <p:spPr>
              <a:xfrm flipH="1" flipV="1">
                <a:off x="3549600" y="4703400"/>
                <a:ext cx="216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5" name="Straight Connector 230"/>
              <p:cNvSpPr/>
              <p:nvPr/>
            </p:nvSpPr>
            <p:spPr>
              <a:xfrm flipV="1">
                <a:off x="3549600" y="4788000"/>
                <a:ext cx="216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16" name="Group 231"/>
            <p:cNvGrpSpPr/>
            <p:nvPr/>
          </p:nvGrpSpPr>
          <p:grpSpPr>
            <a:xfrm>
              <a:off x="3456720" y="4703400"/>
              <a:ext cx="45360" cy="98280"/>
              <a:chOff x="3456720" y="4703400"/>
              <a:chExt cx="45360" cy="98280"/>
            </a:xfrm>
          </p:grpSpPr>
          <p:sp>
            <p:nvSpPr>
              <p:cNvPr id="417" name="Oval 232"/>
              <p:cNvSpPr/>
              <p:nvPr/>
            </p:nvSpPr>
            <p:spPr>
              <a:xfrm flipH="1" rot="10800000">
                <a:off x="3456720" y="4738680"/>
                <a:ext cx="4536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8" name="Straight Connector 233"/>
              <p:cNvSpPr/>
              <p:nvPr/>
            </p:nvSpPr>
            <p:spPr>
              <a:xfrm flipH="1" flipV="1">
                <a:off x="3485160" y="4703400"/>
                <a:ext cx="1224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9" name="Straight Connector 234"/>
              <p:cNvSpPr/>
              <p:nvPr/>
            </p:nvSpPr>
            <p:spPr>
              <a:xfrm flipV="1">
                <a:off x="3489120" y="4788000"/>
                <a:ext cx="828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20" name="Group 235"/>
            <p:cNvGrpSpPr/>
            <p:nvPr/>
          </p:nvGrpSpPr>
          <p:grpSpPr>
            <a:xfrm>
              <a:off x="3406680" y="4703400"/>
              <a:ext cx="45360" cy="98280"/>
              <a:chOff x="3406680" y="4703400"/>
              <a:chExt cx="45360" cy="98280"/>
            </a:xfrm>
          </p:grpSpPr>
          <p:sp>
            <p:nvSpPr>
              <p:cNvPr id="421" name="Oval 236"/>
              <p:cNvSpPr/>
              <p:nvPr/>
            </p:nvSpPr>
            <p:spPr>
              <a:xfrm flipH="1" rot="10800000">
                <a:off x="3406680" y="4738680"/>
                <a:ext cx="1296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Straight Connector 237"/>
              <p:cNvSpPr/>
              <p:nvPr/>
            </p:nvSpPr>
            <p:spPr>
              <a:xfrm flipV="1">
                <a:off x="3452040" y="4703400"/>
                <a:ext cx="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Straight Connector 238"/>
              <p:cNvSpPr/>
              <p:nvPr/>
            </p:nvSpPr>
            <p:spPr>
              <a:xfrm flipV="1">
                <a:off x="3452040" y="4788000"/>
                <a:ext cx="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24" name="Group 239"/>
            <p:cNvGrpSpPr/>
            <p:nvPr/>
          </p:nvGrpSpPr>
          <p:grpSpPr>
            <a:xfrm>
              <a:off x="3351960" y="4703400"/>
              <a:ext cx="45360" cy="98280"/>
              <a:chOff x="3351960" y="4703400"/>
              <a:chExt cx="45360" cy="98280"/>
            </a:xfrm>
          </p:grpSpPr>
          <p:sp>
            <p:nvSpPr>
              <p:cNvPr id="425" name="Oval 240"/>
              <p:cNvSpPr/>
              <p:nvPr/>
            </p:nvSpPr>
            <p:spPr>
              <a:xfrm flipH="1" rot="10800000">
                <a:off x="3351600" y="4738680"/>
                <a:ext cx="2340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Straight Connector 241"/>
              <p:cNvSpPr/>
              <p:nvPr/>
            </p:nvSpPr>
            <p:spPr>
              <a:xfrm flipH="1" flipV="1">
                <a:off x="3385800" y="4703400"/>
                <a:ext cx="180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Straight Connector 242"/>
              <p:cNvSpPr/>
              <p:nvPr/>
            </p:nvSpPr>
            <p:spPr>
              <a:xfrm flipV="1">
                <a:off x="3393000" y="4788000"/>
                <a:ext cx="432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28" name="Group 243"/>
            <p:cNvGrpSpPr/>
            <p:nvPr/>
          </p:nvGrpSpPr>
          <p:grpSpPr>
            <a:xfrm>
              <a:off x="3301920" y="4703400"/>
              <a:ext cx="45360" cy="98280"/>
              <a:chOff x="3301920" y="4703400"/>
              <a:chExt cx="45360" cy="98280"/>
            </a:xfrm>
          </p:grpSpPr>
          <p:sp>
            <p:nvSpPr>
              <p:cNvPr id="429" name="Oval 244"/>
              <p:cNvSpPr/>
              <p:nvPr/>
            </p:nvSpPr>
            <p:spPr>
              <a:xfrm flipH="1" rot="10800000">
                <a:off x="3342960" y="4738680"/>
                <a:ext cx="396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Straight Connector 245"/>
              <p:cNvSpPr/>
              <p:nvPr/>
            </p:nvSpPr>
            <p:spPr>
              <a:xfrm flipH="1" flipV="1">
                <a:off x="3301920" y="4703400"/>
                <a:ext cx="72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Straight Connector 246"/>
              <p:cNvSpPr/>
              <p:nvPr/>
            </p:nvSpPr>
            <p:spPr>
              <a:xfrm flipV="1">
                <a:off x="3343320" y="4788000"/>
                <a:ext cx="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32" name="Group 247"/>
            <p:cNvGrpSpPr/>
            <p:nvPr/>
          </p:nvGrpSpPr>
          <p:grpSpPr>
            <a:xfrm>
              <a:off x="3251880" y="4703400"/>
              <a:ext cx="45360" cy="98280"/>
              <a:chOff x="3251880" y="4703400"/>
              <a:chExt cx="45360" cy="98280"/>
            </a:xfrm>
          </p:grpSpPr>
          <p:sp>
            <p:nvSpPr>
              <p:cNvPr id="433" name="Oval 248"/>
              <p:cNvSpPr/>
              <p:nvPr/>
            </p:nvSpPr>
            <p:spPr>
              <a:xfrm flipH="1" rot="10800000">
                <a:off x="3251880" y="4738680"/>
                <a:ext cx="1944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4" name="Straight Connector 249"/>
              <p:cNvSpPr/>
              <p:nvPr/>
            </p:nvSpPr>
            <p:spPr>
              <a:xfrm flipH="1" flipV="1">
                <a:off x="3279960" y="4703400"/>
                <a:ext cx="288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5" name="Straight Connector 250"/>
              <p:cNvSpPr/>
              <p:nvPr/>
            </p:nvSpPr>
            <p:spPr>
              <a:xfrm flipV="1">
                <a:off x="3295800" y="4788000"/>
                <a:ext cx="144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36" name="Group 251"/>
            <p:cNvGrpSpPr/>
            <p:nvPr/>
          </p:nvGrpSpPr>
          <p:grpSpPr>
            <a:xfrm>
              <a:off x="3197160" y="4703400"/>
              <a:ext cx="45360" cy="98280"/>
              <a:chOff x="3197160" y="4703400"/>
              <a:chExt cx="45360" cy="98280"/>
            </a:xfrm>
          </p:grpSpPr>
          <p:sp>
            <p:nvSpPr>
              <p:cNvPr id="437" name="Oval 252"/>
              <p:cNvSpPr/>
              <p:nvPr/>
            </p:nvSpPr>
            <p:spPr>
              <a:xfrm flipH="1" rot="10800000">
                <a:off x="3197160" y="4738680"/>
                <a:ext cx="4536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8" name="Straight Connector 253"/>
              <p:cNvSpPr/>
              <p:nvPr/>
            </p:nvSpPr>
            <p:spPr>
              <a:xfrm flipV="1">
                <a:off x="3239640" y="4703400"/>
                <a:ext cx="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Straight Connector 254"/>
              <p:cNvSpPr/>
              <p:nvPr/>
            </p:nvSpPr>
            <p:spPr>
              <a:xfrm flipV="1">
                <a:off x="3239640" y="4788000"/>
                <a:ext cx="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40" name="Group 255"/>
            <p:cNvGrpSpPr/>
            <p:nvPr/>
          </p:nvGrpSpPr>
          <p:grpSpPr>
            <a:xfrm>
              <a:off x="3147120" y="4703400"/>
              <a:ext cx="44640" cy="98280"/>
              <a:chOff x="3147120" y="4703400"/>
              <a:chExt cx="44640" cy="98280"/>
            </a:xfrm>
          </p:grpSpPr>
          <p:sp>
            <p:nvSpPr>
              <p:cNvPr id="441" name="Oval 256"/>
              <p:cNvSpPr/>
              <p:nvPr/>
            </p:nvSpPr>
            <p:spPr>
              <a:xfrm flipH="1" rot="10800000">
                <a:off x="3146760" y="4738680"/>
                <a:ext cx="1548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Straight Connector 257"/>
              <p:cNvSpPr/>
              <p:nvPr/>
            </p:nvSpPr>
            <p:spPr>
              <a:xfrm flipH="1" flipV="1">
                <a:off x="3179160" y="4703400"/>
                <a:ext cx="648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Straight Connector 258"/>
              <p:cNvSpPr/>
              <p:nvPr/>
            </p:nvSpPr>
            <p:spPr>
              <a:xfrm flipV="1">
                <a:off x="3190680" y="4788000"/>
                <a:ext cx="108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44" name="Group 259"/>
            <p:cNvGrpSpPr/>
            <p:nvPr/>
          </p:nvGrpSpPr>
          <p:grpSpPr>
            <a:xfrm>
              <a:off x="3097080" y="4703400"/>
              <a:ext cx="45360" cy="98280"/>
              <a:chOff x="3097080" y="4703400"/>
              <a:chExt cx="45360" cy="98280"/>
            </a:xfrm>
          </p:grpSpPr>
          <p:sp>
            <p:nvSpPr>
              <p:cNvPr id="445" name="Oval 260"/>
              <p:cNvSpPr/>
              <p:nvPr/>
            </p:nvSpPr>
            <p:spPr>
              <a:xfrm flipH="1" rot="10800000">
                <a:off x="3097080" y="4738680"/>
                <a:ext cx="4104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Straight Connector 261"/>
              <p:cNvSpPr/>
              <p:nvPr/>
            </p:nvSpPr>
            <p:spPr>
              <a:xfrm flipV="1">
                <a:off x="3142440" y="4703400"/>
                <a:ext cx="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Straight Connector 262"/>
              <p:cNvSpPr/>
              <p:nvPr/>
            </p:nvSpPr>
            <p:spPr>
              <a:xfrm flipV="1">
                <a:off x="3142440" y="4788000"/>
                <a:ext cx="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48" name="Group 263"/>
            <p:cNvGrpSpPr/>
            <p:nvPr/>
          </p:nvGrpSpPr>
          <p:grpSpPr>
            <a:xfrm>
              <a:off x="3042360" y="4703400"/>
              <a:ext cx="44640" cy="98280"/>
              <a:chOff x="3042360" y="4703400"/>
              <a:chExt cx="44640" cy="98280"/>
            </a:xfrm>
          </p:grpSpPr>
          <p:sp>
            <p:nvSpPr>
              <p:cNvPr id="449" name="Oval 264"/>
              <p:cNvSpPr/>
              <p:nvPr/>
            </p:nvSpPr>
            <p:spPr>
              <a:xfrm flipH="1" rot="10800000">
                <a:off x="3042000" y="4738680"/>
                <a:ext cx="1620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Straight Connector 265"/>
              <p:cNvSpPr/>
              <p:nvPr/>
            </p:nvSpPr>
            <p:spPr>
              <a:xfrm flipH="1" flipV="1">
                <a:off x="3074760" y="4703400"/>
                <a:ext cx="612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1" name="Straight Connector 266"/>
              <p:cNvSpPr/>
              <p:nvPr/>
            </p:nvSpPr>
            <p:spPr>
              <a:xfrm flipV="1">
                <a:off x="3085920" y="4788000"/>
                <a:ext cx="108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52" name="Group 267"/>
            <p:cNvGrpSpPr/>
            <p:nvPr/>
          </p:nvGrpSpPr>
          <p:grpSpPr>
            <a:xfrm>
              <a:off x="2992680" y="4703400"/>
              <a:ext cx="45360" cy="98280"/>
              <a:chOff x="2992680" y="4703400"/>
              <a:chExt cx="45360" cy="98280"/>
            </a:xfrm>
          </p:grpSpPr>
          <p:sp>
            <p:nvSpPr>
              <p:cNvPr id="453" name="Oval 268"/>
              <p:cNvSpPr/>
              <p:nvPr/>
            </p:nvSpPr>
            <p:spPr>
              <a:xfrm flipH="1" rot="10800000">
                <a:off x="2992680" y="4738680"/>
                <a:ext cx="3816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4" name="Straight Connector 269"/>
              <p:cNvSpPr/>
              <p:nvPr/>
            </p:nvSpPr>
            <p:spPr>
              <a:xfrm flipV="1">
                <a:off x="3038040" y="4703400"/>
                <a:ext cx="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5" name="Straight Connector 270"/>
              <p:cNvSpPr/>
              <p:nvPr/>
            </p:nvSpPr>
            <p:spPr>
              <a:xfrm flipV="1">
                <a:off x="3038040" y="4788000"/>
                <a:ext cx="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56" name="Group 271"/>
            <p:cNvGrpSpPr/>
            <p:nvPr/>
          </p:nvGrpSpPr>
          <p:grpSpPr>
            <a:xfrm>
              <a:off x="2942640" y="4703400"/>
              <a:ext cx="45000" cy="98280"/>
              <a:chOff x="2942640" y="4703400"/>
              <a:chExt cx="45000" cy="98280"/>
            </a:xfrm>
          </p:grpSpPr>
          <p:sp>
            <p:nvSpPr>
              <p:cNvPr id="457" name="Oval 272"/>
              <p:cNvSpPr/>
              <p:nvPr/>
            </p:nvSpPr>
            <p:spPr>
              <a:xfrm flipH="1" rot="10800000">
                <a:off x="2942280" y="4738680"/>
                <a:ext cx="1836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8" name="Straight Connector 273"/>
              <p:cNvSpPr/>
              <p:nvPr/>
            </p:nvSpPr>
            <p:spPr>
              <a:xfrm flipH="1" flipV="1">
                <a:off x="2986560" y="4703400"/>
                <a:ext cx="108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9" name="Straight Connector 274"/>
              <p:cNvSpPr/>
              <p:nvPr/>
            </p:nvSpPr>
            <p:spPr>
              <a:xfrm flipV="1">
                <a:off x="2982960" y="4788000"/>
                <a:ext cx="108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60" name="Group 275"/>
            <p:cNvGrpSpPr/>
            <p:nvPr/>
          </p:nvGrpSpPr>
          <p:grpSpPr>
            <a:xfrm>
              <a:off x="2887920" y="4703400"/>
              <a:ext cx="45360" cy="98280"/>
              <a:chOff x="2887920" y="4703400"/>
              <a:chExt cx="45360" cy="98280"/>
            </a:xfrm>
          </p:grpSpPr>
          <p:sp>
            <p:nvSpPr>
              <p:cNvPr id="461" name="Oval 276"/>
              <p:cNvSpPr/>
              <p:nvPr/>
            </p:nvSpPr>
            <p:spPr>
              <a:xfrm flipH="1" rot="10800000">
                <a:off x="2887560" y="4738680"/>
                <a:ext cx="3780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2" name="Straight Connector 277"/>
              <p:cNvSpPr/>
              <p:nvPr/>
            </p:nvSpPr>
            <p:spPr>
              <a:xfrm flipV="1">
                <a:off x="2933280" y="4703400"/>
                <a:ext cx="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3" name="Straight Connector 278"/>
              <p:cNvSpPr/>
              <p:nvPr/>
            </p:nvSpPr>
            <p:spPr>
              <a:xfrm flipV="1">
                <a:off x="2933280" y="4788000"/>
                <a:ext cx="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64" name="Group 279"/>
            <p:cNvGrpSpPr/>
            <p:nvPr/>
          </p:nvGrpSpPr>
          <p:grpSpPr>
            <a:xfrm>
              <a:off x="2837880" y="4703400"/>
              <a:ext cx="45000" cy="98280"/>
              <a:chOff x="2837880" y="4703400"/>
              <a:chExt cx="45000" cy="98280"/>
            </a:xfrm>
          </p:grpSpPr>
          <p:sp>
            <p:nvSpPr>
              <p:cNvPr id="465" name="Oval 280"/>
              <p:cNvSpPr/>
              <p:nvPr/>
            </p:nvSpPr>
            <p:spPr>
              <a:xfrm flipH="1" rot="10800000">
                <a:off x="2837880" y="4738680"/>
                <a:ext cx="1800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6" name="Straight Connector 281"/>
              <p:cNvSpPr/>
              <p:nvPr/>
            </p:nvSpPr>
            <p:spPr>
              <a:xfrm flipH="1" flipV="1">
                <a:off x="2881800" y="4703400"/>
                <a:ext cx="108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7" name="Straight Connector 282"/>
              <p:cNvSpPr/>
              <p:nvPr/>
            </p:nvSpPr>
            <p:spPr>
              <a:xfrm flipV="1">
                <a:off x="2881440" y="4788000"/>
                <a:ext cx="108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68" name="Group 283"/>
            <p:cNvGrpSpPr/>
            <p:nvPr/>
          </p:nvGrpSpPr>
          <p:grpSpPr>
            <a:xfrm>
              <a:off x="2787840" y="4703400"/>
              <a:ext cx="45360" cy="98280"/>
              <a:chOff x="2787840" y="4703400"/>
              <a:chExt cx="45360" cy="98280"/>
            </a:xfrm>
          </p:grpSpPr>
          <p:sp>
            <p:nvSpPr>
              <p:cNvPr id="469" name="Oval 284"/>
              <p:cNvSpPr/>
              <p:nvPr/>
            </p:nvSpPr>
            <p:spPr>
              <a:xfrm flipH="1" rot="10800000">
                <a:off x="2787840" y="4738680"/>
                <a:ext cx="4032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0" name="Straight Connector 285"/>
              <p:cNvSpPr/>
              <p:nvPr/>
            </p:nvSpPr>
            <p:spPr>
              <a:xfrm flipV="1">
                <a:off x="2833200" y="4703400"/>
                <a:ext cx="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1" name="Straight Connector 286"/>
              <p:cNvSpPr/>
              <p:nvPr/>
            </p:nvSpPr>
            <p:spPr>
              <a:xfrm flipV="1">
                <a:off x="2833200" y="4788000"/>
                <a:ext cx="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72" name="Group 287"/>
            <p:cNvGrpSpPr/>
            <p:nvPr/>
          </p:nvGrpSpPr>
          <p:grpSpPr>
            <a:xfrm>
              <a:off x="2733120" y="4703400"/>
              <a:ext cx="44640" cy="98280"/>
              <a:chOff x="2733120" y="4703400"/>
              <a:chExt cx="44640" cy="98280"/>
            </a:xfrm>
          </p:grpSpPr>
          <p:sp>
            <p:nvSpPr>
              <p:cNvPr id="473" name="Oval 288"/>
              <p:cNvSpPr/>
              <p:nvPr/>
            </p:nvSpPr>
            <p:spPr>
              <a:xfrm flipH="1" rot="10800000">
                <a:off x="2732760" y="4738680"/>
                <a:ext cx="1908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4" name="Straight Connector 289"/>
              <p:cNvSpPr/>
              <p:nvPr/>
            </p:nvSpPr>
            <p:spPr>
              <a:xfrm flipH="1" flipV="1">
                <a:off x="2772360" y="4703400"/>
                <a:ext cx="144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5" name="Straight Connector 290"/>
              <p:cNvSpPr/>
              <p:nvPr/>
            </p:nvSpPr>
            <p:spPr>
              <a:xfrm flipV="1">
                <a:off x="2776680" y="4788000"/>
                <a:ext cx="108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76" name="Group 291"/>
            <p:cNvGrpSpPr/>
            <p:nvPr/>
          </p:nvGrpSpPr>
          <p:grpSpPr>
            <a:xfrm>
              <a:off x="2683080" y="4703400"/>
              <a:ext cx="45360" cy="98280"/>
              <a:chOff x="2683080" y="4703400"/>
              <a:chExt cx="45360" cy="98280"/>
            </a:xfrm>
          </p:grpSpPr>
          <p:sp>
            <p:nvSpPr>
              <p:cNvPr id="477" name="Oval 292"/>
              <p:cNvSpPr/>
              <p:nvPr/>
            </p:nvSpPr>
            <p:spPr>
              <a:xfrm flipH="1" rot="10800000">
                <a:off x="2683080" y="4738680"/>
                <a:ext cx="3528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8" name="Straight Connector 293"/>
              <p:cNvSpPr/>
              <p:nvPr/>
            </p:nvSpPr>
            <p:spPr>
              <a:xfrm flipV="1">
                <a:off x="2722320" y="4703400"/>
                <a:ext cx="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9" name="Straight Connector 294"/>
              <p:cNvSpPr/>
              <p:nvPr/>
            </p:nvSpPr>
            <p:spPr>
              <a:xfrm flipV="1">
                <a:off x="2728440" y="4788000"/>
                <a:ext cx="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80" name="Group 295"/>
            <p:cNvGrpSpPr/>
            <p:nvPr/>
          </p:nvGrpSpPr>
          <p:grpSpPr>
            <a:xfrm>
              <a:off x="2635560" y="4703400"/>
              <a:ext cx="45360" cy="98280"/>
              <a:chOff x="2635560" y="4703400"/>
              <a:chExt cx="45360" cy="98280"/>
            </a:xfrm>
          </p:grpSpPr>
          <p:sp>
            <p:nvSpPr>
              <p:cNvPr id="481" name="Oval 296"/>
              <p:cNvSpPr/>
              <p:nvPr/>
            </p:nvSpPr>
            <p:spPr>
              <a:xfrm flipH="1" rot="10800000">
                <a:off x="2635200" y="4738680"/>
                <a:ext cx="3564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2" name="Straight Connector 297"/>
              <p:cNvSpPr/>
              <p:nvPr/>
            </p:nvSpPr>
            <p:spPr>
              <a:xfrm flipV="1">
                <a:off x="2680920" y="4703400"/>
                <a:ext cx="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3" name="Straight Connector 298"/>
              <p:cNvSpPr/>
              <p:nvPr/>
            </p:nvSpPr>
            <p:spPr>
              <a:xfrm flipV="1">
                <a:off x="2680920" y="4788000"/>
                <a:ext cx="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84" name="Group 299"/>
            <p:cNvGrpSpPr/>
            <p:nvPr/>
          </p:nvGrpSpPr>
          <p:grpSpPr>
            <a:xfrm>
              <a:off x="2580840" y="4703400"/>
              <a:ext cx="44640" cy="98280"/>
              <a:chOff x="2580840" y="4703400"/>
              <a:chExt cx="44640" cy="98280"/>
            </a:xfrm>
          </p:grpSpPr>
          <p:sp>
            <p:nvSpPr>
              <p:cNvPr id="485" name="Oval 300"/>
              <p:cNvSpPr/>
              <p:nvPr/>
            </p:nvSpPr>
            <p:spPr>
              <a:xfrm flipH="1" rot="10800000">
                <a:off x="2580480" y="4738680"/>
                <a:ext cx="1980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6" name="Straight Connector 301"/>
              <p:cNvSpPr/>
              <p:nvPr/>
            </p:nvSpPr>
            <p:spPr>
              <a:xfrm flipH="1" flipV="1">
                <a:off x="2621520" y="4703400"/>
                <a:ext cx="144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7" name="Straight Connector 302"/>
              <p:cNvSpPr/>
              <p:nvPr/>
            </p:nvSpPr>
            <p:spPr>
              <a:xfrm flipV="1">
                <a:off x="2624400" y="4788000"/>
                <a:ext cx="108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88" name="Group 303"/>
            <p:cNvGrpSpPr/>
            <p:nvPr/>
          </p:nvGrpSpPr>
          <p:grpSpPr>
            <a:xfrm>
              <a:off x="2530800" y="4703400"/>
              <a:ext cx="45360" cy="98280"/>
              <a:chOff x="2530800" y="4703400"/>
              <a:chExt cx="45360" cy="98280"/>
            </a:xfrm>
          </p:grpSpPr>
          <p:sp>
            <p:nvSpPr>
              <p:cNvPr id="489" name="Oval 304"/>
              <p:cNvSpPr/>
              <p:nvPr/>
            </p:nvSpPr>
            <p:spPr>
              <a:xfrm flipH="1" rot="10800000">
                <a:off x="2530800" y="4738680"/>
                <a:ext cx="3888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0" name="Straight Connector 305"/>
              <p:cNvSpPr/>
              <p:nvPr/>
            </p:nvSpPr>
            <p:spPr>
              <a:xfrm flipV="1">
                <a:off x="2576160" y="4703400"/>
                <a:ext cx="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1" name="Straight Connector 306"/>
              <p:cNvSpPr/>
              <p:nvPr/>
            </p:nvSpPr>
            <p:spPr>
              <a:xfrm flipV="1">
                <a:off x="2576160" y="4788000"/>
                <a:ext cx="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92" name="Group 307"/>
            <p:cNvGrpSpPr/>
            <p:nvPr/>
          </p:nvGrpSpPr>
          <p:grpSpPr>
            <a:xfrm>
              <a:off x="2480760" y="4703400"/>
              <a:ext cx="45360" cy="98280"/>
              <a:chOff x="2480760" y="4703400"/>
              <a:chExt cx="45360" cy="98280"/>
            </a:xfrm>
          </p:grpSpPr>
          <p:sp>
            <p:nvSpPr>
              <p:cNvPr id="493" name="Oval 308"/>
              <p:cNvSpPr/>
              <p:nvPr/>
            </p:nvSpPr>
            <p:spPr>
              <a:xfrm flipH="1" rot="10800000">
                <a:off x="2480400" y="4738680"/>
                <a:ext cx="1836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4" name="Straight Connector 309"/>
              <p:cNvSpPr/>
              <p:nvPr/>
            </p:nvSpPr>
            <p:spPr>
              <a:xfrm flipH="1" flipV="1">
                <a:off x="2519640" y="4703400"/>
                <a:ext cx="72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5" name="Straight Connector 310"/>
              <p:cNvSpPr/>
              <p:nvPr/>
            </p:nvSpPr>
            <p:spPr>
              <a:xfrm flipV="1">
                <a:off x="2523960" y="4788000"/>
                <a:ext cx="216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96" name="Group 311"/>
            <p:cNvGrpSpPr/>
            <p:nvPr/>
          </p:nvGrpSpPr>
          <p:grpSpPr>
            <a:xfrm>
              <a:off x="2426040" y="4703400"/>
              <a:ext cx="45360" cy="98280"/>
              <a:chOff x="2426040" y="4703400"/>
              <a:chExt cx="45360" cy="98280"/>
            </a:xfrm>
          </p:grpSpPr>
          <p:sp>
            <p:nvSpPr>
              <p:cNvPr id="497" name="Oval 312"/>
              <p:cNvSpPr/>
              <p:nvPr/>
            </p:nvSpPr>
            <p:spPr>
              <a:xfrm flipH="1" rot="10800000">
                <a:off x="2425680" y="4738680"/>
                <a:ext cx="3420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8" name="Straight Connector 313"/>
              <p:cNvSpPr/>
              <p:nvPr/>
            </p:nvSpPr>
            <p:spPr>
              <a:xfrm flipV="1">
                <a:off x="2471400" y="4703400"/>
                <a:ext cx="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9" name="Straight Connector 314"/>
              <p:cNvSpPr/>
              <p:nvPr/>
            </p:nvSpPr>
            <p:spPr>
              <a:xfrm flipV="1">
                <a:off x="2471400" y="4788000"/>
                <a:ext cx="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00" name="Group 315"/>
            <p:cNvGrpSpPr/>
            <p:nvPr/>
          </p:nvGrpSpPr>
          <p:grpSpPr>
            <a:xfrm>
              <a:off x="2376000" y="4703400"/>
              <a:ext cx="45360" cy="98280"/>
              <a:chOff x="2376000" y="4703400"/>
              <a:chExt cx="45360" cy="98280"/>
            </a:xfrm>
          </p:grpSpPr>
          <p:sp>
            <p:nvSpPr>
              <p:cNvPr id="501" name="Oval 316"/>
              <p:cNvSpPr/>
              <p:nvPr/>
            </p:nvSpPr>
            <p:spPr>
              <a:xfrm flipH="1" rot="10800000">
                <a:off x="2376000" y="4738680"/>
                <a:ext cx="1656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2" name="Straight Connector 317"/>
              <p:cNvSpPr/>
              <p:nvPr/>
            </p:nvSpPr>
            <p:spPr>
              <a:xfrm flipH="1" flipV="1">
                <a:off x="2414520" y="4703400"/>
                <a:ext cx="108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3" name="Straight Connector 318"/>
              <p:cNvSpPr/>
              <p:nvPr/>
            </p:nvSpPr>
            <p:spPr>
              <a:xfrm flipV="1">
                <a:off x="2417760" y="4788000"/>
                <a:ext cx="360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04" name="Group 319"/>
            <p:cNvGrpSpPr/>
            <p:nvPr/>
          </p:nvGrpSpPr>
          <p:grpSpPr>
            <a:xfrm>
              <a:off x="2325960" y="4703400"/>
              <a:ext cx="45360" cy="98280"/>
              <a:chOff x="2325960" y="4703400"/>
              <a:chExt cx="45360" cy="98280"/>
            </a:xfrm>
          </p:grpSpPr>
          <p:sp>
            <p:nvSpPr>
              <p:cNvPr id="505" name="Oval 320"/>
              <p:cNvSpPr/>
              <p:nvPr/>
            </p:nvSpPr>
            <p:spPr>
              <a:xfrm flipH="1" rot="10800000">
                <a:off x="2325600" y="4738680"/>
                <a:ext cx="3060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6" name="Straight Connector 321"/>
              <p:cNvSpPr/>
              <p:nvPr/>
            </p:nvSpPr>
            <p:spPr>
              <a:xfrm flipV="1">
                <a:off x="2371320" y="4703400"/>
                <a:ext cx="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7" name="Straight Connector 322"/>
              <p:cNvSpPr/>
              <p:nvPr/>
            </p:nvSpPr>
            <p:spPr>
              <a:xfrm flipV="1">
                <a:off x="2371320" y="4788000"/>
                <a:ext cx="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08" name="Group 323"/>
            <p:cNvGrpSpPr/>
            <p:nvPr/>
          </p:nvGrpSpPr>
          <p:grpSpPr>
            <a:xfrm>
              <a:off x="2271240" y="4703400"/>
              <a:ext cx="45360" cy="98280"/>
              <a:chOff x="2271240" y="4703400"/>
              <a:chExt cx="45360" cy="98280"/>
            </a:xfrm>
          </p:grpSpPr>
          <p:sp>
            <p:nvSpPr>
              <p:cNvPr id="509" name="Oval 324"/>
              <p:cNvSpPr/>
              <p:nvPr/>
            </p:nvSpPr>
            <p:spPr>
              <a:xfrm flipH="1" rot="10800000">
                <a:off x="2271240" y="4738680"/>
                <a:ext cx="2088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0" name="Straight Connector 325"/>
              <p:cNvSpPr/>
              <p:nvPr/>
            </p:nvSpPr>
            <p:spPr>
              <a:xfrm flipH="1" flipV="1">
                <a:off x="2313720" y="4703400"/>
                <a:ext cx="144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1" name="Straight Connector 326"/>
              <p:cNvSpPr/>
              <p:nvPr/>
            </p:nvSpPr>
            <p:spPr>
              <a:xfrm flipV="1">
                <a:off x="2315160" y="4788000"/>
                <a:ext cx="144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12" name="Group 327"/>
            <p:cNvGrpSpPr/>
            <p:nvPr/>
          </p:nvGrpSpPr>
          <p:grpSpPr>
            <a:xfrm>
              <a:off x="2221560" y="4703400"/>
              <a:ext cx="45360" cy="98280"/>
              <a:chOff x="2221560" y="4703400"/>
              <a:chExt cx="45360" cy="98280"/>
            </a:xfrm>
          </p:grpSpPr>
          <p:sp>
            <p:nvSpPr>
              <p:cNvPr id="513" name="Oval 328"/>
              <p:cNvSpPr/>
              <p:nvPr/>
            </p:nvSpPr>
            <p:spPr>
              <a:xfrm flipH="1" rot="10800000">
                <a:off x="2221200" y="4738680"/>
                <a:ext cx="2628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4" name="Straight Connector 329"/>
              <p:cNvSpPr/>
              <p:nvPr/>
            </p:nvSpPr>
            <p:spPr>
              <a:xfrm flipV="1">
                <a:off x="2266920" y="4703400"/>
                <a:ext cx="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5" name="Straight Connector 330"/>
              <p:cNvSpPr/>
              <p:nvPr/>
            </p:nvSpPr>
            <p:spPr>
              <a:xfrm flipV="1">
                <a:off x="2266920" y="4788000"/>
                <a:ext cx="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16" name="Group 331"/>
            <p:cNvGrpSpPr/>
            <p:nvPr/>
          </p:nvGrpSpPr>
          <p:grpSpPr>
            <a:xfrm>
              <a:off x="2169000" y="4703400"/>
              <a:ext cx="45360" cy="98280"/>
              <a:chOff x="2169000" y="4703400"/>
              <a:chExt cx="45360" cy="98280"/>
            </a:xfrm>
          </p:grpSpPr>
          <p:sp>
            <p:nvSpPr>
              <p:cNvPr id="517" name="Oval 332"/>
              <p:cNvSpPr/>
              <p:nvPr/>
            </p:nvSpPr>
            <p:spPr>
              <a:xfrm flipH="1" rot="10800000">
                <a:off x="2169000" y="4738680"/>
                <a:ext cx="3096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8" name="Straight Connector 333"/>
              <p:cNvSpPr/>
              <p:nvPr/>
            </p:nvSpPr>
            <p:spPr>
              <a:xfrm flipV="1">
                <a:off x="2214360" y="4703400"/>
                <a:ext cx="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9" name="Straight Connector 334"/>
              <p:cNvSpPr/>
              <p:nvPr/>
            </p:nvSpPr>
            <p:spPr>
              <a:xfrm flipV="1">
                <a:off x="2214360" y="4788000"/>
                <a:ext cx="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20" name="Group 335"/>
            <p:cNvGrpSpPr/>
            <p:nvPr/>
          </p:nvGrpSpPr>
          <p:grpSpPr>
            <a:xfrm>
              <a:off x="2114280" y="4703400"/>
              <a:ext cx="45360" cy="98280"/>
              <a:chOff x="2114280" y="4703400"/>
              <a:chExt cx="45360" cy="98280"/>
            </a:xfrm>
          </p:grpSpPr>
          <p:sp>
            <p:nvSpPr>
              <p:cNvPr id="521" name="Oval 336"/>
              <p:cNvSpPr/>
              <p:nvPr/>
            </p:nvSpPr>
            <p:spPr>
              <a:xfrm flipH="1" rot="10800000">
                <a:off x="2113920" y="4738680"/>
                <a:ext cx="1764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2" name="Straight Connector 337"/>
              <p:cNvSpPr/>
              <p:nvPr/>
            </p:nvSpPr>
            <p:spPr>
              <a:xfrm flipH="1" flipV="1">
                <a:off x="2158200" y="4703400"/>
                <a:ext cx="144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3" name="Straight Connector 338"/>
              <p:cNvSpPr/>
              <p:nvPr/>
            </p:nvSpPr>
            <p:spPr>
              <a:xfrm flipV="1">
                <a:off x="2154960" y="4788000"/>
                <a:ext cx="108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24" name="Group 339"/>
            <p:cNvGrpSpPr/>
            <p:nvPr/>
          </p:nvGrpSpPr>
          <p:grpSpPr>
            <a:xfrm>
              <a:off x="2064240" y="4703400"/>
              <a:ext cx="45360" cy="98280"/>
              <a:chOff x="2064240" y="4703400"/>
              <a:chExt cx="45360" cy="98280"/>
            </a:xfrm>
          </p:grpSpPr>
          <p:sp>
            <p:nvSpPr>
              <p:cNvPr id="525" name="Oval 340"/>
              <p:cNvSpPr/>
              <p:nvPr/>
            </p:nvSpPr>
            <p:spPr>
              <a:xfrm flipH="1" rot="10800000">
                <a:off x="2063880" y="4738680"/>
                <a:ext cx="2700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6" name="Straight Connector 341"/>
              <p:cNvSpPr/>
              <p:nvPr/>
            </p:nvSpPr>
            <p:spPr>
              <a:xfrm flipV="1">
                <a:off x="2109600" y="4703400"/>
                <a:ext cx="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7" name="Straight Connector 342"/>
              <p:cNvSpPr/>
              <p:nvPr/>
            </p:nvSpPr>
            <p:spPr>
              <a:xfrm flipV="1">
                <a:off x="2109600" y="4788000"/>
                <a:ext cx="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28" name="Group 343"/>
            <p:cNvGrpSpPr/>
            <p:nvPr/>
          </p:nvGrpSpPr>
          <p:grpSpPr>
            <a:xfrm>
              <a:off x="2014200" y="4703400"/>
              <a:ext cx="44640" cy="98280"/>
              <a:chOff x="2014200" y="4703400"/>
              <a:chExt cx="44640" cy="98280"/>
            </a:xfrm>
          </p:grpSpPr>
          <p:sp>
            <p:nvSpPr>
              <p:cNvPr id="529" name="Oval 344"/>
              <p:cNvSpPr/>
              <p:nvPr/>
            </p:nvSpPr>
            <p:spPr>
              <a:xfrm flipH="1" rot="10800000">
                <a:off x="2013840" y="4738680"/>
                <a:ext cx="1692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0" name="Straight Connector 345"/>
              <p:cNvSpPr/>
              <p:nvPr/>
            </p:nvSpPr>
            <p:spPr>
              <a:xfrm flipH="1" flipV="1">
                <a:off x="2048040" y="4703400"/>
                <a:ext cx="144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1" name="Straight Connector 346"/>
              <p:cNvSpPr/>
              <p:nvPr/>
            </p:nvSpPr>
            <p:spPr>
              <a:xfrm flipV="1">
                <a:off x="2057760" y="4788000"/>
                <a:ext cx="108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93480" y="297000"/>
            <a:ext cx="83214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Циљев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з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AAs </a:t>
            </a:r>
            <a:r>
              <a:rPr b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кој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с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тренутно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развоју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4774680" y="6604920"/>
            <a:ext cx="423144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Adapted from Manns MP, et al. Nat Rev Drug Discov 2007; 6: 991–1000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TextBox 5"/>
          <p:cNvSpPr/>
          <p:nvPr/>
        </p:nvSpPr>
        <p:spPr>
          <a:xfrm>
            <a:off x="658800" y="1595520"/>
            <a:ext cx="3332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Они који се везују за рецептор 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ендоцитоз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TextBox 6"/>
          <p:cNvSpPr/>
          <p:nvPr/>
        </p:nvSpPr>
        <p:spPr>
          <a:xfrm>
            <a:off x="1671840" y="2485440"/>
            <a:ext cx="10263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Фузија и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унцоатинг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TextBox 7"/>
          <p:cNvSpPr/>
          <p:nvPr/>
        </p:nvSpPr>
        <p:spPr>
          <a:xfrm>
            <a:off x="6868080" y="1894680"/>
            <a:ext cx="13176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Транспорт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и отпуштањ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TextBox 8"/>
          <p:cNvSpPr/>
          <p:nvPr/>
        </p:nvSpPr>
        <p:spPr>
          <a:xfrm>
            <a:off x="3033720" y="3370320"/>
            <a:ext cx="749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(+) RN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TextBox 9"/>
          <p:cNvSpPr/>
          <p:nvPr/>
        </p:nvSpPr>
        <p:spPr>
          <a:xfrm>
            <a:off x="397800" y="4195800"/>
            <a:ext cx="15080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Translation and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polyprotein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processi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TextBox 10"/>
          <p:cNvSpPr/>
          <p:nvPr/>
        </p:nvSpPr>
        <p:spPr>
          <a:xfrm>
            <a:off x="7061400" y="4541400"/>
            <a:ext cx="1520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RNA replic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TextBox 11"/>
          <p:cNvSpPr/>
          <p:nvPr/>
        </p:nvSpPr>
        <p:spPr>
          <a:xfrm>
            <a:off x="7797240" y="3341160"/>
            <a:ext cx="12855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Формирање</a:t>
            </a:r>
            <a:r>
              <a:rPr b="1" lang="sr-Latn-CS" sz="1600" spc="-1" strike="noStrike">
                <a:solidFill>
                  <a:srgbClr val="ffffff"/>
                </a:solidFill>
                <a:latin typeface="Arial"/>
                <a:ea typeface="MS PGothic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вирио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TextBox 12"/>
          <p:cNvSpPr/>
          <p:nvPr/>
        </p:nvSpPr>
        <p:spPr>
          <a:xfrm>
            <a:off x="3806280" y="4368240"/>
            <a:ext cx="10933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Мембранска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мреж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TextBox 13"/>
          <p:cNvSpPr/>
          <p:nvPr/>
        </p:nvSpPr>
        <p:spPr>
          <a:xfrm>
            <a:off x="2877120" y="4824000"/>
            <a:ext cx="82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ER lume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43" name="Oval 16"/>
          <p:cNvGrpSpPr/>
          <p:nvPr/>
        </p:nvGrpSpPr>
        <p:grpSpPr>
          <a:xfrm>
            <a:off x="2603520" y="1957320"/>
            <a:ext cx="279360" cy="225360"/>
            <a:chOff x="2603520" y="1957320"/>
            <a:chExt cx="279360" cy="225360"/>
          </a:xfrm>
        </p:grpSpPr>
        <p:pic>
          <p:nvPicPr>
            <p:cNvPr id="544" name="Oval 16" descr=""/>
            <p:cNvPicPr/>
            <p:nvPr/>
          </p:nvPicPr>
          <p:blipFill>
            <a:blip r:embed="rId1"/>
            <a:stretch/>
          </p:blipFill>
          <p:spPr>
            <a:xfrm>
              <a:off x="2603520" y="1957320"/>
              <a:ext cx="279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2644920" y="1987560"/>
              <a:ext cx="19512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46" name="Oval 17"/>
          <p:cNvGrpSpPr/>
          <p:nvPr/>
        </p:nvGrpSpPr>
        <p:grpSpPr>
          <a:xfrm>
            <a:off x="2932200" y="1968480"/>
            <a:ext cx="274680" cy="225360"/>
            <a:chOff x="2932200" y="1968480"/>
            <a:chExt cx="274680" cy="225360"/>
          </a:xfrm>
        </p:grpSpPr>
        <p:pic>
          <p:nvPicPr>
            <p:cNvPr id="547" name="Oval 17" descr=""/>
            <p:cNvPicPr/>
            <p:nvPr/>
          </p:nvPicPr>
          <p:blipFill>
            <a:blip r:embed="rId2"/>
            <a:stretch/>
          </p:blipFill>
          <p:spPr>
            <a:xfrm>
              <a:off x="2932200" y="1968480"/>
              <a:ext cx="27468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2971800" y="2003400"/>
              <a:ext cx="195120" cy="1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49" name="Oval 18"/>
          <p:cNvGrpSpPr/>
          <p:nvPr/>
        </p:nvGrpSpPr>
        <p:grpSpPr>
          <a:xfrm>
            <a:off x="3303720" y="2036880"/>
            <a:ext cx="274680" cy="225360"/>
            <a:chOff x="3303720" y="2036880"/>
            <a:chExt cx="274680" cy="225360"/>
          </a:xfrm>
        </p:grpSpPr>
        <p:pic>
          <p:nvPicPr>
            <p:cNvPr id="550" name="Oval 18" descr=""/>
            <p:cNvPicPr/>
            <p:nvPr/>
          </p:nvPicPr>
          <p:blipFill>
            <a:blip r:embed="rId3"/>
            <a:stretch/>
          </p:blipFill>
          <p:spPr>
            <a:xfrm>
              <a:off x="3303720" y="2036880"/>
              <a:ext cx="27468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3343320" y="2071800"/>
              <a:ext cx="196920" cy="1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52" name="Oval 20"/>
          <p:cNvGrpSpPr/>
          <p:nvPr/>
        </p:nvGrpSpPr>
        <p:grpSpPr>
          <a:xfrm>
            <a:off x="6461280" y="1987560"/>
            <a:ext cx="280800" cy="225360"/>
            <a:chOff x="6461280" y="1987560"/>
            <a:chExt cx="280800" cy="225360"/>
          </a:xfrm>
        </p:grpSpPr>
        <p:pic>
          <p:nvPicPr>
            <p:cNvPr id="553" name="Oval 20" descr=""/>
            <p:cNvPicPr/>
            <p:nvPr/>
          </p:nvPicPr>
          <p:blipFill>
            <a:blip r:embed="rId4"/>
            <a:stretch/>
          </p:blipFill>
          <p:spPr>
            <a:xfrm>
              <a:off x="6461280" y="1987560"/>
              <a:ext cx="280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6505560" y="2021040"/>
              <a:ext cx="19512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55" name="Oval 21"/>
          <p:cNvGrpSpPr/>
          <p:nvPr/>
        </p:nvGrpSpPr>
        <p:grpSpPr>
          <a:xfrm>
            <a:off x="6145200" y="1932120"/>
            <a:ext cx="279360" cy="225360"/>
            <a:chOff x="6145200" y="1932120"/>
            <a:chExt cx="279360" cy="225360"/>
          </a:xfrm>
        </p:grpSpPr>
        <p:pic>
          <p:nvPicPr>
            <p:cNvPr id="556" name="Oval 21" descr=""/>
            <p:cNvPicPr/>
            <p:nvPr/>
          </p:nvPicPr>
          <p:blipFill>
            <a:blip r:embed="rId5"/>
            <a:stretch/>
          </p:blipFill>
          <p:spPr>
            <a:xfrm>
              <a:off x="6145200" y="1932120"/>
              <a:ext cx="279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/>
            <p:cNvSpPr/>
            <p:nvPr/>
          </p:nvSpPr>
          <p:spPr>
            <a:xfrm>
              <a:off x="6188040" y="1967040"/>
              <a:ext cx="195120" cy="1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58" name="Oval 22"/>
          <p:cNvGrpSpPr/>
          <p:nvPr/>
        </p:nvGrpSpPr>
        <p:grpSpPr>
          <a:xfrm>
            <a:off x="5883120" y="2182680"/>
            <a:ext cx="273240" cy="225720"/>
            <a:chOff x="5883120" y="2182680"/>
            <a:chExt cx="273240" cy="225720"/>
          </a:xfrm>
        </p:grpSpPr>
        <p:pic>
          <p:nvPicPr>
            <p:cNvPr id="559" name="Oval 22" descr=""/>
            <p:cNvPicPr/>
            <p:nvPr/>
          </p:nvPicPr>
          <p:blipFill>
            <a:blip r:embed="rId6"/>
            <a:stretch/>
          </p:blipFill>
          <p:spPr>
            <a:xfrm>
              <a:off x="5883120" y="2182680"/>
              <a:ext cx="2732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5921280" y="2217600"/>
              <a:ext cx="196920" cy="1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61" name="Freeform 23"/>
          <p:cNvSpPr/>
          <p:nvPr/>
        </p:nvSpPr>
        <p:spPr>
          <a:xfrm>
            <a:off x="3348000" y="2906640"/>
            <a:ext cx="482760" cy="355680"/>
          </a:xfrm>
          <a:custGeom>
            <a:avLst/>
            <a:gdLst>
              <a:gd name="textAreaLeft" fmla="*/ 0 w 482760"/>
              <a:gd name="textAreaRight" fmla="*/ 483120 w 48276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483995" h="356717">
                <a:moveTo>
                  <a:pt x="0" y="0"/>
                </a:moveTo>
                <a:cubicBezTo>
                  <a:pt x="0" y="26377"/>
                  <a:pt x="0" y="52754"/>
                  <a:pt x="25121" y="55266"/>
                </a:cubicBezTo>
                <a:cubicBezTo>
                  <a:pt x="50242" y="57778"/>
                  <a:pt x="137327" y="6699"/>
                  <a:pt x="150725" y="15073"/>
                </a:cubicBezTo>
                <a:cubicBezTo>
                  <a:pt x="164123" y="23447"/>
                  <a:pt x="88760" y="93785"/>
                  <a:pt x="105507" y="105508"/>
                </a:cubicBezTo>
                <a:cubicBezTo>
                  <a:pt x="122254" y="117231"/>
                  <a:pt x="237810" y="75363"/>
                  <a:pt x="251208" y="85411"/>
                </a:cubicBezTo>
                <a:cubicBezTo>
                  <a:pt x="264606" y="95459"/>
                  <a:pt x="170821" y="155750"/>
                  <a:pt x="185894" y="165798"/>
                </a:cubicBezTo>
                <a:cubicBezTo>
                  <a:pt x="200967" y="175846"/>
                  <a:pt x="321547" y="134815"/>
                  <a:pt x="341644" y="145701"/>
                </a:cubicBezTo>
                <a:cubicBezTo>
                  <a:pt x="361741" y="156587"/>
                  <a:pt x="285540" y="216877"/>
                  <a:pt x="306474" y="231112"/>
                </a:cubicBezTo>
                <a:cubicBezTo>
                  <a:pt x="327408" y="245347"/>
                  <a:pt x="450501" y="218552"/>
                  <a:pt x="467248" y="231112"/>
                </a:cubicBezTo>
                <a:cubicBezTo>
                  <a:pt x="483995" y="243672"/>
                  <a:pt x="410307" y="285541"/>
                  <a:pt x="406958" y="306475"/>
                </a:cubicBezTo>
                <a:cubicBezTo>
                  <a:pt x="403609" y="327409"/>
                  <a:pt x="447151" y="356717"/>
                  <a:pt x="447151" y="356717"/>
                </a:cubicBezTo>
              </a:path>
            </a:pathLst>
          </a:custGeom>
          <a:noFill/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Freeform 27"/>
          <p:cNvSpPr/>
          <p:nvPr/>
        </p:nvSpPr>
        <p:spPr>
          <a:xfrm>
            <a:off x="2006640" y="4313160"/>
            <a:ext cx="1522440" cy="20628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522325" h="206828">
                <a:moveTo>
                  <a:pt x="0" y="0"/>
                </a:moveTo>
                <a:cubicBezTo>
                  <a:pt x="17166" y="24702"/>
                  <a:pt x="34332" y="49404"/>
                  <a:pt x="65314" y="55265"/>
                </a:cubicBezTo>
                <a:cubicBezTo>
                  <a:pt x="96296" y="61126"/>
                  <a:pt x="159098" y="26795"/>
                  <a:pt x="185894" y="35169"/>
                </a:cubicBezTo>
                <a:cubicBezTo>
                  <a:pt x="212690" y="43543"/>
                  <a:pt x="204317" y="98808"/>
                  <a:pt x="226088" y="105507"/>
                </a:cubicBezTo>
                <a:cubicBezTo>
                  <a:pt x="247859" y="112206"/>
                  <a:pt x="284703" y="68663"/>
                  <a:pt x="316523" y="75362"/>
                </a:cubicBezTo>
                <a:cubicBezTo>
                  <a:pt x="348343" y="82061"/>
                  <a:pt x="383512" y="135653"/>
                  <a:pt x="417006" y="145701"/>
                </a:cubicBezTo>
                <a:cubicBezTo>
                  <a:pt x="450500" y="155749"/>
                  <a:pt x="493207" y="128116"/>
                  <a:pt x="517490" y="135652"/>
                </a:cubicBezTo>
                <a:cubicBezTo>
                  <a:pt x="541774" y="143188"/>
                  <a:pt x="531725" y="190081"/>
                  <a:pt x="562707" y="190918"/>
                </a:cubicBezTo>
                <a:cubicBezTo>
                  <a:pt x="593689" y="191755"/>
                  <a:pt x="664028" y="142351"/>
                  <a:pt x="703384" y="140676"/>
                </a:cubicBezTo>
                <a:cubicBezTo>
                  <a:pt x="742740" y="139001"/>
                  <a:pt x="772886" y="180033"/>
                  <a:pt x="798844" y="180870"/>
                </a:cubicBezTo>
                <a:cubicBezTo>
                  <a:pt x="824802" y="181707"/>
                  <a:pt x="833176" y="146538"/>
                  <a:pt x="859134" y="145701"/>
                </a:cubicBezTo>
                <a:cubicBezTo>
                  <a:pt x="885092" y="144864"/>
                  <a:pt x="926960" y="173334"/>
                  <a:pt x="954593" y="175846"/>
                </a:cubicBezTo>
                <a:cubicBezTo>
                  <a:pt x="982226" y="178358"/>
                  <a:pt x="1000649" y="159098"/>
                  <a:pt x="1024932" y="160773"/>
                </a:cubicBezTo>
                <a:cubicBezTo>
                  <a:pt x="1049215" y="162448"/>
                  <a:pt x="1071824" y="186731"/>
                  <a:pt x="1100294" y="185894"/>
                </a:cubicBezTo>
                <a:cubicBezTo>
                  <a:pt x="1128764" y="185057"/>
                  <a:pt x="1166446" y="152400"/>
                  <a:pt x="1195754" y="155749"/>
                </a:cubicBezTo>
                <a:cubicBezTo>
                  <a:pt x="1225062" y="159098"/>
                  <a:pt x="1251857" y="205154"/>
                  <a:pt x="1276140" y="205991"/>
                </a:cubicBezTo>
                <a:cubicBezTo>
                  <a:pt x="1300423" y="206828"/>
                  <a:pt x="1315497" y="162448"/>
                  <a:pt x="1341455" y="160773"/>
                </a:cubicBezTo>
                <a:cubicBezTo>
                  <a:pt x="1367413" y="159098"/>
                  <a:pt x="1401745" y="197617"/>
                  <a:pt x="1431890" y="195942"/>
                </a:cubicBezTo>
                <a:cubicBezTo>
                  <a:pt x="1462035" y="194267"/>
                  <a:pt x="1492180" y="172496"/>
                  <a:pt x="1522325" y="150725"/>
                </a:cubicBezTo>
              </a:path>
            </a:pathLst>
          </a:custGeom>
          <a:noFill/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63" name="Oval 33"/>
          <p:cNvGrpSpPr/>
          <p:nvPr/>
        </p:nvGrpSpPr>
        <p:grpSpPr>
          <a:xfrm>
            <a:off x="2846520" y="2425680"/>
            <a:ext cx="664920" cy="542880"/>
            <a:chOff x="2846520" y="2425680"/>
            <a:chExt cx="664920" cy="542880"/>
          </a:xfrm>
        </p:grpSpPr>
        <p:pic>
          <p:nvPicPr>
            <p:cNvPr id="564" name="Oval 33" descr=""/>
            <p:cNvPicPr/>
            <p:nvPr/>
          </p:nvPicPr>
          <p:blipFill>
            <a:blip r:embed="rId7"/>
            <a:stretch/>
          </p:blipFill>
          <p:spPr>
            <a:xfrm>
              <a:off x="2846520" y="2425680"/>
              <a:ext cx="66492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"/>
            <p:cNvSpPr/>
            <p:nvPr/>
          </p:nvSpPr>
          <p:spPr>
            <a:xfrm>
              <a:off x="2941560" y="2505240"/>
              <a:ext cx="4698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66" name="Oval 19"/>
          <p:cNvGrpSpPr/>
          <p:nvPr/>
        </p:nvGrpSpPr>
        <p:grpSpPr>
          <a:xfrm>
            <a:off x="3144960" y="2712960"/>
            <a:ext cx="274680" cy="225360"/>
            <a:chOff x="3144960" y="2712960"/>
            <a:chExt cx="274680" cy="225360"/>
          </a:xfrm>
        </p:grpSpPr>
        <p:pic>
          <p:nvPicPr>
            <p:cNvPr id="567" name="Oval 19" descr=""/>
            <p:cNvPicPr/>
            <p:nvPr/>
          </p:nvPicPr>
          <p:blipFill>
            <a:blip r:embed="rId8"/>
            <a:stretch/>
          </p:blipFill>
          <p:spPr>
            <a:xfrm>
              <a:off x="3144960" y="2712960"/>
              <a:ext cx="27468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"/>
            <p:cNvSpPr/>
            <p:nvPr/>
          </p:nvSpPr>
          <p:spPr>
            <a:xfrm>
              <a:off x="3182760" y="2744640"/>
              <a:ext cx="196920" cy="1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69" name="Oval 34"/>
          <p:cNvGrpSpPr/>
          <p:nvPr/>
        </p:nvGrpSpPr>
        <p:grpSpPr>
          <a:xfrm>
            <a:off x="5443560" y="3151080"/>
            <a:ext cx="237960" cy="201600"/>
            <a:chOff x="5443560" y="3151080"/>
            <a:chExt cx="237960" cy="201600"/>
          </a:xfrm>
        </p:grpSpPr>
        <p:pic>
          <p:nvPicPr>
            <p:cNvPr id="570" name="Oval 34" descr=""/>
            <p:cNvPicPr/>
            <p:nvPr/>
          </p:nvPicPr>
          <p:blipFill>
            <a:blip r:embed="rId9"/>
            <a:stretch/>
          </p:blipFill>
          <p:spPr>
            <a:xfrm>
              <a:off x="5443560" y="3151080"/>
              <a:ext cx="23796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>
              <a:off x="5478480" y="3182760"/>
              <a:ext cx="169920" cy="1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72" name="Group 38"/>
          <p:cNvGrpSpPr/>
          <p:nvPr/>
        </p:nvGrpSpPr>
        <p:grpSpPr>
          <a:xfrm>
            <a:off x="5320800" y="4191120"/>
            <a:ext cx="375840" cy="276480"/>
            <a:chOff x="5320800" y="4191120"/>
            <a:chExt cx="375840" cy="276480"/>
          </a:xfrm>
        </p:grpSpPr>
        <p:grpSp>
          <p:nvGrpSpPr>
            <p:cNvPr id="573" name="Oval 39"/>
            <p:cNvGrpSpPr/>
            <p:nvPr/>
          </p:nvGrpSpPr>
          <p:grpSpPr>
            <a:xfrm>
              <a:off x="5376600" y="4206240"/>
              <a:ext cx="249840" cy="195120"/>
              <a:chOff x="5376600" y="4206240"/>
              <a:chExt cx="249840" cy="195120"/>
            </a:xfrm>
          </p:grpSpPr>
          <p:pic>
            <p:nvPicPr>
              <p:cNvPr id="574" name="Oval 39" descr=""/>
              <p:cNvPicPr/>
              <p:nvPr/>
            </p:nvPicPr>
            <p:blipFill>
              <a:blip r:embed="rId10"/>
              <a:stretch/>
            </p:blipFill>
            <p:spPr>
              <a:xfrm>
                <a:off x="5376600" y="4206240"/>
                <a:ext cx="249840" cy="19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5" name=""/>
              <p:cNvSpPr/>
              <p:nvPr/>
            </p:nvSpPr>
            <p:spPr>
              <a:xfrm>
                <a:off x="5414400" y="4237560"/>
                <a:ext cx="17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76" name="TextBox 40"/>
            <p:cNvSpPr/>
            <p:nvPr/>
          </p:nvSpPr>
          <p:spPr>
            <a:xfrm>
              <a:off x="5320800" y="419112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LD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77" name="Oval 41"/>
          <p:cNvGrpSpPr/>
          <p:nvPr/>
        </p:nvGrpSpPr>
        <p:grpSpPr>
          <a:xfrm>
            <a:off x="5705640" y="3913200"/>
            <a:ext cx="244440" cy="201600"/>
            <a:chOff x="5705640" y="3913200"/>
            <a:chExt cx="244440" cy="201600"/>
          </a:xfrm>
        </p:grpSpPr>
        <p:pic>
          <p:nvPicPr>
            <p:cNvPr id="578" name="Oval 41" descr=""/>
            <p:cNvPicPr/>
            <p:nvPr/>
          </p:nvPicPr>
          <p:blipFill>
            <a:blip r:embed="rId11"/>
            <a:stretch/>
          </p:blipFill>
          <p:spPr>
            <a:xfrm>
              <a:off x="5705640" y="3913200"/>
              <a:ext cx="2444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5743440" y="3944880"/>
              <a:ext cx="17172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80" name="Oval 42"/>
          <p:cNvSpPr/>
          <p:nvPr/>
        </p:nvSpPr>
        <p:spPr>
          <a:xfrm>
            <a:off x="4132440" y="3135240"/>
            <a:ext cx="1222200" cy="122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81" name="Oval 43"/>
          <p:cNvGrpSpPr/>
          <p:nvPr/>
        </p:nvGrpSpPr>
        <p:grpSpPr>
          <a:xfrm>
            <a:off x="4065480" y="3170160"/>
            <a:ext cx="1384560" cy="1077840"/>
            <a:chOff x="4065480" y="3170160"/>
            <a:chExt cx="1384560" cy="1077840"/>
          </a:xfrm>
        </p:grpSpPr>
        <p:pic>
          <p:nvPicPr>
            <p:cNvPr id="582" name="Oval 43" descr=""/>
            <p:cNvPicPr/>
            <p:nvPr/>
          </p:nvPicPr>
          <p:blipFill>
            <a:blip r:embed="rId12"/>
            <a:stretch/>
          </p:blipFill>
          <p:spPr>
            <a:xfrm>
              <a:off x="4065480" y="3170160"/>
              <a:ext cx="138456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4265640" y="3325680"/>
              <a:ext cx="97956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84" name="Freeform 44"/>
          <p:cNvSpPr/>
          <p:nvPr/>
        </p:nvSpPr>
        <p:spPr>
          <a:xfrm>
            <a:off x="4022640" y="3476520"/>
            <a:ext cx="73080" cy="169920"/>
          </a:xfrm>
          <a:custGeom>
            <a:avLst/>
            <a:gdLst/>
            <a:ahLst/>
            <a:rect l="l" t="t" r="r" b="b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8fbcff"/>
          </a:solidFill>
          <a:ln w="648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Freeform 45"/>
          <p:cNvSpPr/>
          <p:nvPr/>
        </p:nvSpPr>
        <p:spPr>
          <a:xfrm rot="1341600">
            <a:off x="4140000" y="3304800"/>
            <a:ext cx="71280" cy="169920"/>
          </a:xfrm>
          <a:custGeom>
            <a:avLst/>
            <a:gdLst/>
            <a:ahLst/>
            <a:rect l="l" t="t" r="r" b="b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8fbcff"/>
          </a:solidFill>
          <a:ln w="648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Freeform 46"/>
          <p:cNvSpPr/>
          <p:nvPr/>
        </p:nvSpPr>
        <p:spPr>
          <a:xfrm rot="2528400">
            <a:off x="4311360" y="3144600"/>
            <a:ext cx="71280" cy="210960"/>
          </a:xfrm>
          <a:custGeom>
            <a:avLst/>
            <a:gdLst/>
            <a:ahLst/>
            <a:rect l="l" t="t" r="r" b="b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8fbcff"/>
          </a:solidFill>
          <a:ln w="648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Freeform 47"/>
          <p:cNvSpPr/>
          <p:nvPr/>
        </p:nvSpPr>
        <p:spPr>
          <a:xfrm rot="4030800">
            <a:off x="4532040" y="3068640"/>
            <a:ext cx="61920" cy="208080"/>
          </a:xfrm>
          <a:custGeom>
            <a:avLst/>
            <a:gdLst>
              <a:gd name="textAreaLeft" fmla="*/ 0 w 61920"/>
              <a:gd name="textAreaRight" fmla="*/ 62280 w 6192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9c9cdf"/>
          </a:solidFill>
          <a:ln w="6480">
            <a:solidFill>
              <a:srgbClr val="1616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Freeform 48"/>
          <p:cNvSpPr/>
          <p:nvPr/>
        </p:nvSpPr>
        <p:spPr>
          <a:xfrm rot="4843800">
            <a:off x="4779360" y="3044520"/>
            <a:ext cx="60480" cy="209880"/>
          </a:xfrm>
          <a:custGeom>
            <a:avLst/>
            <a:gdLst>
              <a:gd name="textAreaLeft" fmla="*/ 0 w 60480"/>
              <a:gd name="textAreaRight" fmla="*/ 60840 w 60480"/>
              <a:gd name="textAreaTop" fmla="*/ 0 h 209880"/>
              <a:gd name="textAreaBottom" fmla="*/ 210240 h 209880"/>
            </a:gdLst>
            <a:ahLst/>
            <a:rect l="textAreaLeft" t="textAreaTop" r="textAreaRight" b="textAreaBottom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9c9cdf"/>
          </a:solidFill>
          <a:ln w="6480">
            <a:solidFill>
              <a:srgbClr val="1616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Freeform 49"/>
          <p:cNvSpPr/>
          <p:nvPr/>
        </p:nvSpPr>
        <p:spPr>
          <a:xfrm rot="5866200">
            <a:off x="5038560" y="3103200"/>
            <a:ext cx="60120" cy="206280"/>
          </a:xfrm>
          <a:custGeom>
            <a:avLst/>
            <a:gdLst>
              <a:gd name="textAreaLeft" fmla="*/ 0 w 60120"/>
              <a:gd name="textAreaRight" fmla="*/ 60480 w 601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6b6bcf"/>
          </a:solidFill>
          <a:ln w="6480">
            <a:solidFill>
              <a:srgbClr val="1616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Freeform 50"/>
          <p:cNvSpPr/>
          <p:nvPr/>
        </p:nvSpPr>
        <p:spPr>
          <a:xfrm rot="6862800">
            <a:off x="5235840" y="3213720"/>
            <a:ext cx="60120" cy="208080"/>
          </a:xfrm>
          <a:custGeom>
            <a:avLst/>
            <a:gdLst>
              <a:gd name="textAreaLeft" fmla="*/ 0 w 60120"/>
              <a:gd name="textAreaRight" fmla="*/ 60480 w 6012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6b6bcf"/>
          </a:solidFill>
          <a:ln w="6480">
            <a:solidFill>
              <a:srgbClr val="1616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Freeform 51"/>
          <p:cNvSpPr/>
          <p:nvPr/>
        </p:nvSpPr>
        <p:spPr>
          <a:xfrm rot="8314800">
            <a:off x="5376960" y="3382920"/>
            <a:ext cx="56880" cy="209520"/>
          </a:xfrm>
          <a:custGeom>
            <a:avLst/>
            <a:gdLst>
              <a:gd name="textAreaLeft" fmla="*/ 0 w 56880"/>
              <a:gd name="textAreaRight" fmla="*/ 57240 w 568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6b6bcf"/>
          </a:solidFill>
          <a:ln w="6480">
            <a:solidFill>
              <a:srgbClr val="1616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Freeform 52"/>
          <p:cNvSpPr/>
          <p:nvPr/>
        </p:nvSpPr>
        <p:spPr>
          <a:xfrm rot="10480800">
            <a:off x="5438880" y="3576600"/>
            <a:ext cx="61920" cy="209520"/>
          </a:xfrm>
          <a:custGeom>
            <a:avLst/>
            <a:gdLst>
              <a:gd name="textAreaLeft" fmla="*/ 0 w 61920"/>
              <a:gd name="textAreaRight" fmla="*/ 62280 w 619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6b6bcf"/>
          </a:solidFill>
          <a:ln w="6480">
            <a:solidFill>
              <a:srgbClr val="1616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Freeform 53"/>
          <p:cNvSpPr/>
          <p:nvPr/>
        </p:nvSpPr>
        <p:spPr>
          <a:xfrm rot="11473200">
            <a:off x="5403960" y="3781440"/>
            <a:ext cx="61920" cy="187200"/>
          </a:xfrm>
          <a:custGeom>
            <a:avLst/>
            <a:gdLst>
              <a:gd name="textAreaLeft" fmla="*/ 0 w 61920"/>
              <a:gd name="textAreaRight" fmla="*/ 62280 w 6192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6b6bcf"/>
          </a:solidFill>
          <a:ln w="6480">
            <a:solidFill>
              <a:srgbClr val="1616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Freeform 54"/>
          <p:cNvSpPr/>
          <p:nvPr/>
        </p:nvSpPr>
        <p:spPr>
          <a:xfrm rot="12519600">
            <a:off x="5307840" y="3941280"/>
            <a:ext cx="58680" cy="185760"/>
          </a:xfrm>
          <a:custGeom>
            <a:avLst/>
            <a:gdLst>
              <a:gd name="textAreaLeft" fmla="*/ 0 w 58680"/>
              <a:gd name="textAreaRight" fmla="*/ 59040 w 5868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6b6bcf"/>
          </a:solidFill>
          <a:ln w="6480">
            <a:solidFill>
              <a:srgbClr val="1616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Freeform 55"/>
          <p:cNvSpPr/>
          <p:nvPr/>
        </p:nvSpPr>
        <p:spPr>
          <a:xfrm rot="13710600">
            <a:off x="5141880" y="4068720"/>
            <a:ext cx="60480" cy="184320"/>
          </a:xfrm>
          <a:custGeom>
            <a:avLst/>
            <a:gdLst>
              <a:gd name="textAreaLeft" fmla="*/ 0 w 60480"/>
              <a:gd name="textAreaRight" fmla="*/ 60840 w 6048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6b6bcf"/>
          </a:solidFill>
          <a:ln w="6480">
            <a:solidFill>
              <a:srgbClr val="1616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Freeform 56"/>
          <p:cNvSpPr/>
          <p:nvPr/>
        </p:nvSpPr>
        <p:spPr>
          <a:xfrm rot="14791200">
            <a:off x="4917240" y="4142520"/>
            <a:ext cx="60480" cy="201600"/>
          </a:xfrm>
          <a:custGeom>
            <a:avLst/>
            <a:gdLst>
              <a:gd name="textAreaLeft" fmla="*/ 0 w 60480"/>
              <a:gd name="textAreaRight" fmla="*/ 60840 w 6048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6b6bcf"/>
          </a:solidFill>
          <a:ln w="6480">
            <a:solidFill>
              <a:srgbClr val="1616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Freeform 57"/>
          <p:cNvSpPr/>
          <p:nvPr/>
        </p:nvSpPr>
        <p:spPr>
          <a:xfrm rot="15658200">
            <a:off x="4671720" y="4155480"/>
            <a:ext cx="60120" cy="199800"/>
          </a:xfrm>
          <a:custGeom>
            <a:avLst/>
            <a:gdLst>
              <a:gd name="textAreaLeft" fmla="*/ 0 w 60120"/>
              <a:gd name="textAreaRight" fmla="*/ 60480 w 6012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6b6bcf"/>
          </a:solidFill>
          <a:ln w="6480">
            <a:solidFill>
              <a:srgbClr val="1616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Freeform 58"/>
          <p:cNvSpPr/>
          <p:nvPr/>
        </p:nvSpPr>
        <p:spPr>
          <a:xfrm rot="16615200">
            <a:off x="4427280" y="4112640"/>
            <a:ext cx="58680" cy="198360"/>
          </a:xfrm>
          <a:custGeom>
            <a:avLst/>
            <a:gdLst>
              <a:gd name="textAreaLeft" fmla="*/ 0 w 58680"/>
              <a:gd name="textAreaRight" fmla="*/ 59040 w 5868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6b6bcf"/>
          </a:solidFill>
          <a:ln w="6480">
            <a:solidFill>
              <a:srgbClr val="1616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Freeform 59"/>
          <p:cNvSpPr/>
          <p:nvPr/>
        </p:nvSpPr>
        <p:spPr>
          <a:xfrm rot="17774400">
            <a:off x="4221720" y="3984840"/>
            <a:ext cx="58680" cy="225360"/>
          </a:xfrm>
          <a:custGeom>
            <a:avLst/>
            <a:gdLst>
              <a:gd name="textAreaLeft" fmla="*/ 0 w 58680"/>
              <a:gd name="textAreaRight" fmla="*/ 59040 w 5868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6b6bcf"/>
          </a:solidFill>
          <a:ln w="6480">
            <a:solidFill>
              <a:srgbClr val="1616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Freeform 60"/>
          <p:cNvSpPr/>
          <p:nvPr/>
        </p:nvSpPr>
        <p:spPr>
          <a:xfrm rot="19176000">
            <a:off x="3993840" y="3817440"/>
            <a:ext cx="60120" cy="223920"/>
          </a:xfrm>
          <a:custGeom>
            <a:avLst/>
            <a:gdLst/>
            <a:ahLst/>
            <a:rect l="l" t="t" r="r" b="b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589aff"/>
          </a:solidFill>
          <a:ln w="648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Freeform 61"/>
          <p:cNvSpPr/>
          <p:nvPr/>
        </p:nvSpPr>
        <p:spPr>
          <a:xfrm rot="20571600">
            <a:off x="3925440" y="3661920"/>
            <a:ext cx="58680" cy="171360"/>
          </a:xfrm>
          <a:custGeom>
            <a:avLst/>
            <a:gdLst/>
            <a:ahLst/>
            <a:rect l="l" t="t" r="r" b="b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589aff"/>
          </a:solidFill>
          <a:ln w="648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Freeform 62"/>
          <p:cNvSpPr/>
          <p:nvPr/>
        </p:nvSpPr>
        <p:spPr>
          <a:xfrm>
            <a:off x="3905280" y="3179880"/>
            <a:ext cx="412560" cy="554040"/>
          </a:xfrm>
          <a:custGeom>
            <a:avLst/>
            <a:gdLst/>
            <a:ahLst/>
            <a:rect l="l" t="t" r="r" b="b"/>
            <a:pathLst>
              <a:path w="410921" h="554146">
                <a:moveTo>
                  <a:pt x="37501" y="545768"/>
                </a:moveTo>
                <a:cubicBezTo>
                  <a:pt x="22740" y="537390"/>
                  <a:pt x="7979" y="502681"/>
                  <a:pt x="3989" y="461988"/>
                </a:cubicBezTo>
                <a:cubicBezTo>
                  <a:pt x="0" y="421295"/>
                  <a:pt x="1595" y="350680"/>
                  <a:pt x="13564" y="301609"/>
                </a:cubicBezTo>
                <a:cubicBezTo>
                  <a:pt x="25533" y="252538"/>
                  <a:pt x="37901" y="211844"/>
                  <a:pt x="75801" y="167560"/>
                </a:cubicBezTo>
                <a:cubicBezTo>
                  <a:pt x="113702" y="123276"/>
                  <a:pt x="198279" y="63035"/>
                  <a:pt x="240967" y="35906"/>
                </a:cubicBezTo>
                <a:cubicBezTo>
                  <a:pt x="283655" y="8777"/>
                  <a:pt x="306396" y="9177"/>
                  <a:pt x="331929" y="4788"/>
                </a:cubicBezTo>
                <a:cubicBezTo>
                  <a:pt x="357462" y="400"/>
                  <a:pt x="384590" y="0"/>
                  <a:pt x="394165" y="9575"/>
                </a:cubicBezTo>
                <a:cubicBezTo>
                  <a:pt x="403740" y="19150"/>
                  <a:pt x="410921" y="39098"/>
                  <a:pt x="389378" y="62237"/>
                </a:cubicBezTo>
                <a:cubicBezTo>
                  <a:pt x="367835" y="85376"/>
                  <a:pt x="301209" y="112106"/>
                  <a:pt x="264904" y="148411"/>
                </a:cubicBezTo>
                <a:cubicBezTo>
                  <a:pt x="228599" y="184716"/>
                  <a:pt x="197482" y="235781"/>
                  <a:pt x="171550" y="280065"/>
                </a:cubicBezTo>
                <a:cubicBezTo>
                  <a:pt x="145618" y="324349"/>
                  <a:pt x="122478" y="375415"/>
                  <a:pt x="109313" y="414113"/>
                </a:cubicBezTo>
                <a:cubicBezTo>
                  <a:pt x="96148" y="452811"/>
                  <a:pt x="103728" y="488718"/>
                  <a:pt x="92557" y="512256"/>
                </a:cubicBezTo>
                <a:cubicBezTo>
                  <a:pt x="81386" y="535794"/>
                  <a:pt x="52262" y="554146"/>
                  <a:pt x="37501" y="545768"/>
                </a:cubicBezTo>
                <a:close/>
              </a:path>
            </a:pathLst>
          </a:custGeom>
          <a:gradFill rotWithShape="0">
            <a:gsLst>
              <a:gs pos="0">
                <a:srgbClr val="002e74"/>
              </a:gs>
              <a:gs pos="100000">
                <a:srgbClr val="c7ddff"/>
              </a:gs>
            </a:gsLst>
            <a:lin ang="8100000"/>
          </a:gradFill>
          <a:ln w="936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Freeform 63"/>
          <p:cNvSpPr/>
          <p:nvPr/>
        </p:nvSpPr>
        <p:spPr>
          <a:xfrm>
            <a:off x="4294080" y="2847960"/>
            <a:ext cx="1042920" cy="385920"/>
          </a:xfrm>
          <a:custGeom>
            <a:avLst/>
            <a:gdLst/>
            <a:ahLst/>
            <a:rect l="l" t="t" r="r" b="b"/>
            <a:pathLst>
              <a:path w="1041267" h="384990">
                <a:moveTo>
                  <a:pt x="361850" y="272884"/>
                </a:moveTo>
                <a:cubicBezTo>
                  <a:pt x="299215" y="273682"/>
                  <a:pt x="267298" y="274480"/>
                  <a:pt x="227802" y="282459"/>
                </a:cubicBezTo>
                <a:cubicBezTo>
                  <a:pt x="188306" y="290438"/>
                  <a:pt x="124872" y="320758"/>
                  <a:pt x="124872" y="320758"/>
                </a:cubicBezTo>
                <a:cubicBezTo>
                  <a:pt x="94551" y="331929"/>
                  <a:pt x="65827" y="355467"/>
                  <a:pt x="45879" y="349483"/>
                </a:cubicBezTo>
                <a:cubicBezTo>
                  <a:pt x="25931" y="343499"/>
                  <a:pt x="0" y="303205"/>
                  <a:pt x="5186" y="284853"/>
                </a:cubicBezTo>
                <a:cubicBezTo>
                  <a:pt x="10372" y="266501"/>
                  <a:pt x="37102" y="250543"/>
                  <a:pt x="76997" y="239372"/>
                </a:cubicBezTo>
                <a:cubicBezTo>
                  <a:pt x="116892" y="228201"/>
                  <a:pt x="200673" y="224211"/>
                  <a:pt x="244558" y="217828"/>
                </a:cubicBezTo>
                <a:cubicBezTo>
                  <a:pt x="288443" y="211445"/>
                  <a:pt x="327939" y="213041"/>
                  <a:pt x="340306" y="201072"/>
                </a:cubicBezTo>
                <a:cubicBezTo>
                  <a:pt x="352674" y="189104"/>
                  <a:pt x="344296" y="155193"/>
                  <a:pt x="318763" y="146017"/>
                </a:cubicBezTo>
                <a:cubicBezTo>
                  <a:pt x="293230" y="136841"/>
                  <a:pt x="209449" y="152001"/>
                  <a:pt x="187108" y="146017"/>
                </a:cubicBezTo>
                <a:cubicBezTo>
                  <a:pt x="164767" y="140033"/>
                  <a:pt x="165166" y="117292"/>
                  <a:pt x="184715" y="110111"/>
                </a:cubicBezTo>
                <a:cubicBezTo>
                  <a:pt x="204264" y="102930"/>
                  <a:pt x="270889" y="106920"/>
                  <a:pt x="304401" y="102930"/>
                </a:cubicBezTo>
                <a:cubicBezTo>
                  <a:pt x="337913" y="98941"/>
                  <a:pt x="376212" y="94153"/>
                  <a:pt x="385787" y="86174"/>
                </a:cubicBezTo>
                <a:cubicBezTo>
                  <a:pt x="395362" y="78195"/>
                  <a:pt x="388181" y="59843"/>
                  <a:pt x="361850" y="55056"/>
                </a:cubicBezTo>
                <a:cubicBezTo>
                  <a:pt x="335519" y="50269"/>
                  <a:pt x="249745" y="63433"/>
                  <a:pt x="227802" y="57449"/>
                </a:cubicBezTo>
                <a:cubicBezTo>
                  <a:pt x="205860" y="51465"/>
                  <a:pt x="199077" y="27528"/>
                  <a:pt x="230195" y="19150"/>
                </a:cubicBezTo>
                <a:cubicBezTo>
                  <a:pt x="261313" y="10772"/>
                  <a:pt x="347488" y="0"/>
                  <a:pt x="414512" y="7181"/>
                </a:cubicBezTo>
                <a:cubicBezTo>
                  <a:pt x="481536" y="14362"/>
                  <a:pt x="571300" y="43486"/>
                  <a:pt x="632340" y="62237"/>
                </a:cubicBezTo>
                <a:cubicBezTo>
                  <a:pt x="693380" y="80988"/>
                  <a:pt x="732477" y="106122"/>
                  <a:pt x="780750" y="119686"/>
                </a:cubicBezTo>
                <a:cubicBezTo>
                  <a:pt x="829023" y="133250"/>
                  <a:pt x="880090" y="123675"/>
                  <a:pt x="921980" y="143623"/>
                </a:cubicBezTo>
                <a:cubicBezTo>
                  <a:pt x="963870" y="163571"/>
                  <a:pt x="1022915" y="220222"/>
                  <a:pt x="1032091" y="239372"/>
                </a:cubicBezTo>
                <a:cubicBezTo>
                  <a:pt x="1041267" y="258522"/>
                  <a:pt x="1004164" y="265703"/>
                  <a:pt x="977035" y="258522"/>
                </a:cubicBezTo>
                <a:cubicBezTo>
                  <a:pt x="949906" y="251341"/>
                  <a:pt x="913203" y="216632"/>
                  <a:pt x="869318" y="196285"/>
                </a:cubicBezTo>
                <a:cubicBezTo>
                  <a:pt x="825433" y="175938"/>
                  <a:pt x="755217" y="149608"/>
                  <a:pt x="713726" y="136442"/>
                </a:cubicBezTo>
                <a:cubicBezTo>
                  <a:pt x="672235" y="123277"/>
                  <a:pt x="639122" y="115297"/>
                  <a:pt x="620371" y="117292"/>
                </a:cubicBezTo>
                <a:cubicBezTo>
                  <a:pt x="601620" y="119287"/>
                  <a:pt x="579280" y="136442"/>
                  <a:pt x="601222" y="148411"/>
                </a:cubicBezTo>
                <a:cubicBezTo>
                  <a:pt x="623164" y="160380"/>
                  <a:pt x="707742" y="175939"/>
                  <a:pt x="752026" y="189104"/>
                </a:cubicBezTo>
                <a:cubicBezTo>
                  <a:pt x="796310" y="202269"/>
                  <a:pt x="849769" y="216232"/>
                  <a:pt x="866924" y="227403"/>
                </a:cubicBezTo>
                <a:cubicBezTo>
                  <a:pt x="884079" y="238574"/>
                  <a:pt x="881287" y="257724"/>
                  <a:pt x="854956" y="256128"/>
                </a:cubicBezTo>
                <a:cubicBezTo>
                  <a:pt x="828625" y="254532"/>
                  <a:pt x="765590" y="231392"/>
                  <a:pt x="708939" y="217828"/>
                </a:cubicBezTo>
                <a:cubicBezTo>
                  <a:pt x="652288" y="204264"/>
                  <a:pt x="557736" y="178333"/>
                  <a:pt x="515048" y="174742"/>
                </a:cubicBezTo>
                <a:cubicBezTo>
                  <a:pt x="472360" y="171152"/>
                  <a:pt x="457598" y="187109"/>
                  <a:pt x="452811" y="196285"/>
                </a:cubicBezTo>
                <a:cubicBezTo>
                  <a:pt x="448024" y="205461"/>
                  <a:pt x="453609" y="222217"/>
                  <a:pt x="486323" y="229797"/>
                </a:cubicBezTo>
                <a:cubicBezTo>
                  <a:pt x="519037" y="237377"/>
                  <a:pt x="606408" y="235782"/>
                  <a:pt x="649096" y="241766"/>
                </a:cubicBezTo>
                <a:cubicBezTo>
                  <a:pt x="691784" y="247750"/>
                  <a:pt x="700561" y="256926"/>
                  <a:pt x="742451" y="265703"/>
                </a:cubicBezTo>
                <a:cubicBezTo>
                  <a:pt x="784341" y="274480"/>
                  <a:pt x="861738" y="279267"/>
                  <a:pt x="900436" y="294427"/>
                </a:cubicBezTo>
                <a:cubicBezTo>
                  <a:pt x="939134" y="309587"/>
                  <a:pt x="969056" y="341903"/>
                  <a:pt x="974641" y="356664"/>
                </a:cubicBezTo>
                <a:cubicBezTo>
                  <a:pt x="980226" y="371425"/>
                  <a:pt x="963470" y="384990"/>
                  <a:pt x="933948" y="382995"/>
                </a:cubicBezTo>
                <a:cubicBezTo>
                  <a:pt x="904426" y="381000"/>
                  <a:pt x="852561" y="362250"/>
                  <a:pt x="797506" y="344696"/>
                </a:cubicBezTo>
                <a:cubicBezTo>
                  <a:pt x="742451" y="327142"/>
                  <a:pt x="670240" y="288842"/>
                  <a:pt x="603615" y="277671"/>
                </a:cubicBezTo>
                <a:cubicBezTo>
                  <a:pt x="536990" y="266500"/>
                  <a:pt x="424485" y="272086"/>
                  <a:pt x="361850" y="272884"/>
                </a:cubicBezTo>
                <a:close/>
              </a:path>
            </a:pathLst>
          </a:custGeom>
          <a:gradFill rotWithShape="0">
            <a:gsLst>
              <a:gs pos="0">
                <a:srgbClr val="002e74"/>
              </a:gs>
              <a:gs pos="100000">
                <a:srgbClr val="c7ddff"/>
              </a:gs>
            </a:gsLst>
            <a:lin ang="10800000"/>
          </a:gradFill>
          <a:ln w="936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Freeform 64"/>
          <p:cNvSpPr/>
          <p:nvPr/>
        </p:nvSpPr>
        <p:spPr>
          <a:xfrm>
            <a:off x="5253120" y="3218040"/>
            <a:ext cx="579240" cy="485640"/>
          </a:xfrm>
          <a:custGeom>
            <a:avLst/>
            <a:gdLst/>
            <a:ahLst/>
            <a:rect l="l" t="t" r="r" b="b"/>
            <a:pathLst>
              <a:path w="580077" h="487122">
                <a:moveTo>
                  <a:pt x="99339" y="19150"/>
                </a:moveTo>
                <a:cubicBezTo>
                  <a:pt x="60242" y="0"/>
                  <a:pt x="47076" y="10374"/>
                  <a:pt x="34708" y="16757"/>
                </a:cubicBezTo>
                <a:cubicBezTo>
                  <a:pt x="22341" y="23140"/>
                  <a:pt x="0" y="21943"/>
                  <a:pt x="25134" y="57450"/>
                </a:cubicBezTo>
                <a:cubicBezTo>
                  <a:pt x="50268" y="92957"/>
                  <a:pt x="147214" y="184317"/>
                  <a:pt x="185513" y="229798"/>
                </a:cubicBezTo>
                <a:cubicBezTo>
                  <a:pt x="223812" y="275279"/>
                  <a:pt x="245754" y="305599"/>
                  <a:pt x="254930" y="330334"/>
                </a:cubicBezTo>
                <a:cubicBezTo>
                  <a:pt x="264106" y="355069"/>
                  <a:pt x="234185" y="357463"/>
                  <a:pt x="240568" y="378208"/>
                </a:cubicBezTo>
                <a:cubicBezTo>
                  <a:pt x="246951" y="398954"/>
                  <a:pt x="265702" y="437652"/>
                  <a:pt x="293230" y="454807"/>
                </a:cubicBezTo>
                <a:cubicBezTo>
                  <a:pt x="320758" y="471962"/>
                  <a:pt x="360254" y="487122"/>
                  <a:pt x="405735" y="481138"/>
                </a:cubicBezTo>
                <a:cubicBezTo>
                  <a:pt x="451216" y="475154"/>
                  <a:pt x="552151" y="428875"/>
                  <a:pt x="566114" y="418901"/>
                </a:cubicBezTo>
                <a:cubicBezTo>
                  <a:pt x="580077" y="408927"/>
                  <a:pt x="489515" y="421295"/>
                  <a:pt x="489515" y="421295"/>
                </a:cubicBezTo>
                <a:cubicBezTo>
                  <a:pt x="460790" y="422093"/>
                  <a:pt x="420496" y="433663"/>
                  <a:pt x="393766" y="423689"/>
                </a:cubicBezTo>
                <a:cubicBezTo>
                  <a:pt x="367036" y="413715"/>
                  <a:pt x="336317" y="385389"/>
                  <a:pt x="329136" y="361452"/>
                </a:cubicBezTo>
                <a:cubicBezTo>
                  <a:pt x="321955" y="337515"/>
                  <a:pt x="360653" y="318365"/>
                  <a:pt x="350679" y="280066"/>
                </a:cubicBezTo>
                <a:cubicBezTo>
                  <a:pt x="340705" y="241767"/>
                  <a:pt x="310784" y="175141"/>
                  <a:pt x="269293" y="131655"/>
                </a:cubicBezTo>
                <a:cubicBezTo>
                  <a:pt x="227802" y="88169"/>
                  <a:pt x="138436" y="38300"/>
                  <a:pt x="99339" y="19150"/>
                </a:cubicBezTo>
                <a:close/>
              </a:path>
            </a:pathLst>
          </a:custGeom>
          <a:gradFill rotWithShape="0">
            <a:gsLst>
              <a:gs pos="0">
                <a:srgbClr val="002e74"/>
              </a:gs>
              <a:gs pos="100000">
                <a:srgbClr val="c7ddff"/>
              </a:gs>
            </a:gsLst>
            <a:lin ang="13500000"/>
          </a:gradFill>
          <a:ln w="936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05" name="Group 37"/>
          <p:cNvGrpSpPr/>
          <p:nvPr/>
        </p:nvGrpSpPr>
        <p:grpSpPr>
          <a:xfrm>
            <a:off x="5512680" y="3436920"/>
            <a:ext cx="375840" cy="276480"/>
            <a:chOff x="5512680" y="3436920"/>
            <a:chExt cx="375840" cy="276480"/>
          </a:xfrm>
        </p:grpSpPr>
        <p:grpSp>
          <p:nvGrpSpPr>
            <p:cNvPr id="606" name="Oval 35"/>
            <p:cNvGrpSpPr/>
            <p:nvPr/>
          </p:nvGrpSpPr>
          <p:grpSpPr>
            <a:xfrm>
              <a:off x="5571720" y="3456360"/>
              <a:ext cx="243720" cy="189000"/>
              <a:chOff x="5571720" y="3456360"/>
              <a:chExt cx="243720" cy="189000"/>
            </a:xfrm>
          </p:grpSpPr>
          <p:pic>
            <p:nvPicPr>
              <p:cNvPr id="607" name="Oval 35" descr=""/>
              <p:cNvPicPr/>
              <p:nvPr/>
            </p:nvPicPr>
            <p:blipFill>
              <a:blip r:embed="rId13"/>
              <a:stretch/>
            </p:blipFill>
            <p:spPr>
              <a:xfrm>
                <a:off x="5571720" y="3456360"/>
                <a:ext cx="243720" cy="18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8" name=""/>
              <p:cNvSpPr/>
              <p:nvPr/>
            </p:nvSpPr>
            <p:spPr>
              <a:xfrm>
                <a:off x="5606640" y="3483000"/>
                <a:ext cx="1731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609" name="TextBox 36"/>
            <p:cNvSpPr/>
            <p:nvPr/>
          </p:nvSpPr>
          <p:spPr>
            <a:xfrm>
              <a:off x="5512680" y="343692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LD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10" name="Freeform 65"/>
          <p:cNvSpPr/>
          <p:nvPr/>
        </p:nvSpPr>
        <p:spPr>
          <a:xfrm>
            <a:off x="3828960" y="3755880"/>
            <a:ext cx="520920" cy="541440"/>
          </a:xfrm>
          <a:custGeom>
            <a:avLst/>
            <a:gdLst/>
            <a:ahLst/>
            <a:rect l="l" t="t" r="r" b="b"/>
            <a:pathLst>
              <a:path w="522229" h="541379">
                <a:moveTo>
                  <a:pt x="199476" y="251739"/>
                </a:moveTo>
                <a:cubicBezTo>
                  <a:pt x="194290" y="263708"/>
                  <a:pt x="162772" y="245356"/>
                  <a:pt x="142027" y="218227"/>
                </a:cubicBezTo>
                <a:cubicBezTo>
                  <a:pt x="121282" y="191098"/>
                  <a:pt x="97344" y="107319"/>
                  <a:pt x="75003" y="88967"/>
                </a:cubicBezTo>
                <a:cubicBezTo>
                  <a:pt x="52662" y="70615"/>
                  <a:pt x="15958" y="88169"/>
                  <a:pt x="7979" y="108116"/>
                </a:cubicBezTo>
                <a:cubicBezTo>
                  <a:pt x="0" y="128063"/>
                  <a:pt x="4788" y="170752"/>
                  <a:pt x="27129" y="208652"/>
                </a:cubicBezTo>
                <a:cubicBezTo>
                  <a:pt x="49470" y="246553"/>
                  <a:pt x="99339" y="284054"/>
                  <a:pt x="142027" y="335519"/>
                </a:cubicBezTo>
                <a:cubicBezTo>
                  <a:pt x="184715" y="386984"/>
                  <a:pt x="249346" y="493505"/>
                  <a:pt x="283257" y="517442"/>
                </a:cubicBezTo>
                <a:cubicBezTo>
                  <a:pt x="317168" y="541379"/>
                  <a:pt x="346291" y="499888"/>
                  <a:pt x="345493" y="479143"/>
                </a:cubicBezTo>
                <a:cubicBezTo>
                  <a:pt x="344695" y="458398"/>
                  <a:pt x="288443" y="415709"/>
                  <a:pt x="278469" y="392969"/>
                </a:cubicBezTo>
                <a:cubicBezTo>
                  <a:pt x="268495" y="370229"/>
                  <a:pt x="273283" y="347089"/>
                  <a:pt x="285650" y="342701"/>
                </a:cubicBezTo>
                <a:cubicBezTo>
                  <a:pt x="298017" y="338313"/>
                  <a:pt x="331928" y="349483"/>
                  <a:pt x="352674" y="366638"/>
                </a:cubicBezTo>
                <a:cubicBezTo>
                  <a:pt x="373420" y="383793"/>
                  <a:pt x="385788" y="426081"/>
                  <a:pt x="410124" y="445630"/>
                </a:cubicBezTo>
                <a:cubicBezTo>
                  <a:pt x="434460" y="465179"/>
                  <a:pt x="481137" y="479940"/>
                  <a:pt x="498691" y="483930"/>
                </a:cubicBezTo>
                <a:cubicBezTo>
                  <a:pt x="516245" y="487920"/>
                  <a:pt x="522229" y="482334"/>
                  <a:pt x="515447" y="469568"/>
                </a:cubicBezTo>
                <a:cubicBezTo>
                  <a:pt x="508665" y="456802"/>
                  <a:pt x="489515" y="434460"/>
                  <a:pt x="457998" y="407331"/>
                </a:cubicBezTo>
                <a:cubicBezTo>
                  <a:pt x="426481" y="380202"/>
                  <a:pt x="363047" y="342302"/>
                  <a:pt x="326343" y="306795"/>
                </a:cubicBezTo>
                <a:cubicBezTo>
                  <a:pt x="289639" y="271288"/>
                  <a:pt x="258921" y="231393"/>
                  <a:pt x="237776" y="194290"/>
                </a:cubicBezTo>
                <a:cubicBezTo>
                  <a:pt x="216632" y="157187"/>
                  <a:pt x="217828" y="115297"/>
                  <a:pt x="199476" y="84179"/>
                </a:cubicBezTo>
                <a:cubicBezTo>
                  <a:pt x="181124" y="53061"/>
                  <a:pt x="146815" y="15160"/>
                  <a:pt x="127665" y="7580"/>
                </a:cubicBezTo>
                <a:cubicBezTo>
                  <a:pt x="108515" y="0"/>
                  <a:pt x="76998" y="15560"/>
                  <a:pt x="84578" y="38699"/>
                </a:cubicBezTo>
                <a:cubicBezTo>
                  <a:pt x="92158" y="61838"/>
                  <a:pt x="152002" y="114899"/>
                  <a:pt x="173146" y="146416"/>
                </a:cubicBezTo>
                <a:cubicBezTo>
                  <a:pt x="194290" y="177933"/>
                  <a:pt x="204663" y="239771"/>
                  <a:pt x="199476" y="251739"/>
                </a:cubicBezTo>
                <a:close/>
              </a:path>
            </a:pathLst>
          </a:custGeom>
          <a:gradFill rotWithShape="0">
            <a:gsLst>
              <a:gs pos="0">
                <a:srgbClr val="002e74"/>
              </a:gs>
              <a:gs pos="100000">
                <a:srgbClr val="c7ddff"/>
              </a:gs>
            </a:gsLst>
            <a:lin ang="13500000"/>
          </a:gradFill>
          <a:ln w="936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Freeform 66"/>
          <p:cNvSpPr/>
          <p:nvPr/>
        </p:nvSpPr>
        <p:spPr>
          <a:xfrm>
            <a:off x="4362480" y="4202280"/>
            <a:ext cx="822240" cy="204480"/>
          </a:xfrm>
          <a:custGeom>
            <a:avLst/>
            <a:gdLst/>
            <a:ahLst/>
            <a:rect l="l" t="t" r="r" b="b"/>
            <a:pathLst>
              <a:path w="819848" h="205461">
                <a:moveTo>
                  <a:pt x="11569" y="42289"/>
                </a:moveTo>
                <a:cubicBezTo>
                  <a:pt x="0" y="49470"/>
                  <a:pt x="22341" y="79791"/>
                  <a:pt x="49869" y="97345"/>
                </a:cubicBezTo>
                <a:cubicBezTo>
                  <a:pt x="77397" y="114899"/>
                  <a:pt x="136043" y="136442"/>
                  <a:pt x="176736" y="147613"/>
                </a:cubicBezTo>
                <a:cubicBezTo>
                  <a:pt x="217429" y="158784"/>
                  <a:pt x="248548" y="165167"/>
                  <a:pt x="294028" y="164369"/>
                </a:cubicBezTo>
                <a:cubicBezTo>
                  <a:pt x="339508" y="163571"/>
                  <a:pt x="412915" y="139236"/>
                  <a:pt x="449619" y="142826"/>
                </a:cubicBezTo>
                <a:cubicBezTo>
                  <a:pt x="486323" y="146416"/>
                  <a:pt x="484727" y="177534"/>
                  <a:pt x="514250" y="185912"/>
                </a:cubicBezTo>
                <a:cubicBezTo>
                  <a:pt x="543773" y="194290"/>
                  <a:pt x="583668" y="205461"/>
                  <a:pt x="626755" y="193094"/>
                </a:cubicBezTo>
                <a:cubicBezTo>
                  <a:pt x="669842" y="180727"/>
                  <a:pt x="740855" y="140831"/>
                  <a:pt x="772771" y="111707"/>
                </a:cubicBezTo>
                <a:cubicBezTo>
                  <a:pt x="804687" y="82583"/>
                  <a:pt x="819848" y="35507"/>
                  <a:pt x="818252" y="18352"/>
                </a:cubicBezTo>
                <a:cubicBezTo>
                  <a:pt x="816656" y="1197"/>
                  <a:pt x="797506" y="0"/>
                  <a:pt x="763196" y="8777"/>
                </a:cubicBezTo>
                <a:cubicBezTo>
                  <a:pt x="728886" y="17554"/>
                  <a:pt x="656277" y="53859"/>
                  <a:pt x="612392" y="71014"/>
                </a:cubicBezTo>
                <a:cubicBezTo>
                  <a:pt x="568507" y="88169"/>
                  <a:pt x="534596" y="104925"/>
                  <a:pt x="499887" y="111707"/>
                </a:cubicBezTo>
                <a:cubicBezTo>
                  <a:pt x="465178" y="118489"/>
                  <a:pt x="432464" y="116095"/>
                  <a:pt x="404139" y="111707"/>
                </a:cubicBezTo>
                <a:cubicBezTo>
                  <a:pt x="375814" y="107319"/>
                  <a:pt x="361850" y="89764"/>
                  <a:pt x="329934" y="85376"/>
                </a:cubicBezTo>
                <a:cubicBezTo>
                  <a:pt x="298018" y="80988"/>
                  <a:pt x="247749" y="90562"/>
                  <a:pt x="212641" y="85376"/>
                </a:cubicBezTo>
                <a:cubicBezTo>
                  <a:pt x="177533" y="80190"/>
                  <a:pt x="153596" y="62636"/>
                  <a:pt x="119286" y="54258"/>
                </a:cubicBezTo>
                <a:cubicBezTo>
                  <a:pt x="84976" y="45880"/>
                  <a:pt x="23139" y="35108"/>
                  <a:pt x="11569" y="42289"/>
                </a:cubicBezTo>
                <a:close/>
              </a:path>
            </a:pathLst>
          </a:custGeom>
          <a:gradFill rotWithShape="0">
            <a:gsLst>
              <a:gs pos="0">
                <a:srgbClr val="002e74"/>
              </a:gs>
              <a:gs pos="100000">
                <a:srgbClr val="c7ddff"/>
              </a:gs>
            </a:gsLst>
            <a:lin ang="10800000"/>
          </a:gradFill>
          <a:ln w="936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Freeform 67"/>
          <p:cNvSpPr/>
          <p:nvPr/>
        </p:nvSpPr>
        <p:spPr>
          <a:xfrm>
            <a:off x="5189400" y="3686040"/>
            <a:ext cx="773280" cy="736560"/>
          </a:xfrm>
          <a:custGeom>
            <a:avLst/>
            <a:gdLst/>
            <a:ahLst/>
            <a:rect l="l" t="t" r="r" b="b"/>
            <a:pathLst>
              <a:path w="773569" h="736467">
                <a:moveTo>
                  <a:pt x="55454" y="558135"/>
                </a:moveTo>
                <a:cubicBezTo>
                  <a:pt x="28724" y="566513"/>
                  <a:pt x="0" y="548959"/>
                  <a:pt x="12367" y="527017"/>
                </a:cubicBezTo>
                <a:cubicBezTo>
                  <a:pt x="24735" y="505075"/>
                  <a:pt x="91360" y="455206"/>
                  <a:pt x="129659" y="426481"/>
                </a:cubicBezTo>
                <a:cubicBezTo>
                  <a:pt x="167958" y="397756"/>
                  <a:pt x="207853" y="394165"/>
                  <a:pt x="242163" y="354669"/>
                </a:cubicBezTo>
                <a:cubicBezTo>
                  <a:pt x="276473" y="315173"/>
                  <a:pt x="316368" y="227004"/>
                  <a:pt x="335518" y="189503"/>
                </a:cubicBezTo>
                <a:cubicBezTo>
                  <a:pt x="354668" y="152002"/>
                  <a:pt x="356663" y="155991"/>
                  <a:pt x="357062" y="129660"/>
                </a:cubicBezTo>
                <a:cubicBezTo>
                  <a:pt x="357461" y="103329"/>
                  <a:pt x="333922" y="51466"/>
                  <a:pt x="337912" y="31518"/>
                </a:cubicBezTo>
                <a:cubicBezTo>
                  <a:pt x="341902" y="11570"/>
                  <a:pt x="365839" y="0"/>
                  <a:pt x="380999" y="9974"/>
                </a:cubicBezTo>
                <a:cubicBezTo>
                  <a:pt x="396159" y="19948"/>
                  <a:pt x="423687" y="67424"/>
                  <a:pt x="428873" y="91361"/>
                </a:cubicBezTo>
                <a:cubicBezTo>
                  <a:pt x="434059" y="115298"/>
                  <a:pt x="415707" y="132054"/>
                  <a:pt x="412117" y="153597"/>
                </a:cubicBezTo>
                <a:cubicBezTo>
                  <a:pt x="408527" y="175140"/>
                  <a:pt x="398553" y="208253"/>
                  <a:pt x="407330" y="220621"/>
                </a:cubicBezTo>
                <a:cubicBezTo>
                  <a:pt x="416107" y="232989"/>
                  <a:pt x="445629" y="236180"/>
                  <a:pt x="464779" y="227802"/>
                </a:cubicBezTo>
                <a:cubicBezTo>
                  <a:pt x="483929" y="219424"/>
                  <a:pt x="503078" y="181524"/>
                  <a:pt x="522228" y="170353"/>
                </a:cubicBezTo>
                <a:cubicBezTo>
                  <a:pt x="541378" y="159182"/>
                  <a:pt x="584066" y="151203"/>
                  <a:pt x="579678" y="160778"/>
                </a:cubicBezTo>
                <a:cubicBezTo>
                  <a:pt x="575290" y="170353"/>
                  <a:pt x="516245" y="199875"/>
                  <a:pt x="495898" y="227802"/>
                </a:cubicBezTo>
                <a:cubicBezTo>
                  <a:pt x="475551" y="255729"/>
                  <a:pt x="460391" y="310386"/>
                  <a:pt x="457598" y="328339"/>
                </a:cubicBezTo>
                <a:cubicBezTo>
                  <a:pt x="454805" y="346292"/>
                  <a:pt x="461986" y="351079"/>
                  <a:pt x="479141" y="335520"/>
                </a:cubicBezTo>
                <a:cubicBezTo>
                  <a:pt x="496296" y="319961"/>
                  <a:pt x="524223" y="253735"/>
                  <a:pt x="560528" y="234984"/>
                </a:cubicBezTo>
                <a:cubicBezTo>
                  <a:pt x="596833" y="216233"/>
                  <a:pt x="661463" y="209850"/>
                  <a:pt x="696970" y="223015"/>
                </a:cubicBezTo>
                <a:cubicBezTo>
                  <a:pt x="732477" y="236180"/>
                  <a:pt x="773569" y="308391"/>
                  <a:pt x="773569" y="313976"/>
                </a:cubicBezTo>
                <a:cubicBezTo>
                  <a:pt x="773569" y="319561"/>
                  <a:pt x="729285" y="263708"/>
                  <a:pt x="696970" y="256527"/>
                </a:cubicBezTo>
                <a:cubicBezTo>
                  <a:pt x="664655" y="249346"/>
                  <a:pt x="613190" y="248947"/>
                  <a:pt x="579678" y="270889"/>
                </a:cubicBezTo>
                <a:cubicBezTo>
                  <a:pt x="546166" y="292831"/>
                  <a:pt x="540182" y="345493"/>
                  <a:pt x="495898" y="388181"/>
                </a:cubicBezTo>
                <a:cubicBezTo>
                  <a:pt x="451614" y="430869"/>
                  <a:pt x="366238" y="491909"/>
                  <a:pt x="313975" y="527017"/>
                </a:cubicBezTo>
                <a:cubicBezTo>
                  <a:pt x="261712" y="562125"/>
                  <a:pt x="199875" y="566913"/>
                  <a:pt x="182321" y="598829"/>
                </a:cubicBezTo>
                <a:cubicBezTo>
                  <a:pt x="164767" y="630745"/>
                  <a:pt x="211843" y="700561"/>
                  <a:pt x="208651" y="718514"/>
                </a:cubicBezTo>
                <a:cubicBezTo>
                  <a:pt x="205459" y="736467"/>
                  <a:pt x="175937" y="722903"/>
                  <a:pt x="163171" y="706546"/>
                </a:cubicBezTo>
                <a:cubicBezTo>
                  <a:pt x="150405" y="690189"/>
                  <a:pt x="122876" y="649895"/>
                  <a:pt x="132052" y="620372"/>
                </a:cubicBezTo>
                <a:cubicBezTo>
                  <a:pt x="141228" y="590850"/>
                  <a:pt x="178331" y="558934"/>
                  <a:pt x="218226" y="529411"/>
                </a:cubicBezTo>
                <a:cubicBezTo>
                  <a:pt x="258121" y="499888"/>
                  <a:pt x="347487" y="465578"/>
                  <a:pt x="371424" y="443237"/>
                </a:cubicBezTo>
                <a:cubicBezTo>
                  <a:pt x="395361" y="420896"/>
                  <a:pt x="377009" y="395363"/>
                  <a:pt x="361849" y="395363"/>
                </a:cubicBezTo>
                <a:cubicBezTo>
                  <a:pt x="346689" y="395363"/>
                  <a:pt x="311581" y="421694"/>
                  <a:pt x="280463" y="443237"/>
                </a:cubicBezTo>
                <a:cubicBezTo>
                  <a:pt x="249345" y="464780"/>
                  <a:pt x="191097" y="518639"/>
                  <a:pt x="175139" y="524623"/>
                </a:cubicBezTo>
                <a:cubicBezTo>
                  <a:pt x="159181" y="530607"/>
                  <a:pt x="166362" y="498692"/>
                  <a:pt x="184714" y="479143"/>
                </a:cubicBezTo>
                <a:cubicBezTo>
                  <a:pt x="203066" y="459594"/>
                  <a:pt x="256525" y="428077"/>
                  <a:pt x="285250" y="407331"/>
                </a:cubicBezTo>
                <a:cubicBezTo>
                  <a:pt x="313975" y="386585"/>
                  <a:pt x="343498" y="373021"/>
                  <a:pt x="357062" y="354669"/>
                </a:cubicBezTo>
                <a:cubicBezTo>
                  <a:pt x="370627" y="336317"/>
                  <a:pt x="376212" y="303204"/>
                  <a:pt x="366637" y="297220"/>
                </a:cubicBezTo>
                <a:cubicBezTo>
                  <a:pt x="357062" y="291236"/>
                  <a:pt x="322353" y="300811"/>
                  <a:pt x="299613" y="318764"/>
                </a:cubicBezTo>
                <a:cubicBezTo>
                  <a:pt x="276873" y="336717"/>
                  <a:pt x="230195" y="404937"/>
                  <a:pt x="230195" y="404937"/>
                </a:cubicBezTo>
                <a:cubicBezTo>
                  <a:pt x="209051" y="431268"/>
                  <a:pt x="201869" y="451615"/>
                  <a:pt x="172746" y="476749"/>
                </a:cubicBezTo>
                <a:cubicBezTo>
                  <a:pt x="143623" y="501883"/>
                  <a:pt x="82184" y="549757"/>
                  <a:pt x="55454" y="558135"/>
                </a:cubicBezTo>
                <a:close/>
              </a:path>
            </a:pathLst>
          </a:custGeom>
          <a:gradFill rotWithShape="0">
            <a:gsLst>
              <a:gs pos="0">
                <a:srgbClr val="002e74"/>
              </a:gs>
              <a:gs pos="100000">
                <a:srgbClr val="c7ddff"/>
              </a:gs>
            </a:gsLst>
            <a:lin ang="18900000"/>
          </a:gradFill>
          <a:ln w="936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Freeform 68"/>
          <p:cNvSpPr/>
          <p:nvPr/>
        </p:nvSpPr>
        <p:spPr>
          <a:xfrm>
            <a:off x="4897440" y="4524480"/>
            <a:ext cx="98280" cy="61920"/>
          </a:xfrm>
          <a:custGeom>
            <a:avLst/>
            <a:gdLst/>
            <a:ahLst/>
            <a:rect l="l" t="t" r="r" b="b"/>
            <a:pathLst>
              <a:path w="97743" h="61438">
                <a:moveTo>
                  <a:pt x="3989" y="54656"/>
                </a:moveTo>
                <a:cubicBezTo>
                  <a:pt x="7979" y="61438"/>
                  <a:pt x="77795" y="53459"/>
                  <a:pt x="87769" y="45081"/>
                </a:cubicBezTo>
                <a:cubicBezTo>
                  <a:pt x="97743" y="36703"/>
                  <a:pt x="74604" y="8776"/>
                  <a:pt x="63832" y="4388"/>
                </a:cubicBezTo>
                <a:cubicBezTo>
                  <a:pt x="53060" y="0"/>
                  <a:pt x="0" y="47874"/>
                  <a:pt x="3989" y="54656"/>
                </a:cubicBezTo>
                <a:close/>
              </a:path>
            </a:pathLst>
          </a:custGeom>
          <a:solidFill>
            <a:srgbClr val="8fbcff"/>
          </a:solidFill>
          <a:ln w="648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Freeform 69"/>
          <p:cNvSpPr/>
          <p:nvPr/>
        </p:nvSpPr>
        <p:spPr>
          <a:xfrm>
            <a:off x="4911840" y="4464000"/>
            <a:ext cx="77760" cy="46080"/>
          </a:xfrm>
          <a:custGeom>
            <a:avLst/>
            <a:gdLst/>
            <a:ahLst/>
            <a:rect l="l" t="t" r="r" b="b"/>
            <a:pathLst>
              <a:path w="76282" h="45082">
                <a:moveTo>
                  <a:pt x="9176" y="43087"/>
                </a:moveTo>
                <a:cubicBezTo>
                  <a:pt x="0" y="41092"/>
                  <a:pt x="9234" y="31467"/>
                  <a:pt x="11569" y="26331"/>
                </a:cubicBezTo>
                <a:cubicBezTo>
                  <a:pt x="13437" y="22222"/>
                  <a:pt x="21144" y="16756"/>
                  <a:pt x="21144" y="16756"/>
                </a:cubicBezTo>
                <a:cubicBezTo>
                  <a:pt x="21942" y="12767"/>
                  <a:pt x="21935" y="8527"/>
                  <a:pt x="23538" y="4788"/>
                </a:cubicBezTo>
                <a:cubicBezTo>
                  <a:pt x="24427" y="2714"/>
                  <a:pt x="26070" y="102"/>
                  <a:pt x="28325" y="0"/>
                </a:cubicBezTo>
                <a:lnTo>
                  <a:pt x="76200" y="2394"/>
                </a:lnTo>
                <a:cubicBezTo>
                  <a:pt x="75402" y="11969"/>
                  <a:pt x="76282" y="21835"/>
                  <a:pt x="73806" y="31119"/>
                </a:cubicBezTo>
                <a:cubicBezTo>
                  <a:pt x="72934" y="34390"/>
                  <a:pt x="69992" y="37952"/>
                  <a:pt x="66625" y="38300"/>
                </a:cubicBezTo>
                <a:cubicBezTo>
                  <a:pt x="45989" y="40435"/>
                  <a:pt x="18352" y="45082"/>
                  <a:pt x="9176" y="43087"/>
                </a:cubicBezTo>
                <a:close/>
              </a:path>
            </a:pathLst>
          </a:custGeom>
          <a:solidFill>
            <a:srgbClr val="8fbcff"/>
          </a:solidFill>
          <a:ln w="648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Freeform 70"/>
          <p:cNvSpPr/>
          <p:nvPr/>
        </p:nvSpPr>
        <p:spPr>
          <a:xfrm>
            <a:off x="4933800" y="4591080"/>
            <a:ext cx="76320" cy="79200"/>
          </a:xfrm>
          <a:custGeom>
            <a:avLst/>
            <a:gdLst/>
            <a:ahLst/>
            <a:rect l="l" t="t" r="r" b="b"/>
            <a:pathLst>
              <a:path w="76992" h="80825">
                <a:moveTo>
                  <a:pt x="33905" y="3403"/>
                </a:moveTo>
                <a:cubicBezTo>
                  <a:pt x="26724" y="3802"/>
                  <a:pt x="15334" y="1619"/>
                  <a:pt x="7574" y="5797"/>
                </a:cubicBezTo>
                <a:cubicBezTo>
                  <a:pt x="3131" y="8189"/>
                  <a:pt x="4383" y="15372"/>
                  <a:pt x="2787" y="20159"/>
                </a:cubicBezTo>
                <a:lnTo>
                  <a:pt x="393" y="27340"/>
                </a:lnTo>
                <a:cubicBezTo>
                  <a:pt x="1191" y="36117"/>
                  <a:pt x="0" y="45310"/>
                  <a:pt x="2787" y="53671"/>
                </a:cubicBezTo>
                <a:cubicBezTo>
                  <a:pt x="3585" y="56065"/>
                  <a:pt x="7483" y="55627"/>
                  <a:pt x="9968" y="56065"/>
                </a:cubicBezTo>
                <a:cubicBezTo>
                  <a:pt x="21080" y="58026"/>
                  <a:pt x="43480" y="60852"/>
                  <a:pt x="43480" y="60852"/>
                </a:cubicBezTo>
                <a:cubicBezTo>
                  <a:pt x="45076" y="62448"/>
                  <a:pt x="47107" y="63705"/>
                  <a:pt x="48268" y="65640"/>
                </a:cubicBezTo>
                <a:cubicBezTo>
                  <a:pt x="57378" y="80825"/>
                  <a:pt x="34417" y="74298"/>
                  <a:pt x="76992" y="70427"/>
                </a:cubicBezTo>
                <a:cubicBezTo>
                  <a:pt x="76194" y="54469"/>
                  <a:pt x="75983" y="38471"/>
                  <a:pt x="74599" y="22553"/>
                </a:cubicBezTo>
                <a:cubicBezTo>
                  <a:pt x="73819" y="13577"/>
                  <a:pt x="71427" y="15706"/>
                  <a:pt x="65024" y="10584"/>
                </a:cubicBezTo>
                <a:cubicBezTo>
                  <a:pt x="63262" y="9174"/>
                  <a:pt x="62255" y="6806"/>
                  <a:pt x="60236" y="5797"/>
                </a:cubicBezTo>
                <a:cubicBezTo>
                  <a:pt x="57293" y="4326"/>
                  <a:pt x="53824" y="4307"/>
                  <a:pt x="50661" y="3403"/>
                </a:cubicBezTo>
                <a:cubicBezTo>
                  <a:pt x="38750" y="0"/>
                  <a:pt x="41086" y="3004"/>
                  <a:pt x="33905" y="3403"/>
                </a:cubicBezTo>
                <a:close/>
              </a:path>
            </a:pathLst>
          </a:custGeom>
          <a:solidFill>
            <a:srgbClr val="8fbcff"/>
          </a:solidFill>
          <a:ln w="648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Freeform 71"/>
          <p:cNvSpPr/>
          <p:nvPr/>
        </p:nvSpPr>
        <p:spPr>
          <a:xfrm>
            <a:off x="4987800" y="4424400"/>
            <a:ext cx="104760" cy="69840"/>
          </a:xfrm>
          <a:custGeom>
            <a:avLst/>
            <a:gdLst/>
            <a:ahLst/>
            <a:rect l="l" t="t" r="r" b="b"/>
            <a:pathLst>
              <a:path w="105425" h="70712">
                <a:moveTo>
                  <a:pt x="76599" y="57449"/>
                </a:moveTo>
                <a:cubicBezTo>
                  <a:pt x="63434" y="57848"/>
                  <a:pt x="21142" y="70712"/>
                  <a:pt x="4787" y="50268"/>
                </a:cubicBezTo>
                <a:cubicBezTo>
                  <a:pt x="2990" y="48022"/>
                  <a:pt x="1596" y="45481"/>
                  <a:pt x="0" y="43087"/>
                </a:cubicBezTo>
                <a:cubicBezTo>
                  <a:pt x="798" y="34310"/>
                  <a:pt x="547" y="25374"/>
                  <a:pt x="2394" y="16756"/>
                </a:cubicBezTo>
                <a:cubicBezTo>
                  <a:pt x="3986" y="9327"/>
                  <a:pt x="8482" y="8861"/>
                  <a:pt x="14362" y="7181"/>
                </a:cubicBezTo>
                <a:cubicBezTo>
                  <a:pt x="28871" y="3036"/>
                  <a:pt x="27599" y="4647"/>
                  <a:pt x="47874" y="2394"/>
                </a:cubicBezTo>
                <a:cubicBezTo>
                  <a:pt x="54268" y="1684"/>
                  <a:pt x="60641" y="798"/>
                  <a:pt x="67024" y="0"/>
                </a:cubicBezTo>
                <a:cubicBezTo>
                  <a:pt x="75003" y="798"/>
                  <a:pt x="83035" y="1175"/>
                  <a:pt x="90961" y="2394"/>
                </a:cubicBezTo>
                <a:cubicBezTo>
                  <a:pt x="93455" y="2778"/>
                  <a:pt x="96675" y="2735"/>
                  <a:pt x="98142" y="4788"/>
                </a:cubicBezTo>
                <a:cubicBezTo>
                  <a:pt x="101075" y="8894"/>
                  <a:pt x="102930" y="19150"/>
                  <a:pt x="102930" y="19150"/>
                </a:cubicBezTo>
                <a:cubicBezTo>
                  <a:pt x="102132" y="27927"/>
                  <a:pt x="105425" y="38148"/>
                  <a:pt x="100536" y="45481"/>
                </a:cubicBezTo>
                <a:cubicBezTo>
                  <a:pt x="97406" y="50175"/>
                  <a:pt x="89133" y="46091"/>
                  <a:pt x="83780" y="47875"/>
                </a:cubicBezTo>
                <a:cubicBezTo>
                  <a:pt x="83775" y="47877"/>
                  <a:pt x="89764" y="57050"/>
                  <a:pt x="76599" y="57449"/>
                </a:cubicBezTo>
                <a:close/>
              </a:path>
            </a:pathLst>
          </a:custGeom>
          <a:solidFill>
            <a:srgbClr val="589aff"/>
          </a:solidFill>
          <a:ln w="936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Freeform 72"/>
          <p:cNvSpPr/>
          <p:nvPr/>
        </p:nvSpPr>
        <p:spPr>
          <a:xfrm>
            <a:off x="4960800" y="4486320"/>
            <a:ext cx="141480" cy="61920"/>
          </a:xfrm>
          <a:custGeom>
            <a:avLst/>
            <a:gdLst/>
            <a:ahLst/>
            <a:rect l="l" t="t" r="r" b="b"/>
            <a:pathLst>
              <a:path w="140842" h="61835">
                <a:moveTo>
                  <a:pt x="109308" y="11963"/>
                </a:moveTo>
                <a:cubicBezTo>
                  <a:pt x="95744" y="11564"/>
                  <a:pt x="67783" y="12928"/>
                  <a:pt x="47072" y="14357"/>
                </a:cubicBezTo>
                <a:cubicBezTo>
                  <a:pt x="44554" y="14531"/>
                  <a:pt x="41861" y="15175"/>
                  <a:pt x="39890" y="16751"/>
                </a:cubicBezTo>
                <a:cubicBezTo>
                  <a:pt x="0" y="48662"/>
                  <a:pt x="71004" y="0"/>
                  <a:pt x="27922" y="28719"/>
                </a:cubicBezTo>
                <a:cubicBezTo>
                  <a:pt x="28720" y="32709"/>
                  <a:pt x="26264" y="40320"/>
                  <a:pt x="30316" y="40688"/>
                </a:cubicBezTo>
                <a:cubicBezTo>
                  <a:pt x="124491" y="49250"/>
                  <a:pt x="109699" y="61835"/>
                  <a:pt x="138033" y="33507"/>
                </a:cubicBezTo>
                <a:cubicBezTo>
                  <a:pt x="138831" y="31113"/>
                  <a:pt x="140842" y="28815"/>
                  <a:pt x="140427" y="26326"/>
                </a:cubicBezTo>
                <a:cubicBezTo>
                  <a:pt x="139153" y="18684"/>
                  <a:pt x="134059" y="18618"/>
                  <a:pt x="128458" y="16751"/>
                </a:cubicBezTo>
                <a:cubicBezTo>
                  <a:pt x="116335" y="4628"/>
                  <a:pt x="122872" y="12362"/>
                  <a:pt x="109308" y="11963"/>
                </a:cubicBezTo>
                <a:close/>
              </a:path>
            </a:pathLst>
          </a:custGeom>
          <a:solidFill>
            <a:srgbClr val="589aff"/>
          </a:solidFill>
          <a:ln w="936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Freeform 73"/>
          <p:cNvSpPr/>
          <p:nvPr/>
        </p:nvSpPr>
        <p:spPr>
          <a:xfrm>
            <a:off x="4991040" y="4537080"/>
            <a:ext cx="68400" cy="98280"/>
          </a:xfrm>
          <a:custGeom>
            <a:avLst/>
            <a:gdLst/>
            <a:ahLst/>
            <a:rect l="l" t="t" r="r" b="b"/>
            <a:pathLst>
              <a:path w="67220" h="99310">
                <a:moveTo>
                  <a:pt x="18608" y="97714"/>
                </a:moveTo>
                <a:cubicBezTo>
                  <a:pt x="13422" y="99310"/>
                  <a:pt x="15693" y="92717"/>
                  <a:pt x="13821" y="90533"/>
                </a:cubicBezTo>
                <a:cubicBezTo>
                  <a:pt x="10884" y="87106"/>
                  <a:pt x="4246" y="80958"/>
                  <a:pt x="4246" y="80958"/>
                </a:cubicBezTo>
                <a:cubicBezTo>
                  <a:pt x="0" y="68220"/>
                  <a:pt x="2048" y="78098"/>
                  <a:pt x="4246" y="59415"/>
                </a:cubicBezTo>
                <a:cubicBezTo>
                  <a:pt x="4295" y="58995"/>
                  <a:pt x="4590" y="33308"/>
                  <a:pt x="9033" y="25903"/>
                </a:cubicBezTo>
                <a:cubicBezTo>
                  <a:pt x="10194" y="23968"/>
                  <a:pt x="11886" y="22276"/>
                  <a:pt x="13821" y="21115"/>
                </a:cubicBezTo>
                <a:cubicBezTo>
                  <a:pt x="15985" y="19817"/>
                  <a:pt x="18608" y="19520"/>
                  <a:pt x="21002" y="18722"/>
                </a:cubicBezTo>
                <a:cubicBezTo>
                  <a:pt x="30537" y="4417"/>
                  <a:pt x="20123" y="16856"/>
                  <a:pt x="32971" y="9147"/>
                </a:cubicBezTo>
                <a:cubicBezTo>
                  <a:pt x="48217" y="0"/>
                  <a:pt x="23713" y="7869"/>
                  <a:pt x="47333" y="1966"/>
                </a:cubicBezTo>
                <a:cubicBezTo>
                  <a:pt x="52120" y="2764"/>
                  <a:pt x="57151" y="2655"/>
                  <a:pt x="61695" y="4359"/>
                </a:cubicBezTo>
                <a:cubicBezTo>
                  <a:pt x="63808" y="5151"/>
                  <a:pt x="66396" y="6892"/>
                  <a:pt x="66483" y="9147"/>
                </a:cubicBezTo>
                <a:cubicBezTo>
                  <a:pt x="67220" y="28299"/>
                  <a:pt x="66286" y="47556"/>
                  <a:pt x="64089" y="66596"/>
                </a:cubicBezTo>
                <a:cubicBezTo>
                  <a:pt x="63830" y="68838"/>
                  <a:pt x="61107" y="70029"/>
                  <a:pt x="59301" y="71383"/>
                </a:cubicBezTo>
                <a:cubicBezTo>
                  <a:pt x="54698" y="74835"/>
                  <a:pt x="50635" y="80144"/>
                  <a:pt x="44939" y="80958"/>
                </a:cubicBezTo>
                <a:cubicBezTo>
                  <a:pt x="21864" y="84255"/>
                  <a:pt x="23794" y="96118"/>
                  <a:pt x="18608" y="97714"/>
                </a:cubicBezTo>
                <a:close/>
              </a:path>
            </a:pathLst>
          </a:custGeom>
          <a:solidFill>
            <a:srgbClr val="589aff"/>
          </a:solidFill>
          <a:ln w="936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Freeform 74"/>
          <p:cNvSpPr/>
          <p:nvPr/>
        </p:nvSpPr>
        <p:spPr>
          <a:xfrm>
            <a:off x="5037120" y="4606920"/>
            <a:ext cx="66600" cy="73080"/>
          </a:xfrm>
          <a:custGeom>
            <a:avLst/>
            <a:gdLst/>
            <a:ahLst/>
            <a:rect l="l" t="t" r="r" b="b"/>
            <a:pathLst>
              <a:path w="66534" h="73004">
                <a:moveTo>
                  <a:pt x="26331" y="67503"/>
                </a:moveTo>
                <a:cubicBezTo>
                  <a:pt x="25134" y="66306"/>
                  <a:pt x="19699" y="66580"/>
                  <a:pt x="16756" y="65109"/>
                </a:cubicBezTo>
                <a:cubicBezTo>
                  <a:pt x="12022" y="62741"/>
                  <a:pt x="10561" y="56520"/>
                  <a:pt x="7181" y="53140"/>
                </a:cubicBezTo>
                <a:cubicBezTo>
                  <a:pt x="5147" y="51106"/>
                  <a:pt x="2394" y="49949"/>
                  <a:pt x="0" y="48353"/>
                </a:cubicBezTo>
                <a:cubicBezTo>
                  <a:pt x="3523" y="30741"/>
                  <a:pt x="137" y="39770"/>
                  <a:pt x="11969" y="22022"/>
                </a:cubicBezTo>
                <a:cubicBezTo>
                  <a:pt x="13565" y="19628"/>
                  <a:pt x="13965" y="15539"/>
                  <a:pt x="16756" y="14841"/>
                </a:cubicBezTo>
                <a:lnTo>
                  <a:pt x="26331" y="12447"/>
                </a:lnTo>
                <a:cubicBezTo>
                  <a:pt x="27927" y="10053"/>
                  <a:pt x="28872" y="7063"/>
                  <a:pt x="31118" y="5266"/>
                </a:cubicBezTo>
                <a:cubicBezTo>
                  <a:pt x="37701" y="0"/>
                  <a:pt x="52880" y="4695"/>
                  <a:pt x="57449" y="5266"/>
                </a:cubicBezTo>
                <a:cubicBezTo>
                  <a:pt x="63243" y="22646"/>
                  <a:pt x="66534" y="29578"/>
                  <a:pt x="57449" y="55534"/>
                </a:cubicBezTo>
                <a:cubicBezTo>
                  <a:pt x="56357" y="58655"/>
                  <a:pt x="40042" y="59957"/>
                  <a:pt x="35906" y="62715"/>
                </a:cubicBezTo>
                <a:cubicBezTo>
                  <a:pt x="33512" y="64311"/>
                  <a:pt x="30972" y="65706"/>
                  <a:pt x="28725" y="67503"/>
                </a:cubicBezTo>
                <a:cubicBezTo>
                  <a:pt x="26963" y="68913"/>
                  <a:pt x="25956" y="71281"/>
                  <a:pt x="23937" y="72290"/>
                </a:cubicBezTo>
                <a:cubicBezTo>
                  <a:pt x="22510" y="73004"/>
                  <a:pt x="27528" y="68700"/>
                  <a:pt x="26331" y="67503"/>
                </a:cubicBezTo>
                <a:close/>
              </a:path>
            </a:pathLst>
          </a:custGeom>
          <a:solidFill>
            <a:srgbClr val="0045ad"/>
          </a:solidFill>
          <a:ln w="936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Freeform 75"/>
          <p:cNvSpPr/>
          <p:nvPr/>
        </p:nvSpPr>
        <p:spPr>
          <a:xfrm>
            <a:off x="5064120" y="4532400"/>
            <a:ext cx="98280" cy="44280"/>
          </a:xfrm>
          <a:custGeom>
            <a:avLst/>
            <a:gdLst/>
            <a:ahLst/>
            <a:rect l="l" t="t" r="r" b="b"/>
            <a:pathLst>
              <a:path w="99136" h="43965">
                <a:moveTo>
                  <a:pt x="91955" y="17492"/>
                </a:moveTo>
                <a:cubicBezTo>
                  <a:pt x="99136" y="23476"/>
                  <a:pt x="88946" y="32470"/>
                  <a:pt x="84774" y="36642"/>
                </a:cubicBezTo>
                <a:cubicBezTo>
                  <a:pt x="82990" y="38426"/>
                  <a:pt x="80091" y="38679"/>
                  <a:pt x="77593" y="39036"/>
                </a:cubicBezTo>
                <a:cubicBezTo>
                  <a:pt x="68868" y="40282"/>
                  <a:pt x="60015" y="40399"/>
                  <a:pt x="51262" y="41429"/>
                </a:cubicBezTo>
                <a:cubicBezTo>
                  <a:pt x="46442" y="41996"/>
                  <a:pt x="41687" y="43025"/>
                  <a:pt x="36900" y="43823"/>
                </a:cubicBezTo>
                <a:cubicBezTo>
                  <a:pt x="28921" y="43025"/>
                  <a:pt x="20570" y="43965"/>
                  <a:pt x="12962" y="41429"/>
                </a:cubicBezTo>
                <a:cubicBezTo>
                  <a:pt x="10233" y="40519"/>
                  <a:pt x="9972" y="36494"/>
                  <a:pt x="8175" y="34248"/>
                </a:cubicBezTo>
                <a:cubicBezTo>
                  <a:pt x="6765" y="32486"/>
                  <a:pt x="4983" y="31057"/>
                  <a:pt x="3387" y="29461"/>
                </a:cubicBezTo>
                <a:cubicBezTo>
                  <a:pt x="2589" y="27067"/>
                  <a:pt x="0" y="24599"/>
                  <a:pt x="994" y="22280"/>
                </a:cubicBezTo>
                <a:cubicBezTo>
                  <a:pt x="2772" y="18131"/>
                  <a:pt x="6813" y="15209"/>
                  <a:pt x="10569" y="12705"/>
                </a:cubicBezTo>
                <a:cubicBezTo>
                  <a:pt x="29625" y="0"/>
                  <a:pt x="19235" y="3944"/>
                  <a:pt x="41687" y="736"/>
                </a:cubicBezTo>
                <a:cubicBezTo>
                  <a:pt x="98331" y="3434"/>
                  <a:pt x="84774" y="11508"/>
                  <a:pt x="91955" y="17492"/>
                </a:cubicBezTo>
                <a:close/>
              </a:path>
            </a:pathLst>
          </a:custGeom>
          <a:solidFill>
            <a:srgbClr val="0045ad"/>
          </a:solidFill>
          <a:ln w="936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Freeform 76"/>
          <p:cNvSpPr/>
          <p:nvPr/>
        </p:nvSpPr>
        <p:spPr>
          <a:xfrm>
            <a:off x="5089680" y="4440240"/>
            <a:ext cx="109440" cy="79200"/>
          </a:xfrm>
          <a:custGeom>
            <a:avLst/>
            <a:gdLst/>
            <a:ahLst/>
            <a:rect l="l" t="t" r="r" b="b"/>
            <a:pathLst>
              <a:path w="106822" h="79425">
                <a:moveTo>
                  <a:pt x="75212" y="79026"/>
                </a:moveTo>
                <a:cubicBezTo>
                  <a:pt x="69228" y="79425"/>
                  <a:pt x="49562" y="78529"/>
                  <a:pt x="36912" y="76632"/>
                </a:cubicBezTo>
                <a:cubicBezTo>
                  <a:pt x="30460" y="75664"/>
                  <a:pt x="24026" y="69308"/>
                  <a:pt x="20156" y="64664"/>
                </a:cubicBezTo>
                <a:cubicBezTo>
                  <a:pt x="18314" y="62454"/>
                  <a:pt x="17211" y="59692"/>
                  <a:pt x="15369" y="57482"/>
                </a:cubicBezTo>
                <a:cubicBezTo>
                  <a:pt x="0" y="39037"/>
                  <a:pt x="15296" y="60961"/>
                  <a:pt x="3400" y="43120"/>
                </a:cubicBezTo>
                <a:cubicBezTo>
                  <a:pt x="4198" y="37535"/>
                  <a:pt x="3459" y="31500"/>
                  <a:pt x="5794" y="26364"/>
                </a:cubicBezTo>
                <a:cubicBezTo>
                  <a:pt x="9851" y="17438"/>
                  <a:pt x="15168" y="16856"/>
                  <a:pt x="22550" y="14396"/>
                </a:cubicBezTo>
                <a:cubicBezTo>
                  <a:pt x="49269" y="15286"/>
                  <a:pt x="81890" y="0"/>
                  <a:pt x="99149" y="21577"/>
                </a:cubicBezTo>
                <a:cubicBezTo>
                  <a:pt x="100946" y="23823"/>
                  <a:pt x="102649" y="26185"/>
                  <a:pt x="103936" y="28758"/>
                </a:cubicBezTo>
                <a:cubicBezTo>
                  <a:pt x="105064" y="31015"/>
                  <a:pt x="105532" y="33545"/>
                  <a:pt x="106330" y="35939"/>
                </a:cubicBezTo>
                <a:cubicBezTo>
                  <a:pt x="105532" y="47110"/>
                  <a:pt x="106822" y="58630"/>
                  <a:pt x="103936" y="69451"/>
                </a:cubicBezTo>
                <a:cubicBezTo>
                  <a:pt x="103286" y="71889"/>
                  <a:pt x="99249" y="71461"/>
                  <a:pt x="96755" y="71845"/>
                </a:cubicBezTo>
                <a:cubicBezTo>
                  <a:pt x="88829" y="73064"/>
                  <a:pt x="80813" y="73623"/>
                  <a:pt x="72818" y="74238"/>
                </a:cubicBezTo>
                <a:cubicBezTo>
                  <a:pt x="70431" y="74422"/>
                  <a:pt x="81196" y="78627"/>
                  <a:pt x="75212" y="79026"/>
                </a:cubicBezTo>
                <a:close/>
              </a:path>
            </a:pathLst>
          </a:custGeom>
          <a:solidFill>
            <a:srgbClr val="0045ad"/>
          </a:solidFill>
          <a:ln w="936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Freeform 77"/>
          <p:cNvSpPr/>
          <p:nvPr/>
        </p:nvSpPr>
        <p:spPr>
          <a:xfrm>
            <a:off x="5124600" y="4570560"/>
            <a:ext cx="79200" cy="74520"/>
          </a:xfrm>
          <a:custGeom>
            <a:avLst/>
            <a:gdLst/>
            <a:ahLst/>
            <a:rect l="l" t="t" r="r" b="b"/>
            <a:pathLst>
              <a:path w="82030" h="73486">
                <a:moveTo>
                  <a:pt x="8490" y="70499"/>
                </a:moveTo>
                <a:cubicBezTo>
                  <a:pt x="7293" y="68903"/>
                  <a:pt x="1705" y="66680"/>
                  <a:pt x="1309" y="63318"/>
                </a:cubicBezTo>
                <a:cubicBezTo>
                  <a:pt x="0" y="52196"/>
                  <a:pt x="705" y="40597"/>
                  <a:pt x="3702" y="29806"/>
                </a:cubicBezTo>
                <a:cubicBezTo>
                  <a:pt x="4910" y="25457"/>
                  <a:pt x="10085" y="23423"/>
                  <a:pt x="13277" y="20231"/>
                </a:cubicBezTo>
                <a:cubicBezTo>
                  <a:pt x="24839" y="8670"/>
                  <a:pt x="10146" y="22738"/>
                  <a:pt x="25246" y="10657"/>
                </a:cubicBezTo>
                <a:cubicBezTo>
                  <a:pt x="27008" y="9247"/>
                  <a:pt x="28098" y="7030"/>
                  <a:pt x="30033" y="5869"/>
                </a:cubicBezTo>
                <a:cubicBezTo>
                  <a:pt x="32197" y="4571"/>
                  <a:pt x="34820" y="4273"/>
                  <a:pt x="37214" y="3475"/>
                </a:cubicBezTo>
                <a:cubicBezTo>
                  <a:pt x="48385" y="4273"/>
                  <a:pt x="61188" y="0"/>
                  <a:pt x="70726" y="5869"/>
                </a:cubicBezTo>
                <a:cubicBezTo>
                  <a:pt x="82030" y="12825"/>
                  <a:pt x="66715" y="23450"/>
                  <a:pt x="63545" y="27413"/>
                </a:cubicBezTo>
                <a:cubicBezTo>
                  <a:pt x="61748" y="29659"/>
                  <a:pt x="61004" y="32797"/>
                  <a:pt x="58758" y="34594"/>
                </a:cubicBezTo>
                <a:cubicBezTo>
                  <a:pt x="56788" y="36170"/>
                  <a:pt x="53971" y="36189"/>
                  <a:pt x="51577" y="36987"/>
                </a:cubicBezTo>
                <a:cubicBezTo>
                  <a:pt x="40012" y="48552"/>
                  <a:pt x="54712" y="34478"/>
                  <a:pt x="39608" y="46562"/>
                </a:cubicBezTo>
                <a:cubicBezTo>
                  <a:pt x="37846" y="47972"/>
                  <a:pt x="36583" y="49940"/>
                  <a:pt x="34821" y="51350"/>
                </a:cubicBezTo>
                <a:cubicBezTo>
                  <a:pt x="32575" y="53147"/>
                  <a:pt x="29805" y="54243"/>
                  <a:pt x="27640" y="56137"/>
                </a:cubicBezTo>
                <a:cubicBezTo>
                  <a:pt x="23027" y="60173"/>
                  <a:pt x="15578" y="70058"/>
                  <a:pt x="8490" y="72893"/>
                </a:cubicBezTo>
                <a:cubicBezTo>
                  <a:pt x="7008" y="73486"/>
                  <a:pt x="9687" y="72095"/>
                  <a:pt x="8490" y="70499"/>
                </a:cubicBezTo>
                <a:close/>
              </a:path>
            </a:pathLst>
          </a:custGeom>
          <a:solidFill>
            <a:srgbClr val="0045ad"/>
          </a:solidFill>
          <a:ln w="936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Freeform 78"/>
          <p:cNvSpPr/>
          <p:nvPr/>
        </p:nvSpPr>
        <p:spPr>
          <a:xfrm>
            <a:off x="5173560" y="4505400"/>
            <a:ext cx="79560" cy="66600"/>
          </a:xfrm>
          <a:custGeom>
            <a:avLst/>
            <a:gdLst/>
            <a:ahLst/>
            <a:rect l="l" t="t" r="r" b="b"/>
            <a:pathLst>
              <a:path w="80589" h="67423">
                <a:moveTo>
                  <a:pt x="71812" y="64630"/>
                </a:moveTo>
                <a:cubicBezTo>
                  <a:pt x="63035" y="67423"/>
                  <a:pt x="38038" y="65291"/>
                  <a:pt x="21543" y="62236"/>
                </a:cubicBezTo>
                <a:cubicBezTo>
                  <a:pt x="15885" y="61188"/>
                  <a:pt x="7181" y="52661"/>
                  <a:pt x="7181" y="52661"/>
                </a:cubicBezTo>
                <a:cubicBezTo>
                  <a:pt x="6247" y="50793"/>
                  <a:pt x="0" y="39425"/>
                  <a:pt x="0" y="35905"/>
                </a:cubicBezTo>
                <a:cubicBezTo>
                  <a:pt x="0" y="32615"/>
                  <a:pt x="1749" y="29556"/>
                  <a:pt x="2394" y="26330"/>
                </a:cubicBezTo>
                <a:cubicBezTo>
                  <a:pt x="3346" y="21571"/>
                  <a:pt x="2617" y="16309"/>
                  <a:pt x="4787" y="11968"/>
                </a:cubicBezTo>
                <a:cubicBezTo>
                  <a:pt x="6806" y="7931"/>
                  <a:pt x="9910" y="3135"/>
                  <a:pt x="14362" y="2393"/>
                </a:cubicBezTo>
                <a:lnTo>
                  <a:pt x="28725" y="0"/>
                </a:lnTo>
                <a:cubicBezTo>
                  <a:pt x="36704" y="798"/>
                  <a:pt x="44736" y="1174"/>
                  <a:pt x="52662" y="2393"/>
                </a:cubicBezTo>
                <a:cubicBezTo>
                  <a:pt x="55156" y="2777"/>
                  <a:pt x="58059" y="3003"/>
                  <a:pt x="59843" y="4787"/>
                </a:cubicBezTo>
                <a:cubicBezTo>
                  <a:pt x="61627" y="6571"/>
                  <a:pt x="61439" y="9574"/>
                  <a:pt x="62237" y="11968"/>
                </a:cubicBezTo>
                <a:cubicBezTo>
                  <a:pt x="63035" y="19149"/>
                  <a:pt x="62729" y="26541"/>
                  <a:pt x="64630" y="33512"/>
                </a:cubicBezTo>
                <a:cubicBezTo>
                  <a:pt x="70113" y="53617"/>
                  <a:pt x="69874" y="19489"/>
                  <a:pt x="74205" y="45480"/>
                </a:cubicBezTo>
                <a:cubicBezTo>
                  <a:pt x="75385" y="52564"/>
                  <a:pt x="80589" y="61837"/>
                  <a:pt x="71812" y="64630"/>
                </a:cubicBezTo>
                <a:close/>
              </a:path>
            </a:pathLst>
          </a:custGeom>
          <a:solidFill>
            <a:srgbClr val="002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Freeform 80"/>
          <p:cNvSpPr/>
          <p:nvPr/>
        </p:nvSpPr>
        <p:spPr>
          <a:xfrm>
            <a:off x="5200560" y="4579920"/>
            <a:ext cx="98640" cy="60480"/>
          </a:xfrm>
          <a:custGeom>
            <a:avLst/>
            <a:gdLst/>
            <a:ahLst/>
            <a:rect l="l" t="t" r="r" b="b"/>
            <a:pathLst>
              <a:path w="98408" h="60440">
                <a:moveTo>
                  <a:pt x="84445" y="59843"/>
                </a:moveTo>
                <a:cubicBezTo>
                  <a:pt x="70482" y="59843"/>
                  <a:pt x="31625" y="60440"/>
                  <a:pt x="5452" y="57449"/>
                </a:cubicBezTo>
                <a:cubicBezTo>
                  <a:pt x="2594" y="57122"/>
                  <a:pt x="825" y="53140"/>
                  <a:pt x="665" y="50268"/>
                </a:cubicBezTo>
                <a:cubicBezTo>
                  <a:pt x="0" y="38291"/>
                  <a:pt x="5" y="25962"/>
                  <a:pt x="3058" y="14362"/>
                </a:cubicBezTo>
                <a:cubicBezTo>
                  <a:pt x="4207" y="9997"/>
                  <a:pt x="9441" y="7979"/>
                  <a:pt x="12633" y="4787"/>
                </a:cubicBezTo>
                <a:lnTo>
                  <a:pt x="17421" y="0"/>
                </a:lnTo>
                <a:cubicBezTo>
                  <a:pt x="38166" y="798"/>
                  <a:pt x="58946" y="966"/>
                  <a:pt x="79657" y="2394"/>
                </a:cubicBezTo>
                <a:cubicBezTo>
                  <a:pt x="82174" y="2568"/>
                  <a:pt x="85054" y="3003"/>
                  <a:pt x="86838" y="4787"/>
                </a:cubicBezTo>
                <a:cubicBezTo>
                  <a:pt x="88622" y="6571"/>
                  <a:pt x="88434" y="9574"/>
                  <a:pt x="89232" y="11968"/>
                </a:cubicBezTo>
                <a:cubicBezTo>
                  <a:pt x="91545" y="30470"/>
                  <a:pt x="93817" y="37580"/>
                  <a:pt x="89232" y="57449"/>
                </a:cubicBezTo>
                <a:cubicBezTo>
                  <a:pt x="88725" y="59648"/>
                  <a:pt x="98408" y="59843"/>
                  <a:pt x="84445" y="59843"/>
                </a:cubicBezTo>
                <a:close/>
              </a:path>
            </a:pathLst>
          </a:custGeom>
          <a:solidFill>
            <a:srgbClr val="002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Left Bracket 81"/>
          <p:cNvSpPr/>
          <p:nvPr/>
        </p:nvSpPr>
        <p:spPr>
          <a:xfrm>
            <a:off x="4853160" y="4468680"/>
            <a:ext cx="42840" cy="223920"/>
          </a:xfrm>
          <a:custGeom>
            <a:avLst/>
            <a:gdLst>
              <a:gd name="textAreaLeft" fmla="*/ 12600 w 42840"/>
              <a:gd name="textAreaRight" fmla="*/ 43200 w 42840"/>
              <a:gd name="textAreaTop" fmla="*/ 1800 h 223920"/>
              <a:gd name="textAreaBottom" fmla="*/ 222120 h 22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81"/>
                  <a:pt x="0" y="362"/>
                </a:cubicBezTo>
                <a:lnTo>
                  <a:pt x="0" y="21238"/>
                </a:lnTo>
                <a:cubicBezTo>
                  <a:pt x="0" y="21419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26" name="Oval 91"/>
          <p:cNvGrpSpPr/>
          <p:nvPr/>
        </p:nvGrpSpPr>
        <p:grpSpPr>
          <a:xfrm>
            <a:off x="2462040" y="4157640"/>
            <a:ext cx="470160" cy="358920"/>
            <a:chOff x="2462040" y="4157640"/>
            <a:chExt cx="470160" cy="358920"/>
          </a:xfrm>
        </p:grpSpPr>
        <p:pic>
          <p:nvPicPr>
            <p:cNvPr id="627" name="Oval 91" descr=""/>
            <p:cNvPicPr/>
            <p:nvPr/>
          </p:nvPicPr>
          <p:blipFill>
            <a:blip r:embed="rId14"/>
            <a:stretch/>
          </p:blipFill>
          <p:spPr>
            <a:xfrm>
              <a:off x="2462040" y="4157640"/>
              <a:ext cx="470160" cy="3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"/>
            <p:cNvSpPr/>
            <p:nvPr/>
          </p:nvSpPr>
          <p:spPr>
            <a:xfrm>
              <a:off x="2530440" y="4208400"/>
              <a:ext cx="33192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29" name="Freeform 93"/>
          <p:cNvSpPr/>
          <p:nvPr/>
        </p:nvSpPr>
        <p:spPr>
          <a:xfrm>
            <a:off x="2309760" y="4545000"/>
            <a:ext cx="73080" cy="128520"/>
          </a:xfrm>
          <a:custGeom>
            <a:avLst/>
            <a:gdLst/>
            <a:ahLst/>
            <a:rect l="l" t="t" r="r" b="b"/>
            <a:pathLst>
              <a:path w="72476" h="128076">
                <a:moveTo>
                  <a:pt x="0" y="0"/>
                </a:moveTo>
                <a:cubicBezTo>
                  <a:pt x="26310" y="14644"/>
                  <a:pt x="52620" y="29289"/>
                  <a:pt x="62548" y="50635"/>
                </a:cubicBezTo>
                <a:cubicBezTo>
                  <a:pt x="72476" y="71981"/>
                  <a:pt x="66023" y="100028"/>
                  <a:pt x="59570" y="128076"/>
                </a:cubicBezTo>
              </a:path>
            </a:pathLst>
          </a:custGeom>
          <a:noFill/>
          <a:ln w="12600">
            <a:solidFill>
              <a:srgbClr val="00000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Oval 29"/>
          <p:cNvSpPr/>
          <p:nvPr/>
        </p:nvSpPr>
        <p:spPr>
          <a:xfrm>
            <a:off x="2093760" y="4457880"/>
            <a:ext cx="249480" cy="12060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Freeform 94"/>
          <p:cNvSpPr/>
          <p:nvPr/>
        </p:nvSpPr>
        <p:spPr>
          <a:xfrm>
            <a:off x="2522520" y="4556160"/>
            <a:ext cx="98280" cy="42840"/>
          </a:xfrm>
          <a:custGeom>
            <a:avLst/>
            <a:gdLst/>
            <a:ahLst/>
            <a:rect l="l" t="t" r="r" b="b"/>
            <a:pathLst>
              <a:path w="98291" h="42195">
                <a:moveTo>
                  <a:pt x="98291" y="3475"/>
                </a:moveTo>
                <a:cubicBezTo>
                  <a:pt x="72229" y="1737"/>
                  <a:pt x="46167" y="0"/>
                  <a:pt x="29785" y="6453"/>
                </a:cubicBezTo>
                <a:cubicBezTo>
                  <a:pt x="13403" y="12906"/>
                  <a:pt x="0" y="42195"/>
                  <a:pt x="0" y="42195"/>
                </a:cubicBezTo>
              </a:path>
            </a:pathLst>
          </a:custGeom>
          <a:noFill/>
          <a:ln w="12600">
            <a:solidFill>
              <a:srgbClr val="00000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32" name="Oval 92"/>
          <p:cNvGrpSpPr/>
          <p:nvPr/>
        </p:nvGrpSpPr>
        <p:grpSpPr>
          <a:xfrm>
            <a:off x="2597040" y="4462560"/>
            <a:ext cx="279360" cy="212760"/>
            <a:chOff x="2597040" y="4462560"/>
            <a:chExt cx="279360" cy="212760"/>
          </a:xfrm>
        </p:grpSpPr>
        <p:pic>
          <p:nvPicPr>
            <p:cNvPr id="633" name="Oval 92" descr=""/>
            <p:cNvPicPr/>
            <p:nvPr/>
          </p:nvPicPr>
          <p:blipFill>
            <a:blip r:embed="rId15"/>
            <a:stretch/>
          </p:blipFill>
          <p:spPr>
            <a:xfrm>
              <a:off x="2597040" y="4462560"/>
              <a:ext cx="27936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2638440" y="4491000"/>
              <a:ext cx="200160" cy="1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35" name="Straight Connector 96"/>
          <p:cNvSpPr/>
          <p:nvPr/>
        </p:nvSpPr>
        <p:spPr>
          <a:xfrm>
            <a:off x="2367000" y="4708440"/>
            <a:ext cx="0" cy="122400"/>
          </a:xfrm>
          <a:prstGeom prst="line">
            <a:avLst/>
          </a:prstGeom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Straight Connector 97"/>
          <p:cNvSpPr/>
          <p:nvPr/>
        </p:nvSpPr>
        <p:spPr>
          <a:xfrm>
            <a:off x="2530440" y="4703760"/>
            <a:ext cx="0" cy="122400"/>
          </a:xfrm>
          <a:prstGeom prst="line">
            <a:avLst/>
          </a:prstGeom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Oval 30"/>
          <p:cNvSpPr/>
          <p:nvPr/>
        </p:nvSpPr>
        <p:spPr>
          <a:xfrm>
            <a:off x="2316240" y="4765680"/>
            <a:ext cx="252360" cy="12060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Rectangle 31"/>
          <p:cNvSpPr/>
          <p:nvPr/>
        </p:nvSpPr>
        <p:spPr>
          <a:xfrm>
            <a:off x="2343240" y="4589640"/>
            <a:ext cx="47520" cy="1555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Rectangle 32"/>
          <p:cNvSpPr/>
          <p:nvPr/>
        </p:nvSpPr>
        <p:spPr>
          <a:xfrm>
            <a:off x="2502000" y="4579920"/>
            <a:ext cx="46080" cy="1573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Oval 349"/>
          <p:cNvSpPr/>
          <p:nvPr/>
        </p:nvSpPr>
        <p:spPr>
          <a:xfrm>
            <a:off x="5316480" y="2647800"/>
            <a:ext cx="133560" cy="122400"/>
          </a:xfrm>
          <a:prstGeom prst="ellipse">
            <a:avLst/>
          </a:prstGeom>
          <a:gradFill rotWithShape="0">
            <a:gsLst>
              <a:gs pos="0">
                <a:srgbClr val="000026"/>
              </a:gs>
              <a:gs pos="100000">
                <a:srgbClr val="7f7f7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Freeform 350"/>
          <p:cNvSpPr/>
          <p:nvPr/>
        </p:nvSpPr>
        <p:spPr>
          <a:xfrm>
            <a:off x="5459400" y="2603520"/>
            <a:ext cx="971640" cy="290520"/>
          </a:xfrm>
          <a:custGeom>
            <a:avLst/>
            <a:gdLst/>
            <a:ahLst/>
            <a:rect l="l" t="t" r="r" b="b"/>
            <a:pathLst>
              <a:path w="974453" h="290637">
                <a:moveTo>
                  <a:pt x="261743" y="150134"/>
                </a:moveTo>
                <a:cubicBezTo>
                  <a:pt x="246446" y="142769"/>
                  <a:pt x="229450" y="125772"/>
                  <a:pt x="224351" y="105943"/>
                </a:cubicBezTo>
                <a:cubicBezTo>
                  <a:pt x="219252" y="86114"/>
                  <a:pt x="257211" y="46457"/>
                  <a:pt x="231150" y="31160"/>
                </a:cubicBezTo>
                <a:cubicBezTo>
                  <a:pt x="205089" y="15863"/>
                  <a:pt x="105943" y="3965"/>
                  <a:pt x="67985" y="14163"/>
                </a:cubicBezTo>
                <a:cubicBezTo>
                  <a:pt x="30027" y="24361"/>
                  <a:pt x="0" y="62319"/>
                  <a:pt x="3399" y="92346"/>
                </a:cubicBezTo>
                <a:cubicBezTo>
                  <a:pt x="6798" y="122373"/>
                  <a:pt x="40225" y="171662"/>
                  <a:pt x="88381" y="194324"/>
                </a:cubicBezTo>
                <a:cubicBezTo>
                  <a:pt x="136537" y="216986"/>
                  <a:pt x="229450" y="228882"/>
                  <a:pt x="292336" y="228316"/>
                </a:cubicBezTo>
                <a:cubicBezTo>
                  <a:pt x="355222" y="227750"/>
                  <a:pt x="411310" y="184693"/>
                  <a:pt x="465698" y="190925"/>
                </a:cubicBezTo>
                <a:cubicBezTo>
                  <a:pt x="520086" y="197157"/>
                  <a:pt x="554079" y="250411"/>
                  <a:pt x="618665" y="265708"/>
                </a:cubicBezTo>
                <a:cubicBezTo>
                  <a:pt x="683251" y="281005"/>
                  <a:pt x="794860" y="290637"/>
                  <a:pt x="853214" y="282705"/>
                </a:cubicBezTo>
                <a:cubicBezTo>
                  <a:pt x="911568" y="274774"/>
                  <a:pt x="963123" y="237948"/>
                  <a:pt x="968788" y="218119"/>
                </a:cubicBezTo>
                <a:cubicBezTo>
                  <a:pt x="974453" y="198290"/>
                  <a:pt x="927431" y="172229"/>
                  <a:pt x="887206" y="163731"/>
                </a:cubicBezTo>
                <a:cubicBezTo>
                  <a:pt x="846982" y="155233"/>
                  <a:pt x="773331" y="168830"/>
                  <a:pt x="727441" y="167130"/>
                </a:cubicBezTo>
                <a:cubicBezTo>
                  <a:pt x="681551" y="165430"/>
                  <a:pt x="635094" y="178461"/>
                  <a:pt x="611866" y="153533"/>
                </a:cubicBezTo>
                <a:cubicBezTo>
                  <a:pt x="588638" y="128605"/>
                  <a:pt x="603369" y="35126"/>
                  <a:pt x="588072" y="17563"/>
                </a:cubicBezTo>
                <a:cubicBezTo>
                  <a:pt x="572775" y="0"/>
                  <a:pt x="548980" y="32293"/>
                  <a:pt x="520086" y="48156"/>
                </a:cubicBezTo>
                <a:cubicBezTo>
                  <a:pt x="491192" y="64019"/>
                  <a:pt x="448702" y="95746"/>
                  <a:pt x="414709" y="112742"/>
                </a:cubicBezTo>
                <a:cubicBezTo>
                  <a:pt x="380717" y="129738"/>
                  <a:pt x="342192" y="144469"/>
                  <a:pt x="316131" y="150134"/>
                </a:cubicBezTo>
                <a:cubicBezTo>
                  <a:pt x="290070" y="155799"/>
                  <a:pt x="277040" y="157499"/>
                  <a:pt x="261743" y="150134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8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Freeform 351"/>
          <p:cNvSpPr/>
          <p:nvPr/>
        </p:nvSpPr>
        <p:spPr>
          <a:xfrm>
            <a:off x="6192720" y="2589120"/>
            <a:ext cx="76320" cy="119160"/>
          </a:xfrm>
          <a:custGeom>
            <a:avLst/>
            <a:gdLst>
              <a:gd name="textAreaLeft" fmla="*/ 0 w 76320"/>
              <a:gd name="textAreaRight" fmla="*/ 76680 w 7632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75917" h="119533">
                <a:moveTo>
                  <a:pt x="74784" y="82141"/>
                </a:moveTo>
                <a:cubicBezTo>
                  <a:pt x="75917" y="95171"/>
                  <a:pt x="69812" y="88685"/>
                  <a:pt x="67985" y="92339"/>
                </a:cubicBezTo>
                <a:cubicBezTo>
                  <a:pt x="64502" y="99304"/>
                  <a:pt x="62478" y="113074"/>
                  <a:pt x="61186" y="119533"/>
                </a:cubicBezTo>
                <a:cubicBezTo>
                  <a:pt x="51493" y="118456"/>
                  <a:pt x="26961" y="119300"/>
                  <a:pt x="16996" y="109335"/>
                </a:cubicBezTo>
                <a:cubicBezTo>
                  <a:pt x="14463" y="106802"/>
                  <a:pt x="15337" y="102270"/>
                  <a:pt x="13597" y="99138"/>
                </a:cubicBezTo>
                <a:cubicBezTo>
                  <a:pt x="9629" y="91995"/>
                  <a:pt x="0" y="78742"/>
                  <a:pt x="0" y="78742"/>
                </a:cubicBezTo>
                <a:cubicBezTo>
                  <a:pt x="2594" y="45015"/>
                  <a:pt x="184" y="44103"/>
                  <a:pt x="6798" y="20955"/>
                </a:cubicBezTo>
                <a:cubicBezTo>
                  <a:pt x="7782" y="17510"/>
                  <a:pt x="8210" y="13738"/>
                  <a:pt x="10198" y="10757"/>
                </a:cubicBezTo>
                <a:cubicBezTo>
                  <a:pt x="12864" y="6757"/>
                  <a:pt x="16996" y="3958"/>
                  <a:pt x="20395" y="559"/>
                </a:cubicBezTo>
                <a:cubicBezTo>
                  <a:pt x="32859" y="1692"/>
                  <a:pt x="45914" y="0"/>
                  <a:pt x="57787" y="3958"/>
                </a:cubicBezTo>
                <a:cubicBezTo>
                  <a:pt x="61186" y="5091"/>
                  <a:pt x="61048" y="10575"/>
                  <a:pt x="61186" y="14156"/>
                </a:cubicBezTo>
                <a:cubicBezTo>
                  <a:pt x="62188" y="40198"/>
                  <a:pt x="73651" y="69111"/>
                  <a:pt x="74784" y="8214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Freeform 352"/>
          <p:cNvSpPr/>
          <p:nvPr/>
        </p:nvSpPr>
        <p:spPr>
          <a:xfrm>
            <a:off x="6510240" y="2838600"/>
            <a:ext cx="63720" cy="77760"/>
          </a:xfrm>
          <a:custGeom>
            <a:avLst/>
            <a:gdLst>
              <a:gd name="textAreaLeft" fmla="*/ 0 w 63720"/>
              <a:gd name="textAreaRight" fmla="*/ 64080 w 637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65719" h="78494">
                <a:moveTo>
                  <a:pt x="4532" y="61498"/>
                </a:moveTo>
                <a:cubicBezTo>
                  <a:pt x="0" y="52433"/>
                  <a:pt x="6259" y="33233"/>
                  <a:pt x="11330" y="24106"/>
                </a:cubicBezTo>
                <a:cubicBezTo>
                  <a:pt x="15298" y="16963"/>
                  <a:pt x="17176" y="6294"/>
                  <a:pt x="24928" y="3710"/>
                </a:cubicBezTo>
                <a:lnTo>
                  <a:pt x="35125" y="311"/>
                </a:lnTo>
                <a:cubicBezTo>
                  <a:pt x="44190" y="1444"/>
                  <a:pt x="53971" y="0"/>
                  <a:pt x="62319" y="3710"/>
                </a:cubicBezTo>
                <a:cubicBezTo>
                  <a:pt x="65593" y="5165"/>
                  <a:pt x="65719" y="10325"/>
                  <a:pt x="65719" y="13908"/>
                </a:cubicBezTo>
                <a:cubicBezTo>
                  <a:pt x="65719" y="29812"/>
                  <a:pt x="64177" y="45703"/>
                  <a:pt x="62319" y="61498"/>
                </a:cubicBezTo>
                <a:cubicBezTo>
                  <a:pt x="61900" y="65056"/>
                  <a:pt x="61835" y="69612"/>
                  <a:pt x="58920" y="71695"/>
                </a:cubicBezTo>
                <a:cubicBezTo>
                  <a:pt x="53089" y="75860"/>
                  <a:pt x="38525" y="78494"/>
                  <a:pt x="38525" y="78494"/>
                </a:cubicBezTo>
                <a:cubicBezTo>
                  <a:pt x="4746" y="74741"/>
                  <a:pt x="9064" y="70563"/>
                  <a:pt x="4532" y="6149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Freeform 353"/>
          <p:cNvSpPr/>
          <p:nvPr/>
        </p:nvSpPr>
        <p:spPr>
          <a:xfrm>
            <a:off x="5695920" y="3105000"/>
            <a:ext cx="169920" cy="77760"/>
          </a:xfrm>
          <a:custGeom>
            <a:avLst/>
            <a:gdLst>
              <a:gd name="textAreaLeft" fmla="*/ 0 w 169920"/>
              <a:gd name="textAreaRight" fmla="*/ 170280 w 1699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171106" h="76585">
                <a:moveTo>
                  <a:pt x="16996" y="4370"/>
                </a:moveTo>
                <a:cubicBezTo>
                  <a:pt x="0" y="7203"/>
                  <a:pt x="14880" y="13475"/>
                  <a:pt x="13597" y="17967"/>
                </a:cubicBezTo>
                <a:cubicBezTo>
                  <a:pt x="10773" y="27851"/>
                  <a:pt x="5622" y="33996"/>
                  <a:pt x="13597" y="45162"/>
                </a:cubicBezTo>
                <a:cubicBezTo>
                  <a:pt x="16542" y="49285"/>
                  <a:pt x="22662" y="49694"/>
                  <a:pt x="27194" y="51960"/>
                </a:cubicBezTo>
                <a:cubicBezTo>
                  <a:pt x="50124" y="74890"/>
                  <a:pt x="38469" y="69316"/>
                  <a:pt x="57788" y="75755"/>
                </a:cubicBezTo>
                <a:cubicBezTo>
                  <a:pt x="92913" y="74622"/>
                  <a:pt x="128276" y="76585"/>
                  <a:pt x="163164" y="72356"/>
                </a:cubicBezTo>
                <a:cubicBezTo>
                  <a:pt x="167220" y="71864"/>
                  <a:pt x="169650" y="66232"/>
                  <a:pt x="169963" y="62158"/>
                </a:cubicBezTo>
                <a:cubicBezTo>
                  <a:pt x="171104" y="47324"/>
                  <a:pt x="171106" y="29307"/>
                  <a:pt x="159765" y="17967"/>
                </a:cubicBezTo>
                <a:cubicBezTo>
                  <a:pt x="156876" y="15078"/>
                  <a:pt x="153300" y="12828"/>
                  <a:pt x="149567" y="11169"/>
                </a:cubicBezTo>
                <a:cubicBezTo>
                  <a:pt x="148011" y="10478"/>
                  <a:pt x="120953" y="1163"/>
                  <a:pt x="115575" y="971"/>
                </a:cubicBezTo>
                <a:cubicBezTo>
                  <a:pt x="88398" y="0"/>
                  <a:pt x="33992" y="1537"/>
                  <a:pt x="16996" y="437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Freeform 354"/>
          <p:cNvSpPr/>
          <p:nvPr/>
        </p:nvSpPr>
        <p:spPr>
          <a:xfrm>
            <a:off x="6191280" y="3024360"/>
            <a:ext cx="127080" cy="75960"/>
          </a:xfrm>
          <a:custGeom>
            <a:avLst/>
            <a:gdLst>
              <a:gd name="textAreaLeft" fmla="*/ 0 w 127080"/>
              <a:gd name="textAreaRight" fmla="*/ 127440 w 12708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125773" h="75613">
                <a:moveTo>
                  <a:pt x="125773" y="28023"/>
                </a:moveTo>
                <a:cubicBezTo>
                  <a:pt x="118974" y="21225"/>
                  <a:pt x="114498" y="10669"/>
                  <a:pt x="105377" y="7628"/>
                </a:cubicBezTo>
                <a:lnTo>
                  <a:pt x="84982" y="829"/>
                </a:lnTo>
                <a:cubicBezTo>
                  <a:pt x="63453" y="1962"/>
                  <a:pt x="41536" y="0"/>
                  <a:pt x="20396" y="4228"/>
                </a:cubicBezTo>
                <a:cubicBezTo>
                  <a:pt x="12384" y="5830"/>
                  <a:pt x="0" y="17825"/>
                  <a:pt x="0" y="17825"/>
                </a:cubicBezTo>
                <a:cubicBezTo>
                  <a:pt x="1133" y="28023"/>
                  <a:pt x="1840" y="38278"/>
                  <a:pt x="3400" y="48419"/>
                </a:cubicBezTo>
                <a:cubicBezTo>
                  <a:pt x="4110" y="53036"/>
                  <a:pt x="4208" y="58129"/>
                  <a:pt x="6799" y="62016"/>
                </a:cubicBezTo>
                <a:cubicBezTo>
                  <a:pt x="9200" y="65618"/>
                  <a:pt x="28244" y="74438"/>
                  <a:pt x="30594" y="75613"/>
                </a:cubicBezTo>
                <a:cubicBezTo>
                  <a:pt x="44191" y="74480"/>
                  <a:pt x="58006" y="74889"/>
                  <a:pt x="71385" y="72213"/>
                </a:cubicBezTo>
                <a:cubicBezTo>
                  <a:pt x="81358" y="70218"/>
                  <a:pt x="82941" y="61745"/>
                  <a:pt x="88381" y="55217"/>
                </a:cubicBezTo>
                <a:cubicBezTo>
                  <a:pt x="91459" y="51524"/>
                  <a:pt x="95501" y="48712"/>
                  <a:pt x="98579" y="45019"/>
                </a:cubicBezTo>
                <a:cubicBezTo>
                  <a:pt x="101194" y="41881"/>
                  <a:pt x="102488" y="37711"/>
                  <a:pt x="105377" y="34822"/>
                </a:cubicBezTo>
                <a:cubicBezTo>
                  <a:pt x="109383" y="30816"/>
                  <a:pt x="114442" y="28023"/>
                  <a:pt x="118974" y="24624"/>
                </a:cubicBezTo>
                <a:cubicBezTo>
                  <a:pt x="123449" y="11201"/>
                  <a:pt x="122374" y="18009"/>
                  <a:pt x="125773" y="2802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Freeform 355"/>
          <p:cNvSpPr/>
          <p:nvPr/>
        </p:nvSpPr>
        <p:spPr>
          <a:xfrm>
            <a:off x="5205240" y="2779560"/>
            <a:ext cx="1366920" cy="223920"/>
          </a:xfrm>
          <a:custGeom>
            <a:avLst/>
            <a:gdLst/>
            <a:ahLst/>
            <a:rect l="l" t="t" r="r" b="b"/>
            <a:pathLst>
              <a:path w="1363669" h="223784">
                <a:moveTo>
                  <a:pt x="280439" y="44757"/>
                </a:moveTo>
                <a:cubicBezTo>
                  <a:pt x="243047" y="35692"/>
                  <a:pt x="197723" y="20396"/>
                  <a:pt x="154666" y="14164"/>
                </a:cubicBezTo>
                <a:cubicBezTo>
                  <a:pt x="111609" y="7932"/>
                  <a:pt x="43624" y="0"/>
                  <a:pt x="22095" y="7365"/>
                </a:cubicBezTo>
                <a:cubicBezTo>
                  <a:pt x="566" y="14730"/>
                  <a:pt x="0" y="30027"/>
                  <a:pt x="25494" y="58354"/>
                </a:cubicBezTo>
                <a:cubicBezTo>
                  <a:pt x="50988" y="86681"/>
                  <a:pt x="118408" y="156366"/>
                  <a:pt x="175062" y="177328"/>
                </a:cubicBezTo>
                <a:cubicBezTo>
                  <a:pt x="231716" y="198290"/>
                  <a:pt x="307633" y="192058"/>
                  <a:pt x="365420" y="184126"/>
                </a:cubicBezTo>
                <a:cubicBezTo>
                  <a:pt x="423207" y="176194"/>
                  <a:pt x="461733" y="128605"/>
                  <a:pt x="521786" y="129738"/>
                </a:cubicBezTo>
                <a:cubicBezTo>
                  <a:pt x="581839" y="130871"/>
                  <a:pt x="651524" y="175628"/>
                  <a:pt x="725741" y="190925"/>
                </a:cubicBezTo>
                <a:cubicBezTo>
                  <a:pt x="799958" y="206222"/>
                  <a:pt x="870776" y="219252"/>
                  <a:pt x="967088" y="221518"/>
                </a:cubicBezTo>
                <a:cubicBezTo>
                  <a:pt x="1063400" y="223784"/>
                  <a:pt x="1243561" y="209621"/>
                  <a:pt x="1303615" y="204522"/>
                </a:cubicBezTo>
                <a:cubicBezTo>
                  <a:pt x="1363669" y="199423"/>
                  <a:pt x="1334209" y="199990"/>
                  <a:pt x="1327410" y="190925"/>
                </a:cubicBezTo>
                <a:cubicBezTo>
                  <a:pt x="1320611" y="181860"/>
                  <a:pt x="1307014" y="160332"/>
                  <a:pt x="1262824" y="150134"/>
                </a:cubicBezTo>
                <a:cubicBezTo>
                  <a:pt x="1218634" y="139936"/>
                  <a:pt x="1124021" y="130304"/>
                  <a:pt x="1062268" y="129738"/>
                </a:cubicBezTo>
                <a:cubicBezTo>
                  <a:pt x="1000515" y="129172"/>
                  <a:pt x="945560" y="151267"/>
                  <a:pt x="892305" y="146735"/>
                </a:cubicBezTo>
                <a:cubicBezTo>
                  <a:pt x="839050" y="142203"/>
                  <a:pt x="807323" y="115574"/>
                  <a:pt x="742737" y="102544"/>
                </a:cubicBezTo>
                <a:cubicBezTo>
                  <a:pt x="678151" y="89514"/>
                  <a:pt x="565409" y="74217"/>
                  <a:pt x="504789" y="68552"/>
                </a:cubicBezTo>
                <a:cubicBezTo>
                  <a:pt x="444169" y="62887"/>
                  <a:pt x="420941" y="74218"/>
                  <a:pt x="379017" y="68552"/>
                </a:cubicBezTo>
                <a:cubicBezTo>
                  <a:pt x="337093" y="62887"/>
                  <a:pt x="317831" y="53822"/>
                  <a:pt x="280439" y="44757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e3e3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Freeform 356"/>
          <p:cNvSpPr/>
          <p:nvPr/>
        </p:nvSpPr>
        <p:spPr>
          <a:xfrm>
            <a:off x="5560920" y="2968560"/>
            <a:ext cx="771480" cy="120600"/>
          </a:xfrm>
          <a:custGeom>
            <a:avLst/>
            <a:gdLst>
              <a:gd name="textAreaLeft" fmla="*/ 0 w 771480"/>
              <a:gd name="textAreaRight" fmla="*/ 771840 w 77148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771065" h="121241">
                <a:moveTo>
                  <a:pt x="8498" y="77051"/>
                </a:moveTo>
                <a:cubicBezTo>
                  <a:pt x="0" y="85549"/>
                  <a:pt x="70251" y="62888"/>
                  <a:pt x="96878" y="63454"/>
                </a:cubicBezTo>
                <a:cubicBezTo>
                  <a:pt x="123505" y="64020"/>
                  <a:pt x="141069" y="83849"/>
                  <a:pt x="168263" y="80450"/>
                </a:cubicBezTo>
                <a:cubicBezTo>
                  <a:pt x="195457" y="77051"/>
                  <a:pt x="220952" y="37959"/>
                  <a:pt x="260043" y="43058"/>
                </a:cubicBezTo>
                <a:cubicBezTo>
                  <a:pt x="299134" y="48157"/>
                  <a:pt x="348423" y="100845"/>
                  <a:pt x="402811" y="111043"/>
                </a:cubicBezTo>
                <a:cubicBezTo>
                  <a:pt x="457199" y="121241"/>
                  <a:pt x="538781" y="103679"/>
                  <a:pt x="586371" y="104245"/>
                </a:cubicBezTo>
                <a:cubicBezTo>
                  <a:pt x="633961" y="104812"/>
                  <a:pt x="658889" y="120107"/>
                  <a:pt x="688349" y="114442"/>
                </a:cubicBezTo>
                <a:cubicBezTo>
                  <a:pt x="717809" y="108777"/>
                  <a:pt x="771065" y="80450"/>
                  <a:pt x="763133" y="70252"/>
                </a:cubicBezTo>
                <a:cubicBezTo>
                  <a:pt x="755201" y="60054"/>
                  <a:pt x="680417" y="53823"/>
                  <a:pt x="640759" y="53256"/>
                </a:cubicBezTo>
                <a:cubicBezTo>
                  <a:pt x="601101" y="52690"/>
                  <a:pt x="577307" y="74218"/>
                  <a:pt x="525185" y="66853"/>
                </a:cubicBezTo>
                <a:cubicBezTo>
                  <a:pt x="473063" y="59488"/>
                  <a:pt x="390914" y="18130"/>
                  <a:pt x="328028" y="9065"/>
                </a:cubicBezTo>
                <a:cubicBezTo>
                  <a:pt x="265142" y="0"/>
                  <a:pt x="201122" y="2834"/>
                  <a:pt x="147867" y="12465"/>
                </a:cubicBezTo>
                <a:cubicBezTo>
                  <a:pt x="94612" y="22096"/>
                  <a:pt x="16996" y="68553"/>
                  <a:pt x="8498" y="7705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Freeform 367"/>
          <p:cNvSpPr/>
          <p:nvPr/>
        </p:nvSpPr>
        <p:spPr>
          <a:xfrm>
            <a:off x="5843520" y="3859200"/>
            <a:ext cx="293760" cy="444600"/>
          </a:xfrm>
          <a:custGeom>
            <a:avLst/>
            <a:gdLst>
              <a:gd name="textAreaLeft" fmla="*/ 0 w 293760"/>
              <a:gd name="textAreaRight" fmla="*/ 294120 w 29376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295735" h="380716">
                <a:moveTo>
                  <a:pt x="0" y="380716"/>
                </a:moveTo>
                <a:cubicBezTo>
                  <a:pt x="57787" y="355788"/>
                  <a:pt x="115575" y="330860"/>
                  <a:pt x="159765" y="299134"/>
                </a:cubicBezTo>
                <a:cubicBezTo>
                  <a:pt x="203955" y="267408"/>
                  <a:pt x="242480" y="240214"/>
                  <a:pt x="265142" y="190358"/>
                </a:cubicBezTo>
                <a:cubicBezTo>
                  <a:pt x="287804" y="140502"/>
                  <a:pt x="291769" y="70251"/>
                  <a:pt x="295735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Freeform 368"/>
          <p:cNvSpPr/>
          <p:nvPr/>
        </p:nvSpPr>
        <p:spPr>
          <a:xfrm>
            <a:off x="5767560" y="2639880"/>
            <a:ext cx="137880" cy="459000"/>
          </a:xfrm>
          <a:custGeom>
            <a:avLst/>
            <a:gdLst>
              <a:gd name="textAreaLeft" fmla="*/ 0 w 137880"/>
              <a:gd name="textAreaRight" fmla="*/ 138240 w 13788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139937" h="421508">
                <a:moveTo>
                  <a:pt x="139937" y="421508"/>
                </a:moveTo>
                <a:cubicBezTo>
                  <a:pt x="100279" y="380150"/>
                  <a:pt x="60621" y="338793"/>
                  <a:pt x="37959" y="295736"/>
                </a:cubicBezTo>
                <a:cubicBezTo>
                  <a:pt x="15297" y="252679"/>
                  <a:pt x="0" y="212454"/>
                  <a:pt x="3966" y="163165"/>
                </a:cubicBezTo>
                <a:cubicBezTo>
                  <a:pt x="7932" y="113876"/>
                  <a:pt x="34843" y="56938"/>
                  <a:pt x="61754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Freeform 369"/>
          <p:cNvSpPr/>
          <p:nvPr/>
        </p:nvSpPr>
        <p:spPr>
          <a:xfrm>
            <a:off x="5821200" y="2028960"/>
            <a:ext cx="301680" cy="193680"/>
          </a:xfrm>
          <a:custGeom>
            <a:avLst/>
            <a:gdLst>
              <a:gd name="textAreaLeft" fmla="*/ 0 w 301680"/>
              <a:gd name="textAreaRight" fmla="*/ 302040 w 30168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86393" h="278739">
                <a:moveTo>
                  <a:pt x="57221" y="278739"/>
                </a:moveTo>
                <a:cubicBezTo>
                  <a:pt x="33992" y="242480"/>
                  <a:pt x="10764" y="206222"/>
                  <a:pt x="6232" y="169963"/>
                </a:cubicBezTo>
                <a:cubicBezTo>
                  <a:pt x="1700" y="133704"/>
                  <a:pt x="0" y="89514"/>
                  <a:pt x="30027" y="61187"/>
                </a:cubicBezTo>
                <a:cubicBezTo>
                  <a:pt x="60054" y="32860"/>
                  <a:pt x="123223" y="16430"/>
                  <a:pt x="186393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Freeform 373"/>
          <p:cNvSpPr/>
          <p:nvPr/>
        </p:nvSpPr>
        <p:spPr>
          <a:xfrm>
            <a:off x="3862440" y="4545000"/>
            <a:ext cx="1681200" cy="274680"/>
          </a:xfrm>
          <a:custGeom>
            <a:avLst/>
            <a:gdLst>
              <a:gd name="textAreaLeft" fmla="*/ 0 w 1681200"/>
              <a:gd name="textAreaRight" fmla="*/ 1681560 w 1681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407293" h="240214">
                <a:moveTo>
                  <a:pt x="0" y="152967"/>
                </a:moveTo>
                <a:cubicBezTo>
                  <a:pt x="50989" y="178178"/>
                  <a:pt x="101978" y="203389"/>
                  <a:pt x="173363" y="217553"/>
                </a:cubicBezTo>
                <a:cubicBezTo>
                  <a:pt x="244748" y="231717"/>
                  <a:pt x="320097" y="240214"/>
                  <a:pt x="428307" y="237948"/>
                </a:cubicBezTo>
                <a:cubicBezTo>
                  <a:pt x="536517" y="235682"/>
                  <a:pt x="692883" y="225485"/>
                  <a:pt x="822621" y="203956"/>
                </a:cubicBezTo>
                <a:cubicBezTo>
                  <a:pt x="952359" y="182427"/>
                  <a:pt x="1109292" y="142769"/>
                  <a:pt x="1206737" y="108776"/>
                </a:cubicBezTo>
                <a:cubicBezTo>
                  <a:pt x="1304182" y="74783"/>
                  <a:pt x="1355737" y="37391"/>
                  <a:pt x="1407293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Freeform 374"/>
          <p:cNvSpPr/>
          <p:nvPr/>
        </p:nvSpPr>
        <p:spPr>
          <a:xfrm>
            <a:off x="3862440" y="4697280"/>
            <a:ext cx="1641600" cy="244440"/>
          </a:xfrm>
          <a:custGeom>
            <a:avLst/>
            <a:gdLst>
              <a:gd name="textAreaLeft" fmla="*/ 0 w 1641600"/>
              <a:gd name="textAreaRight" fmla="*/ 1641960 w 16416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369900" h="208488">
                <a:moveTo>
                  <a:pt x="1369900" y="0"/>
                </a:moveTo>
                <a:cubicBezTo>
                  <a:pt x="1305597" y="40508"/>
                  <a:pt x="1241295" y="81016"/>
                  <a:pt x="1145549" y="112176"/>
                </a:cubicBezTo>
                <a:cubicBezTo>
                  <a:pt x="1049803" y="143336"/>
                  <a:pt x="916100" y="171096"/>
                  <a:pt x="795426" y="186959"/>
                </a:cubicBezTo>
                <a:cubicBezTo>
                  <a:pt x="674752" y="202822"/>
                  <a:pt x="532549" y="208488"/>
                  <a:pt x="421507" y="207355"/>
                </a:cubicBezTo>
                <a:cubicBezTo>
                  <a:pt x="310465" y="206222"/>
                  <a:pt x="199422" y="193192"/>
                  <a:pt x="129171" y="180161"/>
                </a:cubicBezTo>
                <a:cubicBezTo>
                  <a:pt x="58920" y="167131"/>
                  <a:pt x="29460" y="148151"/>
                  <a:pt x="0" y="129172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Freeform 375"/>
          <p:cNvSpPr/>
          <p:nvPr/>
        </p:nvSpPr>
        <p:spPr>
          <a:xfrm>
            <a:off x="3557520" y="2335320"/>
            <a:ext cx="142920" cy="288720"/>
          </a:xfrm>
          <a:custGeom>
            <a:avLst/>
            <a:gdLst>
              <a:gd name="textAreaLeft" fmla="*/ 0 w 142920"/>
              <a:gd name="textAreaRight" fmla="*/ 143280 w 1429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43901" h="288937">
                <a:moveTo>
                  <a:pt x="47589" y="0"/>
                </a:moveTo>
                <a:cubicBezTo>
                  <a:pt x="71667" y="31726"/>
                  <a:pt x="95746" y="63453"/>
                  <a:pt x="108776" y="95179"/>
                </a:cubicBezTo>
                <a:cubicBezTo>
                  <a:pt x="121806" y="126905"/>
                  <a:pt x="143901" y="158065"/>
                  <a:pt x="125772" y="190358"/>
                </a:cubicBezTo>
                <a:cubicBezTo>
                  <a:pt x="107643" y="222651"/>
                  <a:pt x="53821" y="255794"/>
                  <a:pt x="0" y="288937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Freeform 376"/>
          <p:cNvSpPr/>
          <p:nvPr/>
        </p:nvSpPr>
        <p:spPr>
          <a:xfrm>
            <a:off x="2795760" y="3021120"/>
            <a:ext cx="149040" cy="1036440"/>
          </a:xfrm>
          <a:custGeom>
            <a:avLst/>
            <a:gdLst>
              <a:gd name="textAreaLeft" fmla="*/ 0 w 149040"/>
              <a:gd name="textAreaRight" fmla="*/ 149400 w 149040"/>
              <a:gd name="textAreaTop" fmla="*/ 0 h 1036440"/>
              <a:gd name="textAreaBottom" fmla="*/ 1036800 h 1036440"/>
            </a:gdLst>
            <a:ahLst/>
            <a:rect l="textAreaLeft" t="textAreaTop" r="textAreaRight" b="textAreaBottom"/>
            <a:pathLst>
              <a:path w="314998" h="1036773">
                <a:moveTo>
                  <a:pt x="314998" y="0"/>
                </a:moveTo>
                <a:cubicBezTo>
                  <a:pt x="243330" y="61753"/>
                  <a:pt x="171662" y="123506"/>
                  <a:pt x="121240" y="203955"/>
                </a:cubicBezTo>
                <a:cubicBezTo>
                  <a:pt x="70818" y="284404"/>
                  <a:pt x="24928" y="387515"/>
                  <a:pt x="12464" y="482694"/>
                </a:cubicBezTo>
                <a:cubicBezTo>
                  <a:pt x="0" y="577873"/>
                  <a:pt x="14730" y="682684"/>
                  <a:pt x="46456" y="775030"/>
                </a:cubicBezTo>
                <a:cubicBezTo>
                  <a:pt x="78182" y="867376"/>
                  <a:pt x="140502" y="952074"/>
                  <a:pt x="202822" y="1036773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Freeform 377"/>
          <p:cNvSpPr/>
          <p:nvPr/>
        </p:nvSpPr>
        <p:spPr>
          <a:xfrm>
            <a:off x="3176640" y="1954080"/>
            <a:ext cx="345960" cy="69840"/>
          </a:xfrm>
          <a:custGeom>
            <a:avLst/>
            <a:gdLst>
              <a:gd name="textAreaLeft" fmla="*/ 0 w 345960"/>
              <a:gd name="textAreaRight" fmla="*/ 346320 w 34596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275906" h="254944">
                <a:moveTo>
                  <a:pt x="0" y="0"/>
                </a:moveTo>
                <a:cubicBezTo>
                  <a:pt x="66285" y="11614"/>
                  <a:pt x="132571" y="23228"/>
                  <a:pt x="176761" y="44190"/>
                </a:cubicBezTo>
                <a:cubicBezTo>
                  <a:pt x="220951" y="65152"/>
                  <a:pt x="254378" y="90646"/>
                  <a:pt x="265142" y="125772"/>
                </a:cubicBezTo>
                <a:cubicBezTo>
                  <a:pt x="275906" y="160898"/>
                  <a:pt x="258626" y="207921"/>
                  <a:pt x="241347" y="25494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56" name="Oval 378"/>
          <p:cNvGrpSpPr/>
          <p:nvPr/>
        </p:nvGrpSpPr>
        <p:grpSpPr>
          <a:xfrm>
            <a:off x="3395520" y="2243160"/>
            <a:ext cx="79560" cy="152280"/>
            <a:chOff x="3395520" y="2243160"/>
            <a:chExt cx="79560" cy="152280"/>
          </a:xfrm>
        </p:grpSpPr>
        <p:pic>
          <p:nvPicPr>
            <p:cNvPr id="657" name="Oval 378" descr=""/>
            <p:cNvPicPr/>
            <p:nvPr/>
          </p:nvPicPr>
          <p:blipFill>
            <a:blip r:embed="rId16"/>
            <a:stretch/>
          </p:blipFill>
          <p:spPr>
            <a:xfrm>
              <a:off x="3395520" y="2243160"/>
              <a:ext cx="7956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3405240" y="2262240"/>
              <a:ext cx="554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59" name="Oval 379"/>
          <p:cNvGrpSpPr/>
          <p:nvPr/>
        </p:nvGrpSpPr>
        <p:grpSpPr>
          <a:xfrm>
            <a:off x="3468600" y="2249640"/>
            <a:ext cx="79560" cy="152280"/>
            <a:chOff x="3468600" y="2249640"/>
            <a:chExt cx="79560" cy="152280"/>
          </a:xfrm>
        </p:grpSpPr>
        <p:pic>
          <p:nvPicPr>
            <p:cNvPr id="660" name="Oval 379" descr=""/>
            <p:cNvPicPr/>
            <p:nvPr/>
          </p:nvPicPr>
          <p:blipFill>
            <a:blip r:embed="rId17"/>
            <a:stretch/>
          </p:blipFill>
          <p:spPr>
            <a:xfrm>
              <a:off x="3468600" y="2249640"/>
              <a:ext cx="7956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>
              <a:off x="3479760" y="2271600"/>
              <a:ext cx="554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62" name="Rounded Rectangle 382"/>
          <p:cNvSpPr/>
          <p:nvPr/>
        </p:nvSpPr>
        <p:spPr>
          <a:xfrm>
            <a:off x="5611680" y="4352760"/>
            <a:ext cx="1033560" cy="619200"/>
          </a:xfrm>
          <a:prstGeom prst="roundRect">
            <a:avLst>
              <a:gd name="adj" fmla="val 16667"/>
            </a:avLst>
          </a:prstGeom>
          <a:solidFill>
            <a:srgbClr val="0000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Freeform 24"/>
          <p:cNvSpPr/>
          <p:nvPr/>
        </p:nvSpPr>
        <p:spPr>
          <a:xfrm>
            <a:off x="5837400" y="4471920"/>
            <a:ext cx="696600" cy="93600"/>
          </a:xfrm>
          <a:custGeom>
            <a:avLst/>
            <a:gdLst>
              <a:gd name="textAreaLeft" fmla="*/ 0 w 696600"/>
              <a:gd name="textAreaRight" fmla="*/ 696960 w 69660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698361" h="92947">
                <a:moveTo>
                  <a:pt x="0" y="72850"/>
                </a:moveTo>
                <a:cubicBezTo>
                  <a:pt x="18840" y="40193"/>
                  <a:pt x="37681" y="7536"/>
                  <a:pt x="55266" y="7536"/>
                </a:cubicBezTo>
                <a:cubicBezTo>
                  <a:pt x="72851" y="7536"/>
                  <a:pt x="86249" y="73687"/>
                  <a:pt x="105508" y="72850"/>
                </a:cubicBezTo>
                <a:cubicBezTo>
                  <a:pt x="124767" y="72013"/>
                  <a:pt x="152400" y="5024"/>
                  <a:pt x="170822" y="2512"/>
                </a:cubicBezTo>
                <a:cubicBezTo>
                  <a:pt x="189244" y="0"/>
                  <a:pt x="205154" y="46892"/>
                  <a:pt x="216040" y="57778"/>
                </a:cubicBezTo>
                <a:cubicBezTo>
                  <a:pt x="226926" y="68664"/>
                  <a:pt x="225251" y="75362"/>
                  <a:pt x="236137" y="67826"/>
                </a:cubicBezTo>
                <a:cubicBezTo>
                  <a:pt x="247023" y="60290"/>
                  <a:pt x="261257" y="10885"/>
                  <a:pt x="281354" y="12560"/>
                </a:cubicBezTo>
                <a:cubicBezTo>
                  <a:pt x="301451" y="14235"/>
                  <a:pt x="333271" y="78712"/>
                  <a:pt x="356717" y="77875"/>
                </a:cubicBezTo>
                <a:cubicBezTo>
                  <a:pt x="380163" y="77038"/>
                  <a:pt x="403609" y="5861"/>
                  <a:pt x="422031" y="7536"/>
                </a:cubicBezTo>
                <a:cubicBezTo>
                  <a:pt x="440453" y="9211"/>
                  <a:pt x="448827" y="84574"/>
                  <a:pt x="467249" y="87923"/>
                </a:cubicBezTo>
                <a:cubicBezTo>
                  <a:pt x="485671" y="91272"/>
                  <a:pt x="514141" y="26796"/>
                  <a:pt x="532563" y="27633"/>
                </a:cubicBezTo>
                <a:cubicBezTo>
                  <a:pt x="550985" y="28470"/>
                  <a:pt x="550147" y="92947"/>
                  <a:pt x="577780" y="92947"/>
                </a:cubicBezTo>
                <a:cubicBezTo>
                  <a:pt x="605413" y="92947"/>
                  <a:pt x="651887" y="60290"/>
                  <a:pt x="698361" y="27633"/>
                </a:cubicBezTo>
              </a:path>
            </a:pathLst>
          </a:custGeom>
          <a:noFill/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Freeform 26"/>
          <p:cNvSpPr/>
          <p:nvPr/>
        </p:nvSpPr>
        <p:spPr>
          <a:xfrm>
            <a:off x="5794200" y="4665600"/>
            <a:ext cx="700200" cy="92160"/>
          </a:xfrm>
          <a:custGeom>
            <a:avLst/>
            <a:gdLst>
              <a:gd name="textAreaLeft" fmla="*/ 0 w 700200"/>
              <a:gd name="textAreaRight" fmla="*/ 700560 w 70020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698361" h="92947">
                <a:moveTo>
                  <a:pt x="0" y="72850"/>
                </a:moveTo>
                <a:cubicBezTo>
                  <a:pt x="18840" y="40193"/>
                  <a:pt x="37681" y="7536"/>
                  <a:pt x="55266" y="7536"/>
                </a:cubicBezTo>
                <a:cubicBezTo>
                  <a:pt x="72851" y="7536"/>
                  <a:pt x="86249" y="73687"/>
                  <a:pt x="105508" y="72850"/>
                </a:cubicBezTo>
                <a:cubicBezTo>
                  <a:pt x="124767" y="72013"/>
                  <a:pt x="152400" y="5024"/>
                  <a:pt x="170822" y="2512"/>
                </a:cubicBezTo>
                <a:cubicBezTo>
                  <a:pt x="189244" y="0"/>
                  <a:pt x="205154" y="46892"/>
                  <a:pt x="216040" y="57778"/>
                </a:cubicBezTo>
                <a:cubicBezTo>
                  <a:pt x="226926" y="68664"/>
                  <a:pt x="225251" y="75362"/>
                  <a:pt x="236137" y="67826"/>
                </a:cubicBezTo>
                <a:cubicBezTo>
                  <a:pt x="247023" y="60290"/>
                  <a:pt x="261257" y="10885"/>
                  <a:pt x="281354" y="12560"/>
                </a:cubicBezTo>
                <a:cubicBezTo>
                  <a:pt x="301451" y="14235"/>
                  <a:pt x="333271" y="78712"/>
                  <a:pt x="356717" y="77875"/>
                </a:cubicBezTo>
                <a:cubicBezTo>
                  <a:pt x="380163" y="77038"/>
                  <a:pt x="403609" y="5861"/>
                  <a:pt x="422031" y="7536"/>
                </a:cubicBezTo>
                <a:cubicBezTo>
                  <a:pt x="440453" y="9211"/>
                  <a:pt x="448827" y="84574"/>
                  <a:pt x="467249" y="87923"/>
                </a:cubicBezTo>
                <a:cubicBezTo>
                  <a:pt x="485671" y="91272"/>
                  <a:pt x="514141" y="26796"/>
                  <a:pt x="532563" y="27633"/>
                </a:cubicBezTo>
                <a:cubicBezTo>
                  <a:pt x="550985" y="28470"/>
                  <a:pt x="550147" y="92947"/>
                  <a:pt x="577780" y="92947"/>
                </a:cubicBezTo>
                <a:cubicBezTo>
                  <a:pt x="605413" y="92947"/>
                  <a:pt x="651887" y="60290"/>
                  <a:pt x="698361" y="27633"/>
                </a:cubicBezTo>
              </a:path>
            </a:pathLst>
          </a:custGeom>
          <a:noFill/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Freeform 28"/>
          <p:cNvSpPr/>
          <p:nvPr/>
        </p:nvSpPr>
        <p:spPr>
          <a:xfrm>
            <a:off x="5802480" y="4762440"/>
            <a:ext cx="695160" cy="92160"/>
          </a:xfrm>
          <a:custGeom>
            <a:avLst/>
            <a:gdLst>
              <a:gd name="textAreaLeft" fmla="*/ 0 w 695160"/>
              <a:gd name="textAreaRight" fmla="*/ 695520 w 69516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698361" h="92947">
                <a:moveTo>
                  <a:pt x="0" y="72850"/>
                </a:moveTo>
                <a:cubicBezTo>
                  <a:pt x="18840" y="40193"/>
                  <a:pt x="37681" y="7536"/>
                  <a:pt x="55266" y="7536"/>
                </a:cubicBezTo>
                <a:cubicBezTo>
                  <a:pt x="72851" y="7536"/>
                  <a:pt x="86249" y="73687"/>
                  <a:pt x="105508" y="72850"/>
                </a:cubicBezTo>
                <a:cubicBezTo>
                  <a:pt x="124767" y="72013"/>
                  <a:pt x="152400" y="5024"/>
                  <a:pt x="170822" y="2512"/>
                </a:cubicBezTo>
                <a:cubicBezTo>
                  <a:pt x="189244" y="0"/>
                  <a:pt x="205154" y="46892"/>
                  <a:pt x="216040" y="57778"/>
                </a:cubicBezTo>
                <a:cubicBezTo>
                  <a:pt x="226926" y="68664"/>
                  <a:pt x="225251" y="75362"/>
                  <a:pt x="236137" y="67826"/>
                </a:cubicBezTo>
                <a:cubicBezTo>
                  <a:pt x="247023" y="60290"/>
                  <a:pt x="261257" y="10885"/>
                  <a:pt x="281354" y="12560"/>
                </a:cubicBezTo>
                <a:cubicBezTo>
                  <a:pt x="301451" y="14235"/>
                  <a:pt x="333271" y="78712"/>
                  <a:pt x="356717" y="77875"/>
                </a:cubicBezTo>
                <a:cubicBezTo>
                  <a:pt x="380163" y="77038"/>
                  <a:pt x="403609" y="5861"/>
                  <a:pt x="422031" y="7536"/>
                </a:cubicBezTo>
                <a:cubicBezTo>
                  <a:pt x="440453" y="9211"/>
                  <a:pt x="448827" y="84574"/>
                  <a:pt x="467249" y="87923"/>
                </a:cubicBezTo>
                <a:cubicBezTo>
                  <a:pt x="485671" y="91272"/>
                  <a:pt x="514141" y="26796"/>
                  <a:pt x="532563" y="27633"/>
                </a:cubicBezTo>
                <a:cubicBezTo>
                  <a:pt x="550985" y="28470"/>
                  <a:pt x="550147" y="92947"/>
                  <a:pt x="577780" y="92947"/>
                </a:cubicBezTo>
                <a:cubicBezTo>
                  <a:pt x="605413" y="92947"/>
                  <a:pt x="651887" y="60290"/>
                  <a:pt x="698361" y="27633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666" name="Straight Arrow Connector 371"/>
          <p:cNvCxnSpPr>
            <a:stCxn id="664" idx="3"/>
          </p:cNvCxnSpPr>
          <p:nvPr/>
        </p:nvCxnSpPr>
        <p:spPr>
          <a:xfrm flipV="1">
            <a:off x="5982840" y="4534920"/>
            <a:ext cx="1080" cy="13068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667" name="Straight Arrow Connector 372"/>
          <p:cNvCxnSpPr/>
          <p:nvPr/>
        </p:nvCxnSpPr>
        <p:spPr>
          <a:xfrm>
            <a:off x="6140160" y="4579920"/>
            <a:ext cx="1080" cy="13248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668" name="Rounded Rectangle 357"/>
          <p:cNvSpPr/>
          <p:nvPr/>
        </p:nvSpPr>
        <p:spPr>
          <a:xfrm>
            <a:off x="5973840" y="3279600"/>
            <a:ext cx="1695240" cy="562320"/>
          </a:xfrm>
          <a:prstGeom prst="roundRect">
            <a:avLst>
              <a:gd name="adj" fmla="val 16667"/>
            </a:avLst>
          </a:prstGeom>
          <a:solidFill>
            <a:srgbClr val="d9d9d9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69" name="Oval 364"/>
          <p:cNvGrpSpPr/>
          <p:nvPr/>
        </p:nvGrpSpPr>
        <p:grpSpPr>
          <a:xfrm>
            <a:off x="6175440" y="3376440"/>
            <a:ext cx="407880" cy="311400"/>
            <a:chOff x="6175440" y="3376440"/>
            <a:chExt cx="407880" cy="311400"/>
          </a:xfrm>
        </p:grpSpPr>
        <p:pic>
          <p:nvPicPr>
            <p:cNvPr id="670" name="Oval 364" descr=""/>
            <p:cNvPicPr/>
            <p:nvPr/>
          </p:nvPicPr>
          <p:blipFill>
            <a:blip r:embed="rId18"/>
            <a:stretch/>
          </p:blipFill>
          <p:spPr>
            <a:xfrm>
              <a:off x="6175440" y="3376440"/>
              <a:ext cx="407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"/>
            <p:cNvSpPr/>
            <p:nvPr/>
          </p:nvSpPr>
          <p:spPr>
            <a:xfrm>
              <a:off x="6235560" y="3422520"/>
              <a:ext cx="2905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72" name="Freeform 360"/>
          <p:cNvSpPr/>
          <p:nvPr/>
        </p:nvSpPr>
        <p:spPr>
          <a:xfrm>
            <a:off x="6291360" y="3559320"/>
            <a:ext cx="1396800" cy="287280"/>
          </a:xfrm>
          <a:custGeom>
            <a:avLst/>
            <a:gdLst/>
            <a:ahLst/>
            <a:rect l="l" t="t" r="r" b="b"/>
            <a:pathLst>
              <a:path w="1107591" h="286672">
                <a:moveTo>
                  <a:pt x="0" y="274207"/>
                </a:moveTo>
                <a:cubicBezTo>
                  <a:pt x="7082" y="257494"/>
                  <a:pt x="14164" y="240781"/>
                  <a:pt x="84982" y="209621"/>
                </a:cubicBezTo>
                <a:cubicBezTo>
                  <a:pt x="155800" y="178461"/>
                  <a:pt x="301401" y="120107"/>
                  <a:pt x="424907" y="87248"/>
                </a:cubicBezTo>
                <a:cubicBezTo>
                  <a:pt x="548413" y="54389"/>
                  <a:pt x="728007" y="24928"/>
                  <a:pt x="826019" y="12464"/>
                </a:cubicBezTo>
                <a:cubicBezTo>
                  <a:pt x="924031" y="0"/>
                  <a:pt x="969922" y="11897"/>
                  <a:pt x="1012979" y="12464"/>
                </a:cubicBezTo>
                <a:cubicBezTo>
                  <a:pt x="1056036" y="13031"/>
                  <a:pt x="1071333" y="2834"/>
                  <a:pt x="1084363" y="15864"/>
                </a:cubicBezTo>
                <a:cubicBezTo>
                  <a:pt x="1097393" y="28895"/>
                  <a:pt x="1090595" y="52122"/>
                  <a:pt x="1091161" y="90647"/>
                </a:cubicBezTo>
                <a:cubicBezTo>
                  <a:pt x="1091727" y="129172"/>
                  <a:pt x="1107591" y="215287"/>
                  <a:pt x="1087762" y="247013"/>
                </a:cubicBezTo>
                <a:cubicBezTo>
                  <a:pt x="1067933" y="278739"/>
                  <a:pt x="1033374" y="275341"/>
                  <a:pt x="972187" y="281006"/>
                </a:cubicBezTo>
                <a:cubicBezTo>
                  <a:pt x="911000" y="286672"/>
                  <a:pt x="720642" y="281006"/>
                  <a:pt x="720642" y="281006"/>
                </a:cubicBezTo>
                <a:lnTo>
                  <a:pt x="237948" y="277606"/>
                </a:lnTo>
                <a:lnTo>
                  <a:pt x="0" y="274207"/>
                </a:lnTo>
                <a:close/>
              </a:path>
            </a:pathLst>
          </a:custGeom>
          <a:solidFill>
            <a:srgbClr val="cc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TextBox 14"/>
          <p:cNvSpPr/>
          <p:nvPr/>
        </p:nvSpPr>
        <p:spPr>
          <a:xfrm>
            <a:off x="6831360" y="3271320"/>
            <a:ext cx="840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ЕР луме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TextBox 15"/>
          <p:cNvSpPr/>
          <p:nvPr/>
        </p:nvSpPr>
        <p:spPr>
          <a:xfrm>
            <a:off x="6967440" y="35989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LD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Freeform 362"/>
          <p:cNvSpPr/>
          <p:nvPr/>
        </p:nvSpPr>
        <p:spPr>
          <a:xfrm>
            <a:off x="6129360" y="3332160"/>
            <a:ext cx="504720" cy="396720"/>
          </a:xfrm>
          <a:custGeom>
            <a:avLst/>
            <a:gdLst/>
            <a:ahLst/>
            <a:rect l="l" t="t" r="r" b="b"/>
            <a:pathLst>
              <a:path w="504789" h="396580">
                <a:moveTo>
                  <a:pt x="226050" y="396580"/>
                </a:moveTo>
                <a:cubicBezTo>
                  <a:pt x="173644" y="384683"/>
                  <a:pt x="121239" y="372786"/>
                  <a:pt x="86680" y="348991"/>
                </a:cubicBezTo>
                <a:cubicBezTo>
                  <a:pt x="52121" y="325196"/>
                  <a:pt x="31159" y="287804"/>
                  <a:pt x="18695" y="253811"/>
                </a:cubicBezTo>
                <a:cubicBezTo>
                  <a:pt x="6231" y="219818"/>
                  <a:pt x="0" y="179594"/>
                  <a:pt x="11897" y="145035"/>
                </a:cubicBezTo>
                <a:cubicBezTo>
                  <a:pt x="23794" y="110476"/>
                  <a:pt x="54387" y="70252"/>
                  <a:pt x="90079" y="46457"/>
                </a:cubicBezTo>
                <a:cubicBezTo>
                  <a:pt x="125771" y="22662"/>
                  <a:pt x="177327" y="4532"/>
                  <a:pt x="226050" y="2266"/>
                </a:cubicBezTo>
                <a:cubicBezTo>
                  <a:pt x="274773" y="0"/>
                  <a:pt x="339925" y="13031"/>
                  <a:pt x="382416" y="32860"/>
                </a:cubicBezTo>
                <a:cubicBezTo>
                  <a:pt x="424907" y="52689"/>
                  <a:pt x="460599" y="87814"/>
                  <a:pt x="480994" y="121240"/>
                </a:cubicBezTo>
                <a:cubicBezTo>
                  <a:pt x="501389" y="154666"/>
                  <a:pt x="504789" y="206222"/>
                  <a:pt x="504789" y="233416"/>
                </a:cubicBezTo>
                <a:cubicBezTo>
                  <a:pt x="504789" y="260610"/>
                  <a:pt x="492891" y="272507"/>
                  <a:pt x="480994" y="284405"/>
                </a:cubicBezTo>
              </a:path>
            </a:pathLst>
          </a:custGeom>
          <a:noFill/>
          <a:ln w="28440">
            <a:solidFill>
              <a:srgbClr val="005ce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Hexagon 363"/>
          <p:cNvSpPr/>
          <p:nvPr/>
        </p:nvSpPr>
        <p:spPr>
          <a:xfrm>
            <a:off x="6253200" y="3443400"/>
            <a:ext cx="284040" cy="196560"/>
          </a:xfrm>
          <a:prstGeom prst="hexagon">
            <a:avLst>
              <a:gd name="adj" fmla="val 37109"/>
              <a:gd name="vf" fmla="val 115470"/>
            </a:avLst>
          </a:prstGeom>
          <a:solidFill>
            <a:srgbClr val="aaaab8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Freeform 359"/>
          <p:cNvSpPr/>
          <p:nvPr/>
        </p:nvSpPr>
        <p:spPr>
          <a:xfrm>
            <a:off x="6330960" y="3494160"/>
            <a:ext cx="552600" cy="214200"/>
          </a:xfrm>
          <a:custGeom>
            <a:avLst/>
            <a:gdLst>
              <a:gd name="textAreaLeft" fmla="*/ 0 w 552600"/>
              <a:gd name="textAreaRight" fmla="*/ 552960 w 5526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554888" h="214440">
                <a:moveTo>
                  <a:pt x="31402" y="64151"/>
                </a:moveTo>
                <a:cubicBezTo>
                  <a:pt x="32535" y="57353"/>
                  <a:pt x="31381" y="49740"/>
                  <a:pt x="34801" y="43756"/>
                </a:cubicBezTo>
                <a:cubicBezTo>
                  <a:pt x="36579" y="40645"/>
                  <a:pt x="41416" y="40357"/>
                  <a:pt x="44999" y="40357"/>
                </a:cubicBezTo>
                <a:cubicBezTo>
                  <a:pt x="56387" y="40357"/>
                  <a:pt x="67661" y="42623"/>
                  <a:pt x="78992" y="43756"/>
                </a:cubicBezTo>
                <a:cubicBezTo>
                  <a:pt x="82049" y="52929"/>
                  <a:pt x="85631" y="57592"/>
                  <a:pt x="78992" y="67551"/>
                </a:cubicBezTo>
                <a:cubicBezTo>
                  <a:pt x="76726" y="70950"/>
                  <a:pt x="72193" y="72083"/>
                  <a:pt x="68794" y="74349"/>
                </a:cubicBezTo>
                <a:cubicBezTo>
                  <a:pt x="48398" y="73216"/>
                  <a:pt x="27637" y="74956"/>
                  <a:pt x="7607" y="70950"/>
                </a:cubicBezTo>
                <a:cubicBezTo>
                  <a:pt x="3601" y="70149"/>
                  <a:pt x="1179" y="64821"/>
                  <a:pt x="809" y="60752"/>
                </a:cubicBezTo>
                <a:cubicBezTo>
                  <a:pt x="0" y="51847"/>
                  <a:pt x="1249" y="31166"/>
                  <a:pt x="11007" y="23360"/>
                </a:cubicBezTo>
                <a:cubicBezTo>
                  <a:pt x="13805" y="21122"/>
                  <a:pt x="17805" y="21094"/>
                  <a:pt x="21204" y="19961"/>
                </a:cubicBezTo>
                <a:cubicBezTo>
                  <a:pt x="70409" y="21929"/>
                  <a:pt x="96205" y="0"/>
                  <a:pt x="112984" y="33558"/>
                </a:cubicBezTo>
                <a:cubicBezTo>
                  <a:pt x="114586" y="36763"/>
                  <a:pt x="115251" y="40357"/>
                  <a:pt x="116384" y="43756"/>
                </a:cubicBezTo>
                <a:cubicBezTo>
                  <a:pt x="115251" y="60752"/>
                  <a:pt x="116885" y="78164"/>
                  <a:pt x="112984" y="94745"/>
                </a:cubicBezTo>
                <a:cubicBezTo>
                  <a:pt x="112048" y="98721"/>
                  <a:pt x="105676" y="98654"/>
                  <a:pt x="102787" y="101543"/>
                </a:cubicBezTo>
                <a:cubicBezTo>
                  <a:pt x="99898" y="104432"/>
                  <a:pt x="98254" y="108342"/>
                  <a:pt x="95988" y="111741"/>
                </a:cubicBezTo>
                <a:cubicBezTo>
                  <a:pt x="94855" y="115140"/>
                  <a:pt x="92589" y="118356"/>
                  <a:pt x="92589" y="121939"/>
                </a:cubicBezTo>
                <a:cubicBezTo>
                  <a:pt x="92589" y="126208"/>
                  <a:pt x="97784" y="140923"/>
                  <a:pt x="99387" y="145733"/>
                </a:cubicBezTo>
                <a:cubicBezTo>
                  <a:pt x="100520" y="163863"/>
                  <a:pt x="86908" y="191300"/>
                  <a:pt x="102787" y="200122"/>
                </a:cubicBezTo>
                <a:cubicBezTo>
                  <a:pt x="128559" y="214440"/>
                  <a:pt x="161755" y="198751"/>
                  <a:pt x="191167" y="196722"/>
                </a:cubicBezTo>
                <a:cubicBezTo>
                  <a:pt x="194742" y="196475"/>
                  <a:pt x="198233" y="195063"/>
                  <a:pt x="201365" y="193323"/>
                </a:cubicBezTo>
                <a:cubicBezTo>
                  <a:pt x="201367" y="193322"/>
                  <a:pt x="226858" y="176328"/>
                  <a:pt x="231958" y="172928"/>
                </a:cubicBezTo>
                <a:lnTo>
                  <a:pt x="242156" y="166129"/>
                </a:lnTo>
                <a:cubicBezTo>
                  <a:pt x="245555" y="163863"/>
                  <a:pt x="248390" y="160321"/>
                  <a:pt x="252354" y="159330"/>
                </a:cubicBezTo>
                <a:cubicBezTo>
                  <a:pt x="269427" y="155062"/>
                  <a:pt x="261519" y="157408"/>
                  <a:pt x="276149" y="152532"/>
                </a:cubicBezTo>
                <a:cubicBezTo>
                  <a:pt x="279548" y="150266"/>
                  <a:pt x="282692" y="147560"/>
                  <a:pt x="286346" y="145733"/>
                </a:cubicBezTo>
                <a:cubicBezTo>
                  <a:pt x="314492" y="131659"/>
                  <a:pt x="274756" y="156766"/>
                  <a:pt x="310141" y="135536"/>
                </a:cubicBezTo>
                <a:cubicBezTo>
                  <a:pt x="320540" y="129297"/>
                  <a:pt x="328477" y="120425"/>
                  <a:pt x="340735" y="118539"/>
                </a:cubicBezTo>
                <a:cubicBezTo>
                  <a:pt x="351976" y="116810"/>
                  <a:pt x="406907" y="112459"/>
                  <a:pt x="415518" y="111741"/>
                </a:cubicBezTo>
                <a:cubicBezTo>
                  <a:pt x="420050" y="110608"/>
                  <a:pt x="424640" y="109684"/>
                  <a:pt x="429115" y="108342"/>
                </a:cubicBezTo>
                <a:cubicBezTo>
                  <a:pt x="435979" y="106283"/>
                  <a:pt x="442558" y="103281"/>
                  <a:pt x="449511" y="101543"/>
                </a:cubicBezTo>
                <a:cubicBezTo>
                  <a:pt x="454043" y="100410"/>
                  <a:pt x="458633" y="99486"/>
                  <a:pt x="463108" y="98144"/>
                </a:cubicBezTo>
                <a:cubicBezTo>
                  <a:pt x="469972" y="96085"/>
                  <a:pt x="476705" y="93611"/>
                  <a:pt x="483503" y="91345"/>
                </a:cubicBezTo>
                <a:cubicBezTo>
                  <a:pt x="486902" y="90212"/>
                  <a:pt x="490118" y="87946"/>
                  <a:pt x="493701" y="87946"/>
                </a:cubicBezTo>
                <a:lnTo>
                  <a:pt x="554888" y="87946"/>
                </a:lnTo>
              </a:path>
            </a:pathLst>
          </a:cu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Freeform 365"/>
          <p:cNvSpPr/>
          <p:nvPr/>
        </p:nvSpPr>
        <p:spPr>
          <a:xfrm>
            <a:off x="6229440" y="3668760"/>
            <a:ext cx="172800" cy="163440"/>
          </a:xfrm>
          <a:custGeom>
            <a:avLst/>
            <a:gdLst/>
            <a:ahLst/>
            <a:rect l="l" t="t" r="r" b="b"/>
            <a:pathLst>
              <a:path w="173362" h="163165">
                <a:moveTo>
                  <a:pt x="0" y="163165"/>
                </a:moveTo>
                <a:cubicBezTo>
                  <a:pt x="43340" y="137670"/>
                  <a:pt x="86681" y="112176"/>
                  <a:pt x="115575" y="84982"/>
                </a:cubicBezTo>
                <a:cubicBezTo>
                  <a:pt x="144469" y="57788"/>
                  <a:pt x="158915" y="28894"/>
                  <a:pt x="173362" y="0"/>
                </a:cubicBezTo>
              </a:path>
            </a:pathLst>
          </a:custGeom>
          <a:noFill/>
          <a:ln w="28440">
            <a:solidFill>
              <a:srgbClr val="005ce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Freeform 366"/>
          <p:cNvSpPr/>
          <p:nvPr/>
        </p:nvSpPr>
        <p:spPr>
          <a:xfrm>
            <a:off x="6527880" y="3467160"/>
            <a:ext cx="753840" cy="164880"/>
          </a:xfrm>
          <a:custGeom>
            <a:avLst/>
            <a:gdLst/>
            <a:ahLst/>
            <a:rect l="l" t="t" r="r" b="b"/>
            <a:pathLst>
              <a:path w="754635" h="165430">
                <a:moveTo>
                  <a:pt x="0" y="159198"/>
                </a:moveTo>
                <a:cubicBezTo>
                  <a:pt x="31726" y="162314"/>
                  <a:pt x="63453" y="165430"/>
                  <a:pt x="118974" y="152400"/>
                </a:cubicBezTo>
                <a:cubicBezTo>
                  <a:pt x="174495" y="139370"/>
                  <a:pt x="243047" y="104244"/>
                  <a:pt x="333127" y="81016"/>
                </a:cubicBezTo>
                <a:cubicBezTo>
                  <a:pt x="423207" y="57788"/>
                  <a:pt x="589205" y="26061"/>
                  <a:pt x="659456" y="13030"/>
                </a:cubicBezTo>
                <a:cubicBezTo>
                  <a:pt x="729707" y="0"/>
                  <a:pt x="742171" y="1416"/>
                  <a:pt x="754635" y="2833"/>
                </a:cubicBezTo>
              </a:path>
            </a:pathLst>
          </a:custGeom>
          <a:noFill/>
          <a:ln w="28440">
            <a:solidFill>
              <a:srgbClr val="005ce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Straight Connector 394"/>
          <p:cNvSpPr/>
          <p:nvPr/>
        </p:nvSpPr>
        <p:spPr>
          <a:xfrm flipH="1">
            <a:off x="6014880" y="3440160"/>
            <a:ext cx="346320" cy="376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Freeform 369"/>
          <p:cNvSpPr/>
          <p:nvPr/>
        </p:nvSpPr>
        <p:spPr>
          <a:xfrm>
            <a:off x="5843520" y="2030400"/>
            <a:ext cx="303120" cy="193680"/>
          </a:xfrm>
          <a:custGeom>
            <a:avLst/>
            <a:gdLst>
              <a:gd name="textAreaLeft" fmla="*/ 0 w 303120"/>
              <a:gd name="textAreaRight" fmla="*/ 303120 w 30312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86393" h="278739">
                <a:moveTo>
                  <a:pt x="57221" y="278739"/>
                </a:moveTo>
                <a:cubicBezTo>
                  <a:pt x="33992" y="242480"/>
                  <a:pt x="10764" y="206222"/>
                  <a:pt x="6232" y="169963"/>
                </a:cubicBezTo>
                <a:cubicBezTo>
                  <a:pt x="1700" y="133704"/>
                  <a:pt x="0" y="89514"/>
                  <a:pt x="30027" y="61187"/>
                </a:cubicBezTo>
                <a:cubicBezTo>
                  <a:pt x="60054" y="32860"/>
                  <a:pt x="123223" y="16430"/>
                  <a:pt x="186393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Freeform 377"/>
          <p:cNvSpPr/>
          <p:nvPr/>
        </p:nvSpPr>
        <p:spPr>
          <a:xfrm>
            <a:off x="3195720" y="1955880"/>
            <a:ext cx="345960" cy="69840"/>
          </a:xfrm>
          <a:custGeom>
            <a:avLst/>
            <a:gdLst>
              <a:gd name="textAreaLeft" fmla="*/ 0 w 345960"/>
              <a:gd name="textAreaRight" fmla="*/ 346320 w 34596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275906" h="254944">
                <a:moveTo>
                  <a:pt x="0" y="0"/>
                </a:moveTo>
                <a:cubicBezTo>
                  <a:pt x="66285" y="11614"/>
                  <a:pt x="132571" y="23228"/>
                  <a:pt x="176761" y="44190"/>
                </a:cubicBezTo>
                <a:cubicBezTo>
                  <a:pt x="220951" y="65152"/>
                  <a:pt x="254378" y="90646"/>
                  <a:pt x="265142" y="125772"/>
                </a:cubicBezTo>
                <a:cubicBezTo>
                  <a:pt x="275906" y="160898"/>
                  <a:pt x="258626" y="207921"/>
                  <a:pt x="241347" y="254944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83" name="Group 414"/>
          <p:cNvGrpSpPr/>
          <p:nvPr/>
        </p:nvGrpSpPr>
        <p:grpSpPr>
          <a:xfrm>
            <a:off x="5611680" y="4352760"/>
            <a:ext cx="3261960" cy="1015920"/>
            <a:chOff x="5611680" y="4352760"/>
            <a:chExt cx="3261960" cy="1015920"/>
          </a:xfrm>
        </p:grpSpPr>
        <p:sp>
          <p:nvSpPr>
            <p:cNvPr id="684" name="Rounded Rectangle 411"/>
            <p:cNvSpPr/>
            <p:nvPr/>
          </p:nvSpPr>
          <p:spPr>
            <a:xfrm>
              <a:off x="5611680" y="4352760"/>
              <a:ext cx="1824480" cy="620640"/>
            </a:xfrm>
            <a:prstGeom prst="roundRect">
              <a:avLst>
                <a:gd name="adj" fmla="val 16667"/>
              </a:avLst>
            </a:prstGeom>
            <a:solidFill>
              <a:srgbClr val="5aaa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5" name="Rounded Rectangle 412"/>
            <p:cNvSpPr/>
            <p:nvPr/>
          </p:nvSpPr>
          <p:spPr>
            <a:xfrm>
              <a:off x="6847560" y="4352760"/>
              <a:ext cx="2026080" cy="1015920"/>
            </a:xfrm>
            <a:prstGeom prst="roundRect">
              <a:avLst>
                <a:gd name="adj" fmla="val 16667"/>
              </a:avLst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NS5B инхибитори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полимеразе Нуклеозиди/нуклеотиди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Не-нуклеозиди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86" name="Rounded Rectangle 412"/>
          <p:cNvSpPr/>
          <p:nvPr/>
        </p:nvSpPr>
        <p:spPr>
          <a:xfrm>
            <a:off x="2109960" y="5495760"/>
            <a:ext cx="4767120" cy="42552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NS5A* инхибитор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Rounded Rectangle 405"/>
          <p:cNvSpPr/>
          <p:nvPr/>
        </p:nvSpPr>
        <p:spPr>
          <a:xfrm>
            <a:off x="1214280" y="4084560"/>
            <a:ext cx="2576520" cy="960480"/>
          </a:xfrm>
          <a:prstGeom prst="roundRect">
            <a:avLst>
              <a:gd name="adj" fmla="val 16667"/>
            </a:avLst>
          </a:prstGeom>
          <a:solidFill>
            <a:srgbClr val="f6a108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Rounded Rectangle 367"/>
          <p:cNvSpPr/>
          <p:nvPr/>
        </p:nvSpPr>
        <p:spPr>
          <a:xfrm>
            <a:off x="393840" y="4079880"/>
            <a:ext cx="1530360" cy="960480"/>
          </a:xfrm>
          <a:prstGeom prst="roundRect">
            <a:avLst>
              <a:gd name="adj" fmla="val 16667"/>
            </a:avLst>
          </a:prstGeom>
          <a:solidFill>
            <a:srgbClr val="aaa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  <a:ea typeface="MS PGothic"/>
              </a:rPr>
              <a:t>NS3/4 </a:t>
            </a:r>
            <a:r>
              <a:rPr b="0" lang="sr-RS" sz="1400" spc="-1" strike="noStrike">
                <a:solidFill>
                  <a:srgbClr val="0000ff"/>
                </a:solidFill>
                <a:latin typeface="Arial"/>
                <a:ea typeface="MS PGothic"/>
              </a:rPr>
              <a:t>инхибитор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ff"/>
                </a:solidFill>
                <a:latin typeface="Arial"/>
                <a:ea typeface="MS PGothic"/>
              </a:rPr>
              <a:t>протеаз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474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Светска реалност (EASL 2018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250920" y="765000"/>
            <a:ext cx="8640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Генотип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ofosbuvir+Ledipasvir  (8-12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ofosbuvir+Velpatasvir (12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Grazoprevir+Pibrentasvir (8-12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Ombitasvir/Ritonavir/Paritaprevir+Dasabuvir ± Rbv (12-24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Elbasvir+Grazoprevir ± Rbv (12-16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ofosbuvir+Velpatasvir+Voxilaprevir (12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Генотип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ofosbuvir+Velpatasvir (12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Elbasvir+Grazoprevir ± Rbv (12-16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Генотип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ofosbuvir+Velpatasvir (12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Elbasvir+Grazoprevir ± Rbv (12-16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ofosbuvir+Velpatasvir+Voxilaprevir (12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Генотип 4..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Варијанте хепатитис Б вир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оком инфекциј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промене у геному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варање вирусних варијанти (мутанти)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азликују се од дивљег соја по антигеним карактеристикама и патоге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чај мутантних форм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овољно ефикасна елиминација имунским механизм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ањен ефекат антивирусне терап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ежано постављање дијагно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ањена ефикасност вакц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0:49:32Z</dcterms:created>
  <dc:creator>MF</dc:creator>
  <dc:description/>
  <dc:language>en-US</dc:language>
  <cp:lastModifiedBy>Dr med</cp:lastModifiedBy>
  <dcterms:modified xsi:type="dcterms:W3CDTF">2022-08-30T21:49:14Z</dcterms:modified>
  <cp:revision>385</cp:revision>
  <dc:subject/>
  <dc:title>Slide 1</dc:title>
</cp:coreProperties>
</file>